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17.gif" ContentType="image/gif"/>
  <Override PartName="/ppt/media/image16.png" ContentType="image/png"/>
  <Override PartName="/ppt/media/image15.jpeg" ContentType="image/jpeg"/>
  <Override PartName="/ppt/media/image14.jpeg" ContentType="image/jpeg"/>
  <Override PartName="/ppt/media/image18.gif" ContentType="image/gif"/>
  <Override PartName="/ppt/media/image13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ManciniRomeoAndJuliet.wav" ContentType="audio/x-wav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12F7-9614-4A1F-B853-344C4882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236-22BE-47A0-8EC3-1A343382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09B8-AD69-4BFB-8464-CC20272E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4FC8-DBE1-4779-BC27-D71D9128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CAD9-2BB3-4165-8952-67F7190C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9672-BD62-4B3F-8CF3-750F9642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D157-7530-4FAC-B408-158B05FE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9F9-AD59-4982-B191-56DB508D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D25-7DE6-4BCE-96A2-574F38C6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70E9-0E7D-4599-8F04-8E89EA23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AAA-8B84-4EA6-83D1-E1461E8B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58D2-FBD5-4F7A-A4C8-B87A5C4A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2F1F-AA8C-424B-B899-7A842B31B162}" type="datetime">
              <a:rPr b="0" lang="nl-BE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r>
              <a:rPr b="0" lang="nl-B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655D446-D5A1-411F-AE85-A197922D1F4D}" type="datetime10">
              <a:rPr b="0" lang="nl-BE" sz="1400" spc="-1" strike="noStrike">
                <a:solidFill>
                  <a:srgbClr val="000000"/>
                </a:solidFill>
                <a:latin typeface="Times New Roman"/>
              </a:rPr>
              <a:t>06:3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3771-0AF6-4ACB-9792-4ACDE5141873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audio" Target="../media/ManciniRomeoAndJuliet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84360" y="5006880"/>
            <a:ext cx="1047600" cy="1086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08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dddddd"/>
                </a:solidFill>
                <a:latin typeface="Verdana"/>
              </a:rPr>
              <a:t>Romeo And Julli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44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dddddd"/>
                </a:solidFill>
                <a:latin typeface="Verdana"/>
              </a:rPr>
              <a:t>Sound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79132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dddddd"/>
                </a:solidFill>
                <a:latin typeface="Verdana"/>
              </a:rPr>
              <a:t>Henry Mancini</a:t>
            </a: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981000"/>
            <a:ext cx="4176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44280">
                  <a:solidFill>
                    <a:srgbClr val="d3e9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riendschap</a:t>
            </a:r>
            <a:endParaRPr b="0" i="1" lang="en-US" sz="2400" spc="1" strike="noStrike">
              <a:ln w="44280">
                <a:solidFill>
                  <a:srgbClr val="d3e9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44280">
                  <a:solidFill>
                    <a:srgbClr val="d3e9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s zwijgen</a:t>
            </a:r>
            <a:endParaRPr b="0" i="1" lang="en-US" sz="2400" spc="1" strike="noStrike">
              <a:ln w="44280">
                <a:solidFill>
                  <a:srgbClr val="d3e9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4265640"/>
            <a:ext cx="3313440" cy="27637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woon even geniet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7B606-2837-47C8-8DE7-D3F089934624}" type="datetime8">
              <a:rPr lang="en-US"/>
              <a:t>07/30/26 06:38</a:t>
            </a:fld>
          </a:p>
        </p:txBody>
      </p:sp>
    </p:spTree>
  </p:cSld>
  <p:transition spd="slow" advTm="11000">
    <p:split dir="out" orient="horz"/>
    <p:sndAc>
      <p:stSnd>
        <p:snd r:embed="rId4" name="ManciniRomeoAndJulie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4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8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9280" y="1413000"/>
            <a:ext cx="680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e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kostbaar kleinood</a:t>
            </a:r>
            <a:r>
              <a:rPr b="1" lang="tr-T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4291920"/>
            <a:ext cx="6513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dat met je meega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tot in de dood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0"/>
            <a:ext cx="71280" cy="710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6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44600" y="187920"/>
            <a:ext cx="68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En heb je echte vriendschap gevonden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619560"/>
            <a:ext cx="66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legt ze een pleister op vele wonden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5600160"/>
            <a:ext cx="7066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Daarom is het fijn </a:t>
            </a:r>
            <a:br>
              <a:rPr sz="1600"/>
            </a:b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om goede vrienden te zijn</a:t>
            </a: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split dir="out" orient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191628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zwijgen , niets zeg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2276640"/>
            <a:ext cx="475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Maar een arm om schouders leg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661000"/>
            <a:ext cx="914400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in iemands lev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Samen vreugde en verdriet delen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476280"/>
            <a:ext cx="64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niets vragen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836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maar gewoon helpen dra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84720" y="5877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gauw even mailen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62373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om laatste nieuwtjes te delen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252360" y="260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durven tonen</a:t>
            </a:r>
            <a:r>
              <a:rPr b="0" lang="nl-BE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765000"/>
            <a:ext cx="48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welke gevoelens er in je wonen</a:t>
            </a:r>
            <a:r>
              <a:rPr b="0" lang="nl-BE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8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636280"/>
            <a:ext cx="518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de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in iemands geluk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005360"/>
            <a:ext cx="51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en d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bidden “ Ga toch nooit stuk 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0"/>
            <a:ext cx="73080" cy="70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100"/>
                            </p:stCondLst>
                            <p:childTnLst>
                              <p:par>
                                <p:cTn id="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915560"/>
            <a:ext cx="4392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z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in kleine dingen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005360"/>
            <a:ext cx="70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die je niet t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wedervriendschap dwin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0"/>
            <a:ext cx="73080" cy="710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188640"/>
            <a:ext cx="71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663300"/>
                </a:solidFill>
                <a:latin typeface="Verdana"/>
              </a:rPr>
              <a:t>Aan een goede vriendschap komt geen end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19200"/>
            <a:ext cx="611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663300"/>
                </a:solidFill>
                <a:latin typeface="Verdana"/>
              </a:rPr>
              <a:t>waar ter wereld je ook bent</a:t>
            </a:r>
            <a:r>
              <a:rPr b="0" lang="nl-BE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200"/>
                            </p:stCondLst>
                            <p:childTnLst>
                              <p:par>
                                <p:cTn id="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7T17:02:33Z</dcterms:created>
  <dc:creator>Annelies Verfaillie</dc:creator>
  <dc:description/>
  <dc:language>en-US</dc:language>
  <cp:lastModifiedBy>Smets</cp:lastModifiedBy>
  <dcterms:modified xsi:type="dcterms:W3CDTF">2011-02-07T20:12:16Z</dcterms:modified>
  <cp:revision>9</cp:revision>
  <dc:subject>vrienden</dc:subject>
  <dc:title>Dia 1</dc:title>
</cp:coreProperties>
</file>