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27%20Faixa%2027.wav" ContentType="audio/x-wav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239E-3395-4AE2-AFC3-B8852D08A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EAE8-B30A-4B31-918A-2D0D5070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E26B-3A80-450F-A07A-BC886A8F3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6D09-7FD8-4405-873D-6687EF77A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7D55-0F36-4EF3-BA8B-4DDE4F16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9D87-3D68-4DEF-A6B7-21F9FCF8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C930-B3EB-47C2-8F41-D85BEA3B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289E-247F-4887-ABEF-1A7B22A0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EF38-0AB5-4867-BFA2-72A29BBA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694E-2418-4AFD-BC95-87DF8EA6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71D7-3467-4140-A9C4-C346E88E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3ADE-763C-4957-8312-20A3375C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6DF3-9ABA-4A10-99A3-0C5C983F6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27%20Faixa%2027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84360" y="2420640"/>
            <a:ext cx="4176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Observa las cascadas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6048720" cy="4838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324000" y="0"/>
            <a:ext cx="9753840" cy="702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20720" y="2565360"/>
            <a:ext cx="5183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Arial"/>
              </a:rPr>
              <a:t>Entonces ama! Poco ou mucho, no importa.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pt-BR" sz="1600" spc="-1" strike="noStrike">
                <a:solidFill>
                  <a:srgbClr val="ffffff"/>
                </a:solidFill>
                <a:latin typeface="Arial"/>
              </a:rPr>
              <a:t>Lo importante es amar siempre.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 Sólo el amor realiza la maravillosa magia de multiplicarse cuando es divid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174240" cy="9937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-3411360"/>
            <a:ext cx="9205920" cy="138254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0" y="-157320"/>
            <a:ext cx="10333080" cy="8842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-396720" y="74520"/>
            <a:ext cx="9540720" cy="731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486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Proyecto: “Buen Día Corazón”</a:t>
            </a:r>
            <a:br>
              <a:rPr sz="1800"/>
            </a:b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Participa de ésta idea, reenvía éste mensaje. </a:t>
            </a:r>
            <a:br>
              <a:rPr sz="1800"/>
            </a:b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Nada en éste mundo tiene sentido si no tocamos </a:t>
            </a:r>
            <a:br>
              <a:rPr sz="1800"/>
            </a:b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el corazón de las personas. Seamos como el agua, podemos contornar las piedras del camino y usarlas para mantener bella la canción de nuestra vida. Podemos aprender y crecer con los duros golpes y también lo podemos hacer con los toques suaves en el al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50920" y="5516640"/>
            <a:ext cx="5145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771640" y="1052640"/>
            <a:ext cx="3386160" cy="2974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8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Arial"/>
              </a:rPr>
              <a:t>Si les retiraramos las piedras de su camino, perderían su canción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7029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468000" cy="8974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-304920" y="23760"/>
            <a:ext cx="9753840" cy="70772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03280" y="2636640"/>
            <a:ext cx="640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Arial"/>
              </a:rPr>
              <a:t>Son los obstáculos que hacen que nuestras  aguas prosigan. Ninguna roca, por más dura y resistente que sea, es capaz de detener el agua. Ésta tiene la sabiduria para contornarla y seguir adelante,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con la fuerza de la suavidad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87280" y="836640"/>
            <a:ext cx="6697800" cy="5068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-171360"/>
            <a:ext cx="9448920" cy="7200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23760"/>
            <a:ext cx="9448920" cy="681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16000" y="2707920"/>
            <a:ext cx="6840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Arial"/>
              </a:rPr>
              <a:t>Nada es más suave y al mismo tiempo tan fuerte como el agua, que fluye firme y lentamente, con la sabiduría de tener el mismo destino del hombre: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seguir adelante.</a:t>
            </a:r>
            <a:r>
              <a:rPr b="1" i="1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252360" y="-819000"/>
            <a:ext cx="10656720" cy="7681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94800" cy="9766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-568440"/>
            <a:ext cx="11017080" cy="742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2750760"/>
            <a:ext cx="63374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Arial"/>
              </a:rPr>
              <a:t>Así tambiém es nuestra vida. Los obstáculos existen para hacernos caminar cada vez más firmes, más determinados, totalmente entregados, confiantes en la existencia. </a:t>
            </a:r>
            <a:br>
              <a:rPr sz="1600"/>
            </a:b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Fe y rendi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819000"/>
            <a:ext cx="9468000" cy="7848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-5138640"/>
            <a:ext cx="9077400" cy="1209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-396720" y="-819000"/>
            <a:ext cx="11485440" cy="767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2565360"/>
            <a:ext cx="73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Arial"/>
              </a:rPr>
              <a:t>Por tanto, cuando el sufrimiento toque a tu puerta, no te lamentes ni te inquietes, sé apenas un testigo de tu dolor. Siéntete un privilegiado porque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después de las batallas, resurge el alma.</a:t>
            </a:r>
            <a:r>
              <a:rPr b="1" i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924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14400"/>
            <a:ext cx="10620360" cy="793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560" y="2966760"/>
            <a:ext cx="7417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Arial"/>
              </a:rPr>
              <a:t>Frente a cualquier problema que te parezca sin solución, asume una actitud inteligente, a tu favor:</a:t>
            </a:r>
            <a:br>
              <a:rPr sz="1600"/>
            </a:br>
            <a:r>
              <a:rPr b="1" i="1" lang="pt-BR" sz="4000" spc="-1" strike="noStrike">
                <a:solidFill>
                  <a:srgbClr val="ffffff"/>
                </a:solidFill>
                <a:latin typeface="Arial"/>
              </a:rPr>
              <a:t>Respira..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684360" y="-819000"/>
            <a:ext cx="10476000" cy="7677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-2268360" y="-819000"/>
            <a:ext cx="11880720" cy="7677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-1189080" y="-747720"/>
            <a:ext cx="11665080" cy="7777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0" y="-431640"/>
            <a:ext cx="9180360" cy="753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0560" y="2636640"/>
            <a:ext cx="4969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Arial"/>
              </a:rPr>
              <a:t>Cuanto menos una persona parezca merecer tu amor, es quizás cuando más lo necesita. Perdona, perdona cuantas veces sea necesario, libera tu corazón de resentimentos, ábrete a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nuevas emocione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12360" cy="7711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-1405080" y="-100080"/>
            <a:ext cx="11628720" cy="8137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-181080" y="-892080"/>
            <a:ext cx="10476000" cy="792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0560" y="2565360"/>
            <a:ext cx="5040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Sé flexíble como las flores, y como las mariposas cuando enfrentan el fuerte viento ... y siente todos los perfumes. Extiende tu mano, y ofrece tu comprensión, o tu amor. Vinimos a éste planeta para aprender a amar. </a:t>
            </a:r>
            <a:br>
              <a:rPr sz="2000"/>
            </a:b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Tan sólo éso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10512360" cy="7694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-243000"/>
            <a:ext cx="10044000" cy="7750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-252360" y="-171360"/>
            <a:ext cx="9682200" cy="756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8T20:17:42Z</dcterms:created>
  <dc:creator>Jane</dc:creator>
  <dc:description/>
  <dc:language>en-US</dc:language>
  <cp:lastModifiedBy>jpl3</cp:lastModifiedBy>
  <dcterms:modified xsi:type="dcterms:W3CDTF">2007-06-10T08:42:50Z</dcterms:modified>
  <cp:revision>13</cp:revision>
  <dc:subject/>
  <dc:title>Observe o riacho</dc:title>
</cp:coreProperties>
</file>