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27%20Faixa%2027.wav" ContentType="audio/x-wav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2F5-58F5-402B-939A-9C9C0676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EA2-B1C0-4927-808E-D77C213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038-57F6-4271-A3FC-F4EB701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A64-3FD7-4633-95EC-45A6695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CBA-A514-409E-B583-2F232D4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120-7476-49C3-8957-2FE28EB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48C-02E6-42A3-8221-10A3C11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3C2-7D51-4938-9AF7-2FAD211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93B-49EE-4C40-AAB2-35072372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B68-18E8-4010-8BDB-D59FCBE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8F2-5F0C-4574-83B5-831FC89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22D-6D4D-426F-A6AA-615E8AF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8A1-DC59-4EBD-8201-B0EB6509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27%20Faixa%2027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2420640"/>
            <a:ext cx="41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Observa las cascada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48720" cy="483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20720" y="2565360"/>
            <a:ext cx="518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Entonces ama! Poco ou mucho, no importa.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Lo importante es amar siempre.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Sólo el amor realiza la maravillosa magia de multiplicarse cuando es divi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74240" cy="9937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-3411360"/>
            <a:ext cx="9205920" cy="13825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-157320"/>
            <a:ext cx="10333080" cy="884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-396720" y="74520"/>
            <a:ext cx="954072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oyecto: “Buen Día Corazón”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rticipa de ésta idea, reenvía éste mensaje. 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ada en éste mundo tiene sentido si no tocamos </a:t>
            </a:r>
            <a:br>
              <a:rPr sz="1800"/>
            </a:b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 corazón de las personas. Seamos como el agua, podemos contornar las piedras del camino y usarlas para mantener bella la canción de nuestra vida. Podemos aprender y crecer con los duros golpes y también lo podemos hacer con los toques suaves en el al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920" y="5516640"/>
            <a:ext cx="5145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386160" cy="2974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Si les retiraramos las piedras de su camino, perderían su canción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02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468000" cy="897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04920" y="23760"/>
            <a:ext cx="9753840" cy="707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63664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Son los obstáculos que hacen que nuestras  aguas prosigan. Ninguna roca, por más dura y resistente que sea, es capaz de detener el agua. Ésta tiene la sabiduria para contornarla y seguir adelante,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n la fuerza de la suav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97800" cy="506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448920" cy="720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23760"/>
            <a:ext cx="9448920" cy="68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07920"/>
            <a:ext cx="68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Nada es más suave y al mismo tiempo tan fuerte como el agua, que fluye firme y lentamente, con la sabiduría de tener el mismo destino del hombr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seguir adelante.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10656720" cy="768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94800" cy="976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-568440"/>
            <a:ext cx="11017080" cy="742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75076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Así tambiém es nuestra vida. Los obstáculos existen para hacernos caminar cada vez más firmes, más determinados, totalmente entregados, confiantes en la existencia. </a:t>
            </a:r>
            <a:br>
              <a:rPr sz="1600"/>
            </a:b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Fe y ren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468000" cy="784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5138640"/>
            <a:ext cx="9077400" cy="1209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396720" y="-819000"/>
            <a:ext cx="11485440" cy="76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3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Por tanto, cuando el sufrimiento toque a tu puerta, no te lamentes ni te inquietes, sé apenas un testigo de tu dolor. Siéntete un privilegiado porqu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spués de las batallas, resurge el alma.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2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10620360" cy="793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966760"/>
            <a:ext cx="741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rente a cualquier problema que te parezca sin solución, asume una actitud inteligente, a tu favor:</a:t>
            </a:r>
            <a:br>
              <a:rPr sz="1600"/>
            </a:b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Respira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684360" y="-819000"/>
            <a:ext cx="10476000" cy="767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2268360" y="-819000"/>
            <a:ext cx="11880720" cy="767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11665080" cy="777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-431640"/>
            <a:ext cx="9180360" cy="75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36640"/>
            <a:ext cx="49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Cuanto menos una persona parezca merecer tu amor, es quizás cuando más lo necesita. Perdona, perdona cuantas veces sea necesario, libera tu corazón de resentimentos, ábrete 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uevas emocion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71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1405080" y="-100080"/>
            <a:ext cx="11628720" cy="8137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181080" y="-892080"/>
            <a:ext cx="10476000" cy="79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565360"/>
            <a:ext cx="50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é flexíble como las flores, y como las mariposas cuando enfrentan el fuerte viento ... y siente todos los perfumes. Extiende tu mano, y ofrece tu comprensión, o tu amor. Vinimos a éste planeta para aprender a amar.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an sólo éso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512360" cy="769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0044000" cy="775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-252360" y="-171360"/>
            <a:ext cx="9682200" cy="75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20:17:42Z</dcterms:created>
  <dc:creator>Jane</dc:creator>
  <dc:description/>
  <dc:language>en-US</dc:language>
  <cp:lastModifiedBy>jpl3</cp:lastModifiedBy>
  <dcterms:modified xsi:type="dcterms:W3CDTF">2007-06-10T08:42:50Z</dcterms:modified>
  <cp:revision>13</cp:revision>
  <dc:subject/>
  <dc:title>Observe o riacho</dc:title>
</cp:coreProperties>
</file>