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.gif" ContentType="image/gif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7.jpeg" ContentType="image/jpeg"/>
  <Override PartName="/ppt/media/image12.jpeg" ContentType="image/jpeg"/>
  <Override PartName="/ppt/media/image50.gif" ContentType="image/gif"/>
  <Override PartName="/ppt/media/image30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sound001.wav" ContentType="audio/x-wav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C22B-8960-41A4-855C-03BA5829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3C1-76E5-4A99-83FD-8222BE67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6A5E-9294-49C5-9A05-AFD67252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68D-2F5F-4913-AA17-5A8C060F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94-0152-469B-9E78-B2EE719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B66-77E9-49D8-B4CD-B27255A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38D-095F-4BC8-B338-20488657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6F6-3655-4B35-931B-232EE63A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0B6-B227-48AB-84BC-952639D2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76B-34F0-4307-A47B-96C6DE91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815-74D5-4DD2-8ACC-B4585D64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7D5-5855-42E1-9F4A-C8CE454D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6373-ED3A-4F81-8EB1-915352145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ound00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image" Target="../media/image5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1280" y="457200"/>
            <a:ext cx="589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A VOYAGE TO CH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191120" y="61722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429000" y="4788000"/>
            <a:ext cx="1676520" cy="704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152880" y="5067360"/>
            <a:ext cx="281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Use                      or space bar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to advance slides…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471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40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469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94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6609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1905120" y="6172200"/>
            <a:ext cx="538776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9:20:36Z</dcterms:created>
  <dc:creator>Hamid R. Mazdeh</dc:creator>
  <dc:description/>
  <dc:language>en-US</dc:language>
  <cp:lastModifiedBy>Smets</cp:lastModifiedBy>
  <dcterms:modified xsi:type="dcterms:W3CDTF">2008-08-25T19:45:51Z</dcterms:modified>
  <cp:revision>2</cp:revision>
  <dc:subject/>
  <dc:title>Slide 1</dc:title>
</cp:coreProperties>
</file>