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30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sound001.wav" ContentType="audio/x-wav"/>
  <Override PartName="/ppt/media/image4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31D-ECAB-489C-8836-940F78C4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9C9-B847-41AA-862C-8B26B59F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DE0-085D-4D41-8E66-FF015E30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7A1-0128-45AF-9034-CBE13109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B2A-B9B2-421F-B6FC-7CE7575F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7B4-E2DF-4004-81D1-8E11FD2B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DDF-BBDC-4247-A1A1-929A42A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BC6-5095-4973-8DD4-2B3CB7A5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130-3DE7-4359-8404-212DDC56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76E-4FCC-45C1-8A17-D57F6D6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127-E52B-47D2-9083-F64EE4C5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18E-F054-47A2-A9A1-E776974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2FED-9788-42CE-B9EA-3693AF09B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ound001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1280" y="4572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VOYAGE TO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61722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4788000"/>
            <a:ext cx="1676520" cy="704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152880" y="5067360"/>
            <a:ext cx="281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Use                      or space bar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to advance slides…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6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4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660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9:20:36Z</dcterms:created>
  <dc:creator>Hamid R. Mazdeh</dc:creator>
  <dc:description/>
  <dc:language>en-US</dc:language>
  <cp:lastModifiedBy>Smets</cp:lastModifiedBy>
  <dcterms:modified xsi:type="dcterms:W3CDTF">2008-08-25T19:45:51Z</dcterms:modified>
  <cp:revision>2</cp:revision>
  <dc:subject/>
  <dc:title>Slide 1</dc:title>
</cp:coreProperties>
</file>