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AA0-BD61-4A38-AFE9-F83F26EB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220-2FF9-441C-B93B-6ED767F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7A4-9D57-4DC2-935E-E40F3644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B4-4EE2-4C66-9E5D-8AB4278E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BD0-D04E-4BB8-A0AB-D9180C42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6BD-D5CA-4765-BE88-D303C84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5E1-A285-461C-BD04-598936B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1C1-757A-453C-90E6-D2D87337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EEA-4BD8-4460-89C8-54C46E0B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6D7-B14F-44F8-BD84-4F351D3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76F-7993-473B-A035-6AF0754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8BC-D2C0-4568-8DC9-C91720F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DB4E6-4FEC-412F-AD32-F6F311486E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2E2F7-DAB3-4EF3-82A0-268121F6C47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4:36:11Z</dcterms:created>
  <dc:creator>최봉수</dc:creator>
  <dc:description/>
  <dc:language>en-US</dc:language>
  <cp:lastModifiedBy>맛있다 군만두</cp:lastModifiedBy>
  <dcterms:modified xsi:type="dcterms:W3CDTF">2024-10-01T02:57:20Z</dcterms:modified>
  <cp:revision>3</cp:revision>
  <dc:subject/>
  <dc:title>슬라이드 1</dc:title>
</cp:coreProperties>
</file>