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3C51-1E1F-49CD-9D2A-8FF4E4D60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71CA-79FC-4BF4-8FA4-81EFF707D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349A-F3B3-4CD9-9A19-7AFFEC242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1DA3-5E38-450A-9A53-15EB67141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8445-9AB4-49F7-894B-05402FE71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29B9-60F9-4F03-A399-E5F49B95C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1EF3-1335-49CF-8F39-592D4ED6B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0D39-E8F1-4FED-A4F2-6DAABA9F1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677C-F257-4A59-8448-B06B32692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3625-DB22-4AD8-9085-0D7E0A181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AEA3-BC28-499E-A2E9-234DA39EB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9429-2074-40C2-BA85-82AC53EDA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3DC7CD-73C3-4F18-928F-A3663E2058EA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C93B83-C27D-4DE5-B97E-11B10BF563F0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3.png"/><Relationship Id="rId4" Type="http://schemas.openxmlformats.org/officeDocument/2006/relationships/slide" Target="slide5.xml"/><Relationship Id="rId5" Type="http://schemas.openxmlformats.org/officeDocument/2006/relationships/image" Target="../media/image3.png"/><Relationship Id="rId6" Type="http://schemas.openxmlformats.org/officeDocument/2006/relationships/slide" Target="slide5.xml"/><Relationship Id="rId7" Type="http://schemas.openxmlformats.org/officeDocument/2006/relationships/slide" Target="slide3.xml"/><Relationship Id="rId8" Type="http://schemas.openxmlformats.org/officeDocument/2006/relationships/image" Target="../media/image3.png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1.xml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50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53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7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0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63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66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9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0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3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76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79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3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6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89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92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5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6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9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1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02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4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05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8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09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12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4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15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7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18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1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22" name="Picture 6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4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25" name="Picture 9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Text Box 10">
              <a:hlinkClick r:id="rId6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7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28" name="Picture 12" descr="">
              <a:hlinkClick r:id="rId7" action="ppaction://hlinksldjump"/>
            </p:cNvPr>
            <p:cNvPicPr/>
            <p:nvPr/>
          </p:nvPicPr>
          <p:blipFill>
            <a:blip r:embed="rId8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Text Box 13">
              <a:hlinkClick r:id="rId9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31" name="Picture 15" descr=""/>
            <p:cNvPicPr/>
            <p:nvPr/>
          </p:nvPicPr>
          <p:blipFill>
            <a:blip r:embed="rId10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 Box 16">
              <a:hlinkClick r:id="rId11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4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35" name="Picture 6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7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38" name="Picture 9" descr=""/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0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41" name="Picture 12" descr=""/>
            <p:cNvPicPr/>
            <p:nvPr/>
          </p:nvPicPr>
          <p:blipFill>
            <a:blip r:embed="rId5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13"/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3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44" name="Picture 15" descr=""/>
            <p:cNvPicPr/>
            <p:nvPr/>
          </p:nvPicPr>
          <p:blipFill>
            <a:blip r:embed="rId6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Text Box 16"/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3T14:36:11Z</dcterms:created>
  <dc:creator>최봉수</dc:creator>
  <dc:description/>
  <dc:language>en-US</dc:language>
  <cp:lastModifiedBy>맛있다 군만두</cp:lastModifiedBy>
  <dcterms:modified xsi:type="dcterms:W3CDTF">2024-10-01T02:57:20Z</dcterms:modified>
  <cp:revision>3</cp:revision>
  <dc:subject/>
  <dc:title>슬라이드 1</dc:title>
</cp:coreProperties>
</file>