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Abel_Je%20pense%20%C3%A0%20toi.wav" ContentType="audio/x-wav"/>
  <Override PartName="/ppt/media/image12.jpeg" ContentType="image/jpeg"/>
  <Override PartName="/ppt/media/image16.gif" ContentType="image/gif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E6B3-152D-4C9D-8E11-5C74312C4A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6E3A-7551-4F15-A79F-ECCE48D88B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562-9432-4B6B-8A05-59687A8E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39F-D8C5-4FD1-90DB-7C80F739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CB8A5-FD2F-4368-BFAC-637EC541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DB9C6-59B0-4E5D-8A55-930346DF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C3C4A-1341-45AF-901B-35C0D2B0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462A1-EC25-4EE6-A73E-8E8C3177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D4AD9-C6EB-4912-812E-959C4D70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8946D-C2A4-4BD5-A9EF-B7B0A11C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6366A-7108-4BC5-BF37-F3927302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A0826-5EDE-4D78-A5CC-36317ED6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7B236-55F9-49BF-B292-0F4051BF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1577B-2023-4AB9-9538-34AB3CEC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648-B8DE-46FE-8188-0228CB7F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883E1-8DEB-4971-8097-F0BD8C62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6A654-800E-47EB-94D7-171C68DE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29EBF-5849-455A-8DFE-3BB68DB9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FC119-74BB-42DB-A46C-953A204E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DA2B7-D856-4D3D-96E8-59F4009F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6F920-5752-44E2-8A98-8C5D5F8A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47D9E-56A3-4AF5-BDDE-618676F2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B02D0-92D6-4C53-8A71-C8E9B2D8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5CC66-923D-4344-9601-C1FAEA77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21762-C42E-4435-AEC1-CCE01714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98F-F61E-456D-A0AA-9149F106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B21F3-F11E-4C13-B0E0-988457DB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6D0D0-992C-4EEA-B5A7-29B238F4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26198-49B9-4DD3-8065-9569813C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3011B-6717-4698-B267-D62757FE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867E8-F17E-4EC2-AA9F-FF306032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B4A72-319C-4AEF-9A12-4748E688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837E4-EFDD-4CC0-B037-84FBC227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60513-E0A5-457F-9A84-26A956DF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03B30-C479-4532-8FE4-61A00041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0BCEE-0040-405A-B9FF-FCB94389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7E4A-A0C3-4BCC-88DC-0BD9A4B2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01BB2-9F46-4DA7-ACFC-BBC98797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56417-C80F-4E6B-AF2D-CEBA6D37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69C62-0F20-4124-B089-D85FAFA2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67AC0-600D-4FD5-A200-507BCB24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07922-7416-4EEE-B786-A60C824C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2D035-BD69-4AB7-AD7E-ED31186F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1F3E5-B38E-4325-A03D-0295A70B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10367-0552-4D34-AFDC-E06FC789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E1F5E-F89D-4FD4-8C0B-538EFBEB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C0B2C-2B03-4A74-8623-5EF5B9FF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EFD1-E09E-4E9E-BF80-EFB0EE4D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E7E14-3532-4399-99BB-8FC4A0CE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38581-8B75-4412-A0F6-9E5DDC98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C7C1D-99DA-49E0-87E0-EC9B839E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9E174-0F7C-4E29-8212-8A0ECDEF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D64AB-FB59-4A71-946E-198A72BD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A34F-3E6D-4D90-A524-8E8B2E69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0F70-5EE5-447F-9AA6-508A28FF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51DC-3DFC-48CC-A1AC-E4A84095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9447-518D-486E-BF21-8B0C96F0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5217-3199-4C66-B6B5-492EBA15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D4C-CB8C-4E0D-92A8-B93F35AF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CE78-041E-40D6-BF01-EB3D9960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7C6D-8F32-460A-BCC4-070798A5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E9B0-C46F-4CCC-81E0-50B6AC0B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2CCB-EFE3-4FF5-8BCC-3B85A368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11F4-CD08-4DB5-9AD1-B658D64D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32560-76D5-462A-A7CD-6AFE0358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861D2-7AC9-452C-8DEF-0E80BD7D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194A2-A21B-4036-9F0B-FEA1213B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D6035-8160-4338-9E9C-5EACE594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2DF5-171B-4018-B487-2A8AC25F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616-E4F6-4FAF-BAD5-6A4E1764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8E7A1-9AB8-432B-91FF-2BF40BC5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94E7-B847-4B98-8D5B-7766EFF6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23C2C-D100-4267-A57A-42C45C76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075A2-AE78-4DAE-8EE3-14403CBA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4CEB4-AE18-4D22-897F-EA1BAC7F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135F7-E16F-41E3-BEBC-BAAC7992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917BF-51F7-433F-8916-4B55FD69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B1688-6EE5-4A87-9299-9FA81B9B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1C728-DC0B-41F1-8898-6DD2BBFB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712BE-E0FD-4870-B8B1-B1A72A8D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3C8-CD3A-48D3-96D4-1C4908A9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A28FD-3541-40CD-BAF3-5D883B43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95967-4C55-48F6-9F80-025B9B2F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C0A28-DFEB-43C5-B547-A2E31C6E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5D30-FDC3-49DB-8CCA-362E58E9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64937-302C-4CC9-8B7C-6DE4B4B5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E7BF4-0FA9-45EC-8925-76654078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7A20A-17FE-4B5B-BE41-F75DCDB0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34CA3-4EEA-4DCF-AB9E-AE21DAC4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047B8-B521-4482-9592-479D668D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BC475-4E47-446D-99D2-11940526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E7D-C8C1-4CA7-929A-9AE6F556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D07C7-B359-4A39-8D16-E41C207D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E12AD-D5FD-4EB4-BE8A-8E3487E8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8D599-EC57-40D8-88B6-CBD8AF7B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12699-8788-485D-8578-EDA7F0F5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45FBA-0BC0-4B01-A161-D5D6A92F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26B8A-E07B-4947-B837-C25A00C6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CAC4F-9021-48FD-B30F-9B891D5F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6430F-1F62-4BAF-9753-93A2480F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2019A-838C-4488-A687-34619CFF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C5523-617A-4629-BF33-8B8071BC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2B8-13CC-4F5D-A1EA-291DE0FA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97A29-9723-4BD6-A4A4-28A2ADDE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3FF92-BB3E-420A-B058-CCB4FEDF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BAD27-BC0C-41A4-A87E-B54EE53A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6336B-CFD3-4153-AAAD-7294AEF4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244A2-82A5-4203-AA46-5C43A6E1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6EA41-0F39-4D23-8020-EDAF1833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D2738-F349-4E0E-9AA7-9076FD7F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C74FC-1D7B-4B2E-B56D-4E17E324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EE9A1-62B3-4AFC-A505-0787316A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1424B-04BD-4C65-BD5E-84FF9427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974-1CE5-491E-88AB-39CE54A9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6AAFF-7939-4775-964D-C0EE9A6F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759FB-F3AE-4880-9409-0E5A10DB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12EF0-AF01-4B43-B711-B778F402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79B2C-7050-465A-B315-9EF08B41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59300-CF85-4536-95CC-C005C8FF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7A9CC-9E83-4145-BBFD-DCC10E33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9B539-4110-4256-A516-CAF30E84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D0D4F-B8F9-489F-A75E-2E9A2A2C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39520-AD33-4BB3-8C27-2855D690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FF5B7-2EDF-464E-9784-67E697BA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6AE-E9B8-4A67-B65C-7F9D7E9F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18AC8-6586-4192-9153-0CB3C381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96259-3024-497C-8262-3C880850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B7DE0-2380-4389-A4B2-4329E077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1814F-C04D-4484-9650-CA954CB1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10AE5-5FB8-469C-A1AE-73B8DB2A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76285-B718-4B25-8AFA-5780F03F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BE75A-C672-416D-B6F1-927F687E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8605B-1006-437F-B9CE-9F131BB9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A0F4E-14C4-4E80-AF5F-80D2BDA2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E4EC0-9165-483A-A322-E2691FD8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2E9-192C-4624-AD5C-FC2145AD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40829-CD22-44D3-8223-E2E57921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AD3D4-777B-4CF8-AB1C-5D2EAAC1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F935A-726C-4FCF-B56F-16580CBE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09BB3-1334-468E-956C-78A3D87D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F74A5-3B17-48E4-BCF1-570FC31D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9387A-D83C-4A11-853D-9EB8E233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34D61-3BD8-4B7E-829B-05D0E0C3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5045C-6895-4898-9335-B1E01F1E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A625F-8003-4B79-9D7C-A62A59CA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9B4F9-58BE-4CC3-BA37-0C97A446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E48F-CA2F-4E21-A3BF-0A10D7AFE4AF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C9B8-FD7F-4BC5-B3C5-36FADE4F0EC7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502F-B226-4257-8DF0-1F1B7BE03D77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3D5D-3150-464B-9C44-7A0829444DF8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8D89-D906-4E7B-ABC1-E96BD62304FC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52FF-19F1-4466-9F3D-96597C849FB6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22D3-0598-4D00-AB3F-7DCEB7DC927A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45E9-040C-4261-B521-C1EAAEB6CE01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EF1E-B26C-4686-89C3-1ECD2744EDA5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5C24-246E-48B3-9DE5-DE0505C51331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4785-DB6D-42D7-AB3C-515A86ED1BAF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4B5A-ECAD-4A81-8448-CE22BB30D7DC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bel_Je%20pense%20&#224;%20toi.wav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peque-semillitas.blogspot.com/" TargetMode="External"/><Relationship Id="rId3" Type="http://schemas.openxmlformats.org/officeDocument/2006/relationships/hyperlink" Target="http://juanpabloinolvidable.blogspot.com/" TargetMode="External"/><Relationship Id="rId4" Type="http://schemas.openxmlformats.org/officeDocument/2006/relationships/hyperlink" Target="mailto:feluzul@gmail.com" TargetMode="External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C:\Documents and Settings\Lise\My Documents\My Pictures\Fond début ou fin\fond caresse de la vi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6"/>
          <p:cNvSpPr/>
          <p:nvPr/>
        </p:nvSpPr>
        <p:spPr>
          <a:xfrm>
            <a:off x="4500720" y="285840"/>
            <a:ext cx="4214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cc"/>
                </a:solidFill>
                <a:latin typeface="Times New Roman"/>
              </a:rPr>
              <a:t>Música: « Pienso en ti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cc"/>
                </a:solidFill>
                <a:latin typeface="Times New Roman"/>
              </a:rPr>
              <a:t>Interpretada por Richard 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ZoneTexte 3"/>
          <p:cNvSpPr/>
          <p:nvPr/>
        </p:nvSpPr>
        <p:spPr>
          <a:xfrm flipV="1" rot="10800000">
            <a:off x="6215040" y="6071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Clic para avan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5 Pergamino vertical"/>
          <p:cNvSpPr/>
          <p:nvPr/>
        </p:nvSpPr>
        <p:spPr>
          <a:xfrm>
            <a:off x="4071960" y="1571760"/>
            <a:ext cx="5072040" cy="42145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6 Rectángulo" descr=""/>
          <p:cNvPicPr/>
          <p:nvPr/>
        </p:nvPicPr>
        <p:blipFill>
          <a:blip r:embed="rId2"/>
          <a:stretch/>
        </p:blipFill>
        <p:spPr>
          <a:xfrm>
            <a:off x="4383000" y="2011320"/>
            <a:ext cx="4443480" cy="3694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Abel_Je%20pense%20%C3%A0%20to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C:\Documents and Settings\Lise\My Documents\My Pictures\Photos\Fleurs\Roses\rose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1026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4000680" y="928800"/>
            <a:ext cx="481932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mirar al otro con los ojos del corazó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con los ojos del al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La palabra puede engañar, pero la mirada nunca miente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3" descr="C:\Documents and Settings\Lise\My Documents\My Pictures\Photos\Fleurs\Roses\rose oran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5"/>
          <p:cNvSpPr/>
          <p:nvPr/>
        </p:nvSpPr>
        <p:spPr>
          <a:xfrm>
            <a:off x="4429080" y="304920"/>
            <a:ext cx="4535640" cy="56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, simplemente, estar ahí, no solo con el cuerpo, sino con el alm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decir: « Te quiero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¿Por qué esperar a que una persona mu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para decir que se la querí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" descr="C:\Documents and Settings\Lise\My Documents\My Pictures\Photos\Fleurs\Roses\rosegouttelett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5"/>
          <p:cNvSpPr/>
          <p:nvPr/>
        </p:nvSpPr>
        <p:spPr>
          <a:xfrm>
            <a:off x="4000680" y="428760"/>
            <a:ext cx="503532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no juzgar, no critica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no conden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ser capaz de dec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«Si hubiese estado en tu lugar, no lo habría hecho mejor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poder decir sin envid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«Es estupendo lo que has hecho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charles_austin-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5"/>
          <p:cNvSpPr/>
          <p:nvPr/>
        </p:nvSpPr>
        <p:spPr>
          <a:xfrm>
            <a:off x="3929040" y="1071720"/>
            <a:ext cx="5106960" cy="442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tan sencill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como eso; no es  nada complicad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Pero si no sentimos amor, nos falta to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n la vi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4" descr="MAHARISHI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6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5"/>
          <p:cNvSpPr/>
          <p:nvPr/>
        </p:nvSpPr>
        <p:spPr>
          <a:xfrm>
            <a:off x="3571920" y="1143000"/>
            <a:ext cx="5356080" cy="521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Cuando uno tiene el privilegio de querer y de ser querid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la vida es extraordi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l calor que irrad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la luz que invade el alma y hace brillar los oj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027" descr="C:\Documents and Settings\Lise\My Documents\My Pictures\Photos\Fleurs\Roses\belle ros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ROMANTIC DREAMS (PPAF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4357800" y="1000080"/>
            <a:ext cx="4429080" cy="497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nvía este mensaje a las personas a las que quie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 las que de una forma u otra han dado felicidad a tu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 las que te hacen sonreir cuando lo necesitas de 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 las que te hacen ver el lado bello de las cosas cuando estás en tus horas más baj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 las que quisieras decirles cuánto aprecias su afecto y su amis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4" descr="ellen-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15"/>
          <p:cNvSpPr/>
          <p:nvPr/>
        </p:nvSpPr>
        <p:spPr>
          <a:xfrm>
            <a:off x="4071960" y="0"/>
            <a:ext cx="47149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Pero si no haces nad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no te inquie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nada malo te sucederá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solo perderás una oport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de iluminar el día a algui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con un mesaje de cari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4788720" y="3185280"/>
            <a:ext cx="372240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b3b3b3"/>
                </a:solidFill>
                <a:latin typeface="Comic Sans MS"/>
              </a:rPr>
              <a:t>Te invito a conocer mis dos blog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b3b3b3"/>
                </a:solidFill>
                <a:latin typeface="Comic Sans MS"/>
              </a:rPr>
              <a:t>"Pequeñas Semillitas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b3b3b3"/>
                </a:solidFill>
                <a:latin typeface="Comic Sans MS"/>
              </a:rPr>
              <a:t> </a:t>
            </a:r>
            <a:r>
              <a:rPr b="0" lang="es-ES" sz="1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peque-semillitas.blogspot.co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3b3b3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3b3b3"/>
                </a:solidFill>
                <a:latin typeface="Comic Sans MS"/>
              </a:rPr>
              <a:t>"Juan Pablo II inolvid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ttp://juanpabloinolvidable.blogspot.co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3b3b3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3b3b3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Felipe de U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37" descr="Dove"/>
          <p:cNvPicPr/>
          <p:nvPr/>
        </p:nvPicPr>
        <p:blipFill>
          <a:blip r:embed="rId5"/>
          <a:stretch/>
        </p:blipFill>
        <p:spPr>
          <a:xfrm>
            <a:off x="6357960" y="5429160"/>
            <a:ext cx="576360" cy="5223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9"/>
          <p:cNvSpPr/>
          <p:nvPr/>
        </p:nvSpPr>
        <p:spPr>
          <a:xfrm>
            <a:off x="-428760" y="6211800"/>
            <a:ext cx="5715000" cy="59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100" spc="-1" strike="noStrike">
                <a:solidFill>
                  <a:srgbClr val="ffffff"/>
                </a:solidFill>
                <a:latin typeface="Arial"/>
              </a:rPr>
              <a:t>No sé quién realizó este  PowerPoint (pps)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ff"/>
                </a:solidFill>
                <a:latin typeface="Arial"/>
              </a:rPr>
              <a:t>que estoy reenviando con gratitud a su “autor desconocido”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17" descr="ESTRELLA8"/>
          <p:cNvPicPr/>
          <p:nvPr/>
        </p:nvPicPr>
        <p:blipFill>
          <a:blip r:embed="rId6"/>
          <a:stretch/>
        </p:blipFill>
        <p:spPr>
          <a:xfrm>
            <a:off x="6072120" y="2714760"/>
            <a:ext cx="1008000" cy="974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17"/>
          <p:cNvSpPr/>
          <p:nvPr/>
        </p:nvSpPr>
        <p:spPr>
          <a:xfrm>
            <a:off x="4500720" y="78588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QUER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4214880" y="2000160"/>
            <a:ext cx="45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no es hacer grandes declaraciones; es decir o hacer cosas sencillas y sin especial motiv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C:\Documents and Settings\Lise\My Documents\My Pictures\Photos\Fleurs\Roses\Copie_de_rose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9"/>
          <p:cNvSpPr/>
          <p:nvPr/>
        </p:nvSpPr>
        <p:spPr>
          <a:xfrm>
            <a:off x="4500720" y="1000080"/>
            <a:ext cx="421452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Por ejempl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¿Quieres un café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¿Estás cansado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¿Puedo hacer algo por ti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028" descr="C:\Documents and Settings\Lise\My Documents\My Pictures\Photos\Fleurs\Roses\rose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3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11"/>
          <p:cNvSpPr/>
          <p:nvPr/>
        </p:nvSpPr>
        <p:spPr>
          <a:xfrm>
            <a:off x="4143240" y="1571760"/>
            <a:ext cx="45720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Una llamada telefónic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una carta, una pequeña sorpres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una cariñosa invitación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un paseo junto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C:\Documents and Settings\Lise\My Documents\My Pictures\Photos\Fleurs\Roses\Metairiebook09.jpg"/>
          <p:cNvPicPr/>
          <p:nvPr/>
        </p:nvPicPr>
        <p:blipFill>
          <a:blip r:embed="rId1"/>
          <a:stretch/>
        </p:blipFill>
        <p:spPr>
          <a:xfrm>
            <a:off x="-152280" y="-228600"/>
            <a:ext cx="9524880" cy="7238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14"/>
          <p:cNvSpPr/>
          <p:nvPr/>
        </p:nvSpPr>
        <p:spPr>
          <a:xfrm>
            <a:off x="4429080" y="714240"/>
            <a:ext cx="43578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hacer cosas por el otr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sin razón, sin cálcul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aceptar al otro como e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escucharlo con afec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no presionarl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13:56:08Z</dcterms:created>
  <dc:creator>Tardif</dc:creator>
  <dc:description/>
  <dc:language>en-US</dc:language>
  <cp:lastModifiedBy>felipe</cp:lastModifiedBy>
  <dcterms:modified xsi:type="dcterms:W3CDTF">2011-02-23T18:14:12Z</dcterms:modified>
  <cp:revision>46</cp:revision>
  <dc:subject/>
  <dc:title>Présentation PowerPoint</dc:title>
</cp:coreProperties>
</file>