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Abel_Je%20pense%20%C3%A0%20toi.wav" ContentType="audio/x-wav"/>
  <Override PartName="/ppt/media/image12.jpeg" ContentType="image/jpeg"/>
  <Override PartName="/ppt/media/image16.gif" ContentType="image/gif"/>
  <Override PartName="/ppt/media/image14.jpeg" ContentType="image/jpeg"/>
  <Override PartName="/ppt/media/image13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A3C0-0F62-4D08-A95E-5312CC39D3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B3F5-8869-457F-95CA-DACDD48EA9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99CE-7949-4FCC-AD9C-0C825AFD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92F-43B0-4CF4-BE53-5773A325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C057D-E63B-4D2F-9333-8005149A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3249A-C5D0-4D5A-9E79-4123A55A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C95E4-2763-4DF7-9FCB-F6F46258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7E0D0-3542-4265-ADDC-B3A275D6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A1FB1-6E2B-45E0-BA1D-6EC85A41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8B0E0-355E-4E6E-86B4-EC921306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BF3B3-9856-497A-9C41-27D5FF7F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D0F5A-E417-4BD5-A36B-820CB3B0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B4239-79B6-4C79-8862-5B20B817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E97FA-0C7F-4E84-8509-048D7797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820F-19BA-432A-9D57-F09F8101C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A7F02-5BED-43C5-9294-694BA4A4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32660-D222-49E4-9F78-BD85D408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C552D-ACE7-4105-A6D7-3DD57AD6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EA0ED-844F-40EF-A40A-489AE96B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84D0E-5B32-4E52-AA1A-72F03A50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40004-F97D-49A3-A5E6-1CD6CB52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873ED-3CDF-4647-9A10-4924625B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C4025-1FE8-4995-BE18-49DBD44C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03AA3-6771-42CA-BB45-CA3D344E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702F8-3A2B-4FE1-A089-49DE1AFD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F3C-287E-499C-B97D-A100E36B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61A01-A907-4105-BC73-476268E6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60F36-30CD-4037-A53F-C406396D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3F23E-A7D4-4C45-8A6A-0A46F049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44485-D243-4721-8EEA-B0105072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74073-AFFA-47FE-B90B-2C69AC6E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59442-E8B5-485F-A621-315B2F64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DDD8D-D071-447B-AF09-77444083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2C3FA-ABA4-4719-9720-1C2415A5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83D6F-3011-4CD7-9A7C-691D4C2A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70872-755B-44F6-AAE6-5D118F11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3B86-18CE-4955-AD3A-42111801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EF655-2EB2-4C40-BAC8-7737602E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865E4-5C0F-4615-A012-D08B2D56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538C8-CEE5-447A-BDF7-6432F323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65B29-0500-4332-AFE1-0ABF774C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ABDB1-34FD-4611-834A-20E9F75E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FA786-B41A-4F8B-904E-8BF20AFC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26BF3-233F-47DE-A6AF-6F370161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4D6F2-CC4A-4381-822B-B01DE007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0D313-F540-45D5-BC4E-EE726433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BC85D-2CDD-4EE6-AA01-F5527499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7D44-79AE-42E5-8188-5DD49305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4EF62-D828-48A6-94E4-F00B2F86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3B493-28F0-44C9-853B-676D938A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AA6B4E-DB59-426B-AA97-4FCE3961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E5BBF-5FD8-4B5B-9DB4-CB065BC7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192F2-3D3F-4F3A-8004-57709969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37B5-8183-442D-8B32-85C29E85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549A-3AC6-4717-9A27-4DDCCAAC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D5BC-F13A-4398-8141-F832E8D5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0F09-DF43-4097-87B0-43F43584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FED1-7D2E-4654-B3F2-3C94E468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AB5E-2EDF-4911-B64A-0E1B86CF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D2CC-EC16-4E7C-A9BA-E3847ACA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1463-FA6B-4A61-AF0F-9FC85F95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0D8B-794C-4C12-BE48-980E1BA7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1D42-9A41-41E0-A1DA-E2FDFEB6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56CA-D56C-4549-94AD-E87822DC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8D9A1-4ABC-4613-A3A5-6849EB12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11AE7-5DBD-4F47-B7F9-78EEF9B4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FA7E6-B529-42EC-909D-36B69A44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71456-C485-41CB-A6BB-923170C2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A6A5E-AC5E-4CFC-AA10-8D3DDE54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AED-4CE1-4847-8313-845303AE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92F71-312D-4D8E-8FF9-CF396C84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9EE88-C471-493B-B203-C097B8A6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A2D3B-B6BB-4DBB-8657-36D2AE6C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16FCC-DEA1-43DF-80F6-9B24D169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5AA65-1A0E-4197-8301-AC762A0D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328AE-7C46-487E-9AC9-C94FA10D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58954-5C79-42BA-B9A5-4A6B1A71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BF406-7A92-4A8E-B1A3-56ECD98A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2AA6B-CF43-4F08-B9D1-A2D9B475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041A3-5C86-4633-B486-950E124E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C9EC-91BB-4155-A859-E85D09E5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84447-E060-496F-8EBC-ED7EA315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725FB-518C-426E-80E9-AEC876A3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B3081-3AA1-4472-8691-FF736C1B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6393D-80A7-4851-8148-2B44E97F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53D40-4AA9-4319-AA4F-7B6D1869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408FE-BA4E-44E5-BE86-B29167D0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6A5E0-51C8-413B-B046-5F711BFB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BBA84-F196-42BE-BE64-08136DE7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660B9-B0F2-4BD2-AF66-BF6F8820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B9173-9017-4847-85CA-99E5130D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65EB-4F13-45AB-83BC-28651541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3CDFB-7A4A-49B5-8AEC-EA270759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C96D5-2815-4CE4-AD80-4B22CDD1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1F495-A55E-44D8-AEF3-2B083104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05755-4BA7-4CBD-9401-20E0D0D6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3EA27-9F74-4872-B02B-AD9D3A60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459E0-D814-495E-886F-4235E1C0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D7051-53F1-453C-9292-E15A0326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6FA14-0B0A-49FC-90A8-1BA7DA52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A7194-BC0E-4527-85D8-C3680C39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1A283-2275-44AE-ADAD-9A9E84BB6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BA0-09D4-41E9-B6DA-481A1E8F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F6C91-7AAE-4C8B-9FF6-09B019C2D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164C5-DBC5-4B87-BBA7-127C1A56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122A2-98B8-42B9-8954-3342336F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5C43D-F713-4B86-90F4-BFAE7625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29924-E68B-43B1-945A-6B7A5203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FA247-68DD-403B-A5EC-2F1C72D9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13C3C-BE6A-454A-9F03-FF57A5B8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8A971-133E-49D7-80F5-53379DFE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15340-33AF-4C54-96EE-B3A50838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BF233-78A6-4BB1-B54A-365B1E01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154-1E2D-45CA-B28D-614DF900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19383-602E-402A-8E78-4677EC87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A561A-BB79-4030-875F-3593A6EC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E88DE-34E6-4301-9FFC-03A738B1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FB6DB-9A8D-45C4-9B34-403A83C6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DA07F-91C3-4F6C-932E-D239AACC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6F542-069F-40FB-BFD9-5330AA40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F63DA-33E5-40DF-B094-EBDE6FC1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C0DF3-E20C-4AF5-804E-CDF72486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2CBD1-43BF-46B0-95A8-80478CDB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CE9A6-F40A-458D-820F-BB3BA32C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4A55-BBE0-4CB2-8948-CC1AD1C7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6AB91-1008-42C8-8C5A-FDF340B3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892D6-8960-4F1A-98A4-2DE62057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AE187-5F99-4782-BF85-CE5E5718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BA229-40D4-48A0-871C-E50C4E32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D8635-1A57-493F-8C10-6A79B678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B2E21-24D1-44E3-A9D0-3865BF09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46C43-2DF8-45C3-BA5E-3342240E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42DF5-1449-4808-98D7-F5E327C4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F4227-89E4-4622-A796-2D7FCCC9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35BB8-372A-477E-94E8-D08FE3F8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3685-6B79-48BC-9DA2-ED219C4D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FF82B-B8C5-4B36-ACF6-7907B5AA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CF69B-9EEE-4C99-9A0A-308946EF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91C94-3076-4E61-8AA7-9E30BC87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3180A-2CAE-4E7C-AFCB-D1570090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2C259-1D8D-4D0E-8517-725A67DB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3F50F-00FD-43E2-BB85-F4EACBAC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F26FE-77B8-496E-B9BE-445F2CF8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4EEA7-328B-4D88-B3D0-359F698B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FFE27-929E-4690-A0FD-FDC650A3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4E71D5-9A87-4E2A-BBC8-4437A673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CEAD-A57D-4AA4-986F-2D2040EE0CB3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891C-7520-469A-89CC-472761A8B623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E379-68B2-4B27-83F6-20BB05EF9A54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C854-C41E-47A9-8E17-A2C54821A4BD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C4EE-5F5E-4E10-A4CD-EAFE71F36962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C72B-74DC-4D17-B1F2-D6B126063176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DF57-23AE-4716-8E23-13E848708372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0CCB-4624-44BD-8F19-C13962F22B08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AF1D-84E6-4A9E-BF9F-6E90B3253104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A3C3-9B12-4B87-B59E-554BE1DF1115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66D8-09E3-4F4C-9A6A-77F1EA475038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58D1-33BC-47A7-8675-73D4FDD2B66C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bel_Je%20pense%20&#224;%20toi.wav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peque-semillitas.blogspot.com/" TargetMode="External"/><Relationship Id="rId3" Type="http://schemas.openxmlformats.org/officeDocument/2006/relationships/hyperlink" Target="http://juanpabloinolvidable.blogspot.com/" TargetMode="External"/><Relationship Id="rId4" Type="http://schemas.openxmlformats.org/officeDocument/2006/relationships/hyperlink" Target="mailto:feluzul@gmail.com" TargetMode="External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C:\Documents and Settings\Lise\My Documents\My Pictures\Fond début ou fin\fond caresse de la vi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6"/>
          <p:cNvSpPr/>
          <p:nvPr/>
        </p:nvSpPr>
        <p:spPr>
          <a:xfrm>
            <a:off x="4500720" y="285840"/>
            <a:ext cx="4214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cc"/>
                </a:solidFill>
                <a:latin typeface="Times New Roman"/>
              </a:rPr>
              <a:t>Música: « Pienso en ti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cc"/>
                </a:solidFill>
                <a:latin typeface="Times New Roman"/>
              </a:rPr>
              <a:t>Interpretada por Richard 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ZoneTexte 3"/>
          <p:cNvSpPr/>
          <p:nvPr/>
        </p:nvSpPr>
        <p:spPr>
          <a:xfrm flipV="1" rot="10800000">
            <a:off x="6215040" y="60710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imes New Roman"/>
              </a:rPr>
              <a:t>Clic para avan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5 Pergamino vertical"/>
          <p:cNvSpPr/>
          <p:nvPr/>
        </p:nvSpPr>
        <p:spPr>
          <a:xfrm>
            <a:off x="4071960" y="1571760"/>
            <a:ext cx="5072040" cy="42145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6 Rectángulo" descr=""/>
          <p:cNvPicPr/>
          <p:nvPr/>
        </p:nvPicPr>
        <p:blipFill>
          <a:blip r:embed="rId2"/>
          <a:stretch/>
        </p:blipFill>
        <p:spPr>
          <a:xfrm>
            <a:off x="4383000" y="2011320"/>
            <a:ext cx="4443480" cy="3694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Abel_Je%20pense%20%C3%A0%20toi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C:\Documents and Settings\Lise\My Documents\My Pictures\Photos\Fleurs\Roses\rose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1026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4000680" y="928800"/>
            <a:ext cx="481932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s mirar al otro con los ojos del corazó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con los ojos del al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La palabra puede engañar, pero la mirada nunca miente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3" descr="C:\Documents and Settings\Lise\My Documents\My Pictures\Photos\Fleurs\Roses\rose oran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5"/>
          <p:cNvSpPr/>
          <p:nvPr/>
        </p:nvSpPr>
        <p:spPr>
          <a:xfrm>
            <a:off x="4429080" y="304920"/>
            <a:ext cx="4535640" cy="563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s, simplemente, estar ahí, no solo con el cuerpo, sino con el alm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s decir: « Te quiero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¿Por qué esperar a que una persona mu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para decir que se la querí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" descr="C:\Documents and Settings\Lise\My Documents\My Pictures\Photos\Fleurs\Roses\rosegouttelett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5"/>
          <p:cNvSpPr/>
          <p:nvPr/>
        </p:nvSpPr>
        <p:spPr>
          <a:xfrm>
            <a:off x="4000680" y="428760"/>
            <a:ext cx="503532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s no juzgar, no critica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no conden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s ser capaz de deci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«Si hubiese estado en tu lugar, no lo habría hecho mejor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s poder decir sin envid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«Es estupendo lo que has hecho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charles_austin-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5"/>
          <p:cNvSpPr/>
          <p:nvPr/>
        </p:nvSpPr>
        <p:spPr>
          <a:xfrm>
            <a:off x="3929040" y="1071720"/>
            <a:ext cx="5106960" cy="442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s tan sencill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como eso; no es  nada complicad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Pero si no sentimos amor, nos falta tod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n la vid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4" descr="MAHARISHI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6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6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5"/>
          <p:cNvSpPr/>
          <p:nvPr/>
        </p:nvSpPr>
        <p:spPr>
          <a:xfrm>
            <a:off x="3571920" y="1143000"/>
            <a:ext cx="5356080" cy="521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Cuando uno tiene el privilegio de querer y de ser querid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la vida es extraordi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l calor que irrad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la luz que invade el alma y hace brillar los oj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027" descr="C:\Documents and Settings\Lise\My Documents\My Pictures\Photos\Fleurs\Roses\belle rose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4" descr="ROMANTIC DREAMS (PPAF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"/>
          <p:cNvSpPr/>
          <p:nvPr/>
        </p:nvSpPr>
        <p:spPr>
          <a:xfrm>
            <a:off x="4357800" y="1000080"/>
            <a:ext cx="4429080" cy="497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nvía este mensaje a las personas a las que quie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A las que de una forma u otra han dado felicidad a tu v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A las que te hacen sonreir cuando lo necesitas de ver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A las que te hacen ver el lado bello de las cosas cuando estás en tus horas más baj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A las que quisieras decirles cuánto aprecias su afecto y su amis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4" descr="ellen-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15"/>
          <p:cNvSpPr/>
          <p:nvPr/>
        </p:nvSpPr>
        <p:spPr>
          <a:xfrm>
            <a:off x="4071960" y="0"/>
            <a:ext cx="4714920" cy="26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Pero si no haces nad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no te inquie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nada malo te sucederá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solo perderás una oport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de iluminar el día a algui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  <a:ea typeface="新細明體"/>
              </a:rPr>
              <a:t>con un mesaje de cari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4788720" y="3185280"/>
            <a:ext cx="372240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b3b3b3"/>
                </a:solidFill>
                <a:latin typeface="Comic Sans MS"/>
              </a:rPr>
              <a:t>Te invito a conocer mis dos blog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b3b3b3"/>
                </a:solidFill>
                <a:latin typeface="Comic Sans MS"/>
              </a:rPr>
              <a:t>"Pequeñas Semillitas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b3b3b3"/>
                </a:solidFill>
                <a:latin typeface="Comic Sans MS"/>
              </a:rPr>
              <a:t> </a:t>
            </a:r>
            <a:r>
              <a:rPr b="0" lang="es-ES" sz="14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ttp://peque-semillitas.blogspot.com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b3b3b3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3b3b3"/>
                </a:solidFill>
                <a:latin typeface="Comic Sans MS"/>
              </a:rPr>
              <a:t>"Juan Pablo II inolvid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ttp://juanpabloinolvidable.blogspot.com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b3b3b3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b3b3b3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Felipe de U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37" descr="Dove"/>
          <p:cNvPicPr/>
          <p:nvPr/>
        </p:nvPicPr>
        <p:blipFill>
          <a:blip r:embed="rId5"/>
          <a:stretch/>
        </p:blipFill>
        <p:spPr>
          <a:xfrm>
            <a:off x="6357960" y="5429160"/>
            <a:ext cx="576360" cy="52236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9"/>
          <p:cNvSpPr/>
          <p:nvPr/>
        </p:nvSpPr>
        <p:spPr>
          <a:xfrm>
            <a:off x="-428760" y="6211800"/>
            <a:ext cx="5715000" cy="59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100" spc="-1" strike="noStrike">
                <a:solidFill>
                  <a:srgbClr val="ffffff"/>
                </a:solidFill>
                <a:latin typeface="Arial"/>
              </a:rPr>
              <a:t>No sé quién realizó este  PowerPoint (pps)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ffff"/>
                </a:solidFill>
                <a:latin typeface="Arial"/>
              </a:rPr>
              <a:t>que estoy reenviando con gratitud a su “autor desconocido”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17" descr="ESTRELLA8"/>
          <p:cNvPicPr/>
          <p:nvPr/>
        </p:nvPicPr>
        <p:blipFill>
          <a:blip r:embed="rId6"/>
          <a:stretch/>
        </p:blipFill>
        <p:spPr>
          <a:xfrm>
            <a:off x="6072120" y="2714760"/>
            <a:ext cx="1008000" cy="974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Rectangle 17"/>
          <p:cNvSpPr/>
          <p:nvPr/>
        </p:nvSpPr>
        <p:spPr>
          <a:xfrm>
            <a:off x="4500720" y="78588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  <a:ea typeface="新細明體"/>
              </a:rPr>
              <a:t>QUER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4214880" y="2000160"/>
            <a:ext cx="45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no es hacer grandes declaraciones; es decir o hacer cosas sencillas y sin especial motiv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C:\Documents and Settings\Lise\My Documents\My Pictures\Photos\Fleurs\Roses\Copie_de_rose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19"/>
          <p:cNvSpPr/>
          <p:nvPr/>
        </p:nvSpPr>
        <p:spPr>
          <a:xfrm>
            <a:off x="4500720" y="1000080"/>
            <a:ext cx="4214520" cy="448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Por ejempl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¿Quieres un café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¿Estás cansado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¿Puedo hacer algo por ti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028" descr="C:\Documents and Settings\Lise\My Documents\My Pictures\Photos\Fleurs\Roses\rose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3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11"/>
          <p:cNvSpPr/>
          <p:nvPr/>
        </p:nvSpPr>
        <p:spPr>
          <a:xfrm>
            <a:off x="4143240" y="1571760"/>
            <a:ext cx="457200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Una llamada telefónic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 </a:t>
            </a: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una carta, una pequeña sorpresa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una cariñosa invitación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un paseo junto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C:\Documents and Settings\Lise\My Documents\My Pictures\Photos\Fleurs\Roses\Metairiebook09.jpg"/>
          <p:cNvPicPr/>
          <p:nvPr/>
        </p:nvPicPr>
        <p:blipFill>
          <a:blip r:embed="rId1"/>
          <a:stretch/>
        </p:blipFill>
        <p:spPr>
          <a:xfrm>
            <a:off x="-152280" y="-228600"/>
            <a:ext cx="9524880" cy="7238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C:\Documents and Settings\Lise\My Documents\My Pictures\Fond début ou fin\fond caresse de la v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14"/>
          <p:cNvSpPr/>
          <p:nvPr/>
        </p:nvSpPr>
        <p:spPr>
          <a:xfrm>
            <a:off x="4429080" y="714240"/>
            <a:ext cx="4357800" cy="558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s hacer cosas por el otro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sin razón, sin cálcul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s aceptar al otro como e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s escucharlo con afec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Comic Sans MS"/>
                <a:ea typeface="新細明體"/>
              </a:rPr>
              <a:t>es no presionarl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2T13:56:08Z</dcterms:created>
  <dc:creator>Tardif</dc:creator>
  <dc:description/>
  <dc:language>en-US</dc:language>
  <cp:lastModifiedBy>felipe</cp:lastModifiedBy>
  <dcterms:modified xsi:type="dcterms:W3CDTF">2011-02-23T18:14:12Z</dcterms:modified>
  <cp:revision>46</cp:revision>
  <dc:subject/>
  <dc:title>Présentation PowerPoint</dc:title>
</cp:coreProperties>
</file>