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Amistades%20peligrosas_musical.wav" ContentType="audio/x-wav"/>
  <Override PartName="/ppt/media/image10.jpeg" ContentType="image/jpeg"/>
  <Override PartName="/ppt/media/image8.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19"/>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E40BC-617E-4ED5-9369-4927C7BFA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53AAE-8FFE-4B11-910F-5E0BB219E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386EE-CA7A-4A78-AAC1-EC38E28CB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C598A-DFDE-4370-A6CA-A2BF1B139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F1352-1474-4A4D-8D93-D7CBD851F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EC0F7-44BE-4AC4-8C4D-CABBA948A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51FCA-8082-41DE-92D1-7028E6AB0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F3B46-FC87-41E7-B9E1-B0F742763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3FAF6-5C4A-46A3-9C49-8E9E22890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25759-3DB2-46F6-8C60-4B53A0D16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52F6A-C0FD-40A9-AD79-ECD508861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A710E-5810-4902-8089-C9F5CA4D50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96F1A-CF1A-4DD6-988D-8F61F3BC4D5B}"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Amistades%20peligrosas_musical.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5791320" y="5105520"/>
            <a:ext cx="2703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5400" spc="-1" strike="noStrike">
                <a:solidFill>
                  <a:srgbClr val="ffffff"/>
                </a:solidFill>
                <a:latin typeface="Wingdings"/>
                <a:ea typeface="Wingdings"/>
              </a:rPr>
              <a:t></a:t>
            </a:r>
            <a:r>
              <a:rPr b="1" lang="ca-ES" sz="2000" spc="-1" strike="noStrike">
                <a:solidFill>
                  <a:srgbClr val="ffffff"/>
                </a:solidFill>
                <a:latin typeface="Comic Sans MS"/>
              </a:rPr>
              <a:t>Click</a:t>
            </a:r>
            <a:endParaRPr b="0" lang="en-US" sz="2000" spc="-1" strike="noStrike">
              <a:solidFill>
                <a:srgbClr val="000000"/>
              </a:solidFill>
              <a:latin typeface="Times New Roman"/>
            </a:endParaRPr>
          </a:p>
        </p:txBody>
      </p:sp>
    </p:spTree>
  </p:cSld>
  <p:transition spd="slow">
    <p:split dir="out" orient="vert"/>
    <p:sndAc>
      <p:stSnd>
        <p:snd r:embed="rId2" name="Amistades%20peligrosas_musical.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p:nvPr/>
        </p:nvSpPr>
        <p:spPr>
          <a:xfrm>
            <a:off x="0" y="510552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Jika aku tak mau makan, jangan paksa aku !</a:t>
            </a:r>
            <a:br>
              <a:rPr sz="2400"/>
            </a:br>
            <a:r>
              <a:rPr b="1" lang="en-US" sz="2400" spc="-1" strike="noStrike">
                <a:solidFill>
                  <a:srgbClr val="ffffff"/>
                </a:solidFill>
                <a:latin typeface="Comic Sans MS"/>
                <a:ea typeface="Times New Roman"/>
              </a:rPr>
              <a:t>Aku tahu bilamana aku lapar dan kapan aku tak lapar</a:t>
            </a:r>
            <a:r>
              <a:rPr b="1" lang="en-US" sz="2400" spc="-1" strike="noStrike">
                <a:solidFill>
                  <a:srgbClr val="ffffff"/>
                </a:solidFill>
                <a:latin typeface="Comic Sans MS"/>
              </a:rPr>
              <a:t>.</a:t>
            </a:r>
            <a:endParaRPr b="0" lang="en-US" sz="2400" spc="-1" strike="noStrike">
              <a:solidFill>
                <a:srgbClr val="000000"/>
              </a:solidFill>
              <a:latin typeface="Times New Roman"/>
            </a:endParaRPr>
          </a:p>
        </p:txBody>
      </p:sp>
    </p:spTree>
  </p:cSld>
  <p:transition spd="med" advTm="8000">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0" y="342756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Times New Roman"/>
              </a:rPr>
              <a:t>Ketika kakiku tak lagi mampu menyangga tubuhku, untuk bergerak seperti sebelumnya…..</a:t>
            </a:r>
            <a:r>
              <a:rPr b="1" lang="en-GB" sz="2800" spc="-1" strike="noStrike">
                <a:solidFill>
                  <a:srgbClr val="ffffff"/>
                </a:solidFill>
                <a:latin typeface="Comic Sans MS"/>
              </a:rPr>
              <a:t> </a:t>
            </a:r>
            <a:endParaRPr b="0" lang="en-US" sz="2800" spc="-1" strike="noStrike">
              <a:solidFill>
                <a:srgbClr val="000000"/>
              </a:solidFill>
              <a:latin typeface="Times New Roman"/>
            </a:endParaRPr>
          </a:p>
        </p:txBody>
      </p:sp>
    </p:spTree>
  </p:cSld>
  <p:transition spd="med" advTm="7000">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0" y="51577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a:t>
            </a:r>
            <a:r>
              <a:rPr b="1" lang="en-US" sz="2400" spc="-1" strike="noStrike">
                <a:solidFill>
                  <a:srgbClr val="0000ff"/>
                </a:solidFill>
                <a:latin typeface="Comic Sans MS"/>
                <a:ea typeface="Times New Roman"/>
              </a:rPr>
              <a:t>Bantulah aku dengan cara yang sama ketika aku merengkuhmu dalam tanganku, mengajarimu melakukan langkah-langkah pertamamu……</a:t>
            </a:r>
            <a:r>
              <a:rPr b="1" lang="en-GB" sz="2400" spc="-1" strike="noStrike">
                <a:solidFill>
                  <a:srgbClr val="0000ff"/>
                </a:solidFill>
                <a:latin typeface="Comic Sans MS"/>
              </a:rPr>
              <a:t> </a:t>
            </a:r>
            <a:endParaRPr b="0" lang="en-US" sz="2400" spc="-1" strike="noStrike">
              <a:solidFill>
                <a:srgbClr val="000000"/>
              </a:solidFill>
              <a:latin typeface="Times New Roman"/>
            </a:endParaRPr>
          </a:p>
        </p:txBody>
      </p:sp>
      <p:sp>
        <p:nvSpPr>
          <p:cNvPr id="76" name=""/>
          <p:cNvSpPr/>
          <p:nvPr/>
        </p:nvSpPr>
        <p:spPr>
          <a:xfrm>
            <a:off x="1187280" y="4803840"/>
            <a:ext cx="3803760" cy="71280"/>
          </a:xfrm>
          <a:custGeom>
            <a:avLst/>
            <a:gdLst/>
            <a:ahLst/>
            <a:rect l="l" t="t" r="r" b="b"/>
            <a:pathLst>
              <a:path w="10568" h="199">
                <a:moveTo>
                  <a:pt x="3324" y="13469"/>
                </a:moveTo>
                <a:cubicBezTo>
                  <a:pt x="3989" y="13469"/>
                  <a:pt x="4647" y="13495"/>
                  <a:pt x="5308" y="13519"/>
                </a:cubicBezTo>
                <a:cubicBezTo>
                  <a:pt x="5515" y="13527"/>
                  <a:pt x="5721" y="13541"/>
                  <a:pt x="5928" y="13543"/>
                </a:cubicBezTo>
                <a:cubicBezTo>
                  <a:pt x="7163" y="13555"/>
                  <a:pt x="8472" y="13642"/>
                  <a:pt x="9699" y="13519"/>
                </a:cubicBezTo>
                <a:cubicBezTo>
                  <a:pt x="9792" y="13510"/>
                  <a:pt x="9880" y="13506"/>
                  <a:pt x="9971" y="13494"/>
                </a:cubicBezTo>
                <a:cubicBezTo>
                  <a:pt x="10032" y="13486"/>
                  <a:pt x="10087" y="13476"/>
                  <a:pt x="10145" y="13469"/>
                </a:cubicBezTo>
                <a:cubicBezTo>
                  <a:pt x="10190" y="13464"/>
                  <a:pt x="10225" y="13452"/>
                  <a:pt x="10269" y="13444"/>
                </a:cubicBezTo>
                <a:cubicBezTo>
                  <a:pt x="10349" y="13430"/>
                  <a:pt x="10436" y="13424"/>
                  <a:pt x="10517" y="13419"/>
                </a:cubicBezTo>
                <a:cubicBezTo>
                  <a:pt x="11027" y="13389"/>
                  <a:pt x="11563" y="13397"/>
                  <a:pt x="12055" y="13370"/>
                </a:cubicBezTo>
                <a:cubicBezTo>
                  <a:pt x="12507" y="13345"/>
                  <a:pt x="12981" y="13366"/>
                  <a:pt x="13419" y="13345"/>
                </a:cubicBezTo>
                <a:cubicBezTo>
                  <a:pt x="13576" y="13338"/>
                  <a:pt x="13734" y="13345"/>
                  <a:pt x="13891" y="13345"/>
                </a:cubicBezTo>
              </a:path>
            </a:pathLst>
          </a:custGeom>
          <a:noFill/>
          <a:ln cap="sq" w="228600">
            <a:solidFill>
              <a:srgbClr val="ffff00">
                <a:alpha val="33000"/>
              </a:srgbClr>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Tree>
  </p:cSld>
  <p:transition spd="med" advTm="8000">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0" y="4724280"/>
            <a:ext cx="914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ea typeface="Times New Roman"/>
              </a:rPr>
              <a:t>Dan kala suatu saat nanti, ketika aku katakan padamu bahwa aku tak lagi ingin hidup…………, ketika aku ingin mati….., jangan marah…, karena pada saatnya nanti kau juga akan mengerti !</a:t>
            </a:r>
            <a:r>
              <a:rPr b="1" lang="en-GB" sz="2400" spc="-1" strike="noStrike">
                <a:solidFill>
                  <a:srgbClr val="0000ff"/>
                </a:solidFill>
                <a:latin typeface="Comic Sans MS"/>
              </a:rPr>
              <a:t> </a:t>
            </a:r>
            <a:endParaRPr b="0" lang="en-US" sz="2400" spc="-1" strike="noStrike">
              <a:solidFill>
                <a:srgbClr val="000000"/>
              </a:solidFill>
              <a:latin typeface="Times New Roman"/>
            </a:endParaRPr>
          </a:p>
        </p:txBody>
      </p:sp>
      <p:sp>
        <p:nvSpPr>
          <p:cNvPr id="78" name=""/>
          <p:cNvSpPr/>
          <p:nvPr/>
        </p:nvSpPr>
        <p:spPr>
          <a:xfrm>
            <a:off x="152280" y="5010120"/>
            <a:ext cx="2652840" cy="1440"/>
          </a:xfrm>
          <a:custGeom>
            <a:avLst/>
            <a:gdLst/>
            <a:ahLst/>
            <a:rect l="l" t="t" r="r" b="b"/>
            <a:pathLst>
              <a:path w="7368" h="1">
                <a:moveTo>
                  <a:pt x="422" y="13915"/>
                </a:moveTo>
                <a:cubicBezTo>
                  <a:pt x="2878" y="13915"/>
                  <a:pt x="5333" y="13915"/>
                  <a:pt x="7789" y="13915"/>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 name=""/>
          <p:cNvSpPr/>
          <p:nvPr/>
        </p:nvSpPr>
        <p:spPr>
          <a:xfrm>
            <a:off x="3081240" y="4902120"/>
            <a:ext cx="6008760" cy="90720"/>
          </a:xfrm>
          <a:custGeom>
            <a:avLst/>
            <a:gdLst/>
            <a:ahLst/>
            <a:rect l="l" t="t" r="r" b="b"/>
            <a:pathLst>
              <a:path w="16694" h="249">
                <a:moveTo>
                  <a:pt x="8558" y="13767"/>
                </a:moveTo>
                <a:cubicBezTo>
                  <a:pt x="8791" y="13753"/>
                  <a:pt x="9018" y="13744"/>
                  <a:pt x="9252" y="13742"/>
                </a:cubicBezTo>
                <a:cubicBezTo>
                  <a:pt x="9701" y="13737"/>
                  <a:pt x="10146" y="13721"/>
                  <a:pt x="10592" y="13717"/>
                </a:cubicBezTo>
                <a:cubicBezTo>
                  <a:pt x="12804" y="13698"/>
                  <a:pt x="15102" y="13879"/>
                  <a:pt x="17289" y="13643"/>
                </a:cubicBezTo>
                <a:cubicBezTo>
                  <a:pt x="17398" y="13631"/>
                  <a:pt x="17501" y="13623"/>
                  <a:pt x="17611" y="13618"/>
                </a:cubicBezTo>
                <a:cubicBezTo>
                  <a:pt x="17991" y="13600"/>
                  <a:pt x="18333" y="13704"/>
                  <a:pt x="18703" y="13742"/>
                </a:cubicBezTo>
                <a:cubicBezTo>
                  <a:pt x="19921" y="13866"/>
                  <a:pt x="21226" y="13546"/>
                  <a:pt x="22423" y="13791"/>
                </a:cubicBezTo>
                <a:cubicBezTo>
                  <a:pt x="22599" y="13827"/>
                  <a:pt x="22740" y="13856"/>
                  <a:pt x="22920" y="13866"/>
                </a:cubicBezTo>
                <a:cubicBezTo>
                  <a:pt x="23690" y="13911"/>
                  <a:pt x="24479" y="13866"/>
                  <a:pt x="25251" y="13866"/>
                </a:cubicBezTo>
              </a:path>
            </a:pathLst>
          </a:custGeom>
          <a:noFill/>
          <a:ln cap="sq" w="228600">
            <a:solidFill>
              <a:srgbClr val="ffff00">
                <a:alpha val="33000"/>
              </a:srgbClr>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0" name=""/>
          <p:cNvSpPr/>
          <p:nvPr/>
        </p:nvSpPr>
        <p:spPr>
          <a:xfrm>
            <a:off x="3402000" y="5303880"/>
            <a:ext cx="2071800" cy="81000"/>
          </a:xfrm>
          <a:custGeom>
            <a:avLst/>
            <a:gdLst/>
            <a:ahLst/>
            <a:rect l="l" t="t" r="r" b="b"/>
            <a:pathLst>
              <a:path w="5755" h="224">
                <a:moveTo>
                  <a:pt x="9451" y="14957"/>
                </a:moveTo>
                <a:cubicBezTo>
                  <a:pt x="9494" y="14954"/>
                  <a:pt x="9546" y="14935"/>
                  <a:pt x="9575" y="14932"/>
                </a:cubicBezTo>
                <a:cubicBezTo>
                  <a:pt x="10090" y="14885"/>
                  <a:pt x="10624" y="14945"/>
                  <a:pt x="11137" y="14908"/>
                </a:cubicBezTo>
                <a:cubicBezTo>
                  <a:pt x="11256" y="14899"/>
                  <a:pt x="11368" y="14900"/>
                  <a:pt x="11485" y="14883"/>
                </a:cubicBezTo>
                <a:cubicBezTo>
                  <a:pt x="11589" y="14868"/>
                  <a:pt x="11704" y="14841"/>
                  <a:pt x="11807" y="14833"/>
                </a:cubicBezTo>
                <a:cubicBezTo>
                  <a:pt x="12433" y="14785"/>
                  <a:pt x="13071" y="14836"/>
                  <a:pt x="13692" y="14784"/>
                </a:cubicBezTo>
                <a:cubicBezTo>
                  <a:pt x="13800" y="14775"/>
                  <a:pt x="13909" y="14765"/>
                  <a:pt x="14015" y="14759"/>
                </a:cubicBezTo>
                <a:cubicBezTo>
                  <a:pt x="14098" y="14754"/>
                  <a:pt x="14187" y="14739"/>
                  <a:pt x="14263" y="14734"/>
                </a:cubicBezTo>
                <a:cubicBezTo>
                  <a:pt x="14574" y="14714"/>
                  <a:pt x="14893" y="14734"/>
                  <a:pt x="15205" y="14734"/>
                </a:cubicBezTo>
              </a:path>
            </a:pathLst>
          </a:custGeom>
          <a:noFill/>
          <a:ln cap="sq" w="228600">
            <a:solidFill>
              <a:srgbClr val="ffff00">
                <a:alpha val="33000"/>
              </a:srgbClr>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 name=""/>
          <p:cNvSpPr/>
          <p:nvPr/>
        </p:nvSpPr>
        <p:spPr>
          <a:xfrm>
            <a:off x="4759200" y="5670720"/>
            <a:ext cx="2724120" cy="98280"/>
          </a:xfrm>
          <a:custGeom>
            <a:avLst/>
            <a:gdLst/>
            <a:ahLst/>
            <a:rect l="l" t="t" r="r" b="b"/>
            <a:pathLst>
              <a:path w="7566" h="274">
                <a:moveTo>
                  <a:pt x="13221" y="16024"/>
                </a:moveTo>
                <a:cubicBezTo>
                  <a:pt x="13718" y="16024"/>
                  <a:pt x="14213" y="15999"/>
                  <a:pt x="14709" y="15999"/>
                </a:cubicBezTo>
                <a:cubicBezTo>
                  <a:pt x="14919" y="15999"/>
                  <a:pt x="15122" y="15983"/>
                  <a:pt x="15329" y="15974"/>
                </a:cubicBezTo>
                <a:cubicBezTo>
                  <a:pt x="15440" y="15969"/>
                  <a:pt x="15544" y="15966"/>
                  <a:pt x="15652" y="15949"/>
                </a:cubicBezTo>
                <a:cubicBezTo>
                  <a:pt x="15718" y="15939"/>
                  <a:pt x="15784" y="15911"/>
                  <a:pt x="15850" y="15900"/>
                </a:cubicBezTo>
                <a:cubicBezTo>
                  <a:pt x="15934" y="15886"/>
                  <a:pt x="16013" y="15880"/>
                  <a:pt x="16098" y="15875"/>
                </a:cubicBezTo>
                <a:cubicBezTo>
                  <a:pt x="16171" y="15870"/>
                  <a:pt x="16255" y="15854"/>
                  <a:pt x="16321" y="15850"/>
                </a:cubicBezTo>
                <a:cubicBezTo>
                  <a:pt x="16518" y="15839"/>
                  <a:pt x="16728" y="15836"/>
                  <a:pt x="16917" y="15825"/>
                </a:cubicBezTo>
                <a:cubicBezTo>
                  <a:pt x="16992" y="15821"/>
                  <a:pt x="17045" y="15812"/>
                  <a:pt x="17115" y="15801"/>
                </a:cubicBezTo>
                <a:cubicBezTo>
                  <a:pt x="17196" y="15788"/>
                  <a:pt x="17281" y="15782"/>
                  <a:pt x="17363" y="15776"/>
                </a:cubicBezTo>
                <a:cubicBezTo>
                  <a:pt x="17519" y="15765"/>
                  <a:pt x="17683" y="15760"/>
                  <a:pt x="17835" y="15751"/>
                </a:cubicBezTo>
                <a:cubicBezTo>
                  <a:pt x="18812" y="15696"/>
                  <a:pt x="19806" y="15751"/>
                  <a:pt x="20786" y="15751"/>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50920" y="4875120"/>
            <a:ext cx="2455920" cy="135000"/>
          </a:xfrm>
          <a:custGeom>
            <a:avLst/>
            <a:gdLst/>
            <a:ahLst/>
            <a:rect l="l" t="t" r="r" b="b"/>
            <a:pathLst>
              <a:path w="6822" h="373">
                <a:moveTo>
                  <a:pt x="695" y="13568"/>
                </a:moveTo>
                <a:cubicBezTo>
                  <a:pt x="813" y="13568"/>
                  <a:pt x="940" y="13550"/>
                  <a:pt x="1042" y="13543"/>
                </a:cubicBezTo>
                <a:cubicBezTo>
                  <a:pt x="1121" y="13537"/>
                  <a:pt x="1202" y="13564"/>
                  <a:pt x="1265" y="13568"/>
                </a:cubicBezTo>
                <a:cubicBezTo>
                  <a:pt x="1912" y="13610"/>
                  <a:pt x="2828" y="13382"/>
                  <a:pt x="3423" y="13593"/>
                </a:cubicBezTo>
                <a:cubicBezTo>
                  <a:pt x="3468" y="13609"/>
                  <a:pt x="3505" y="13621"/>
                  <a:pt x="3547" y="13643"/>
                </a:cubicBezTo>
                <a:cubicBezTo>
                  <a:pt x="3620" y="13682"/>
                  <a:pt x="3690" y="13731"/>
                  <a:pt x="3770" y="13767"/>
                </a:cubicBezTo>
                <a:cubicBezTo>
                  <a:pt x="3869" y="13812"/>
                  <a:pt x="3971" y="13835"/>
                  <a:pt x="4068" y="13866"/>
                </a:cubicBezTo>
                <a:cubicBezTo>
                  <a:pt x="4158" y="13895"/>
                  <a:pt x="4224" y="13908"/>
                  <a:pt x="4316" y="13915"/>
                </a:cubicBezTo>
                <a:cubicBezTo>
                  <a:pt x="4997" y="13966"/>
                  <a:pt x="5724" y="13926"/>
                  <a:pt x="6400" y="13891"/>
                </a:cubicBezTo>
                <a:cubicBezTo>
                  <a:pt x="6511" y="13885"/>
                  <a:pt x="6613" y="13873"/>
                  <a:pt x="6722" y="13866"/>
                </a:cubicBezTo>
                <a:cubicBezTo>
                  <a:pt x="6834" y="13859"/>
                  <a:pt x="6972" y="13848"/>
                  <a:pt x="7069" y="13841"/>
                </a:cubicBezTo>
                <a:cubicBezTo>
                  <a:pt x="7143" y="13836"/>
                  <a:pt x="7219" y="13845"/>
                  <a:pt x="7293" y="13841"/>
                </a:cubicBezTo>
                <a:cubicBezTo>
                  <a:pt x="7252" y="13834"/>
                  <a:pt x="7274" y="13818"/>
                  <a:pt x="7218" y="13816"/>
                </a:cubicBezTo>
                <a:cubicBezTo>
                  <a:pt x="7121" y="13813"/>
                  <a:pt x="7028" y="13825"/>
                  <a:pt x="6945" y="13791"/>
                </a:cubicBezTo>
                <a:cubicBezTo>
                  <a:pt x="6920" y="13781"/>
                  <a:pt x="6909" y="13748"/>
                  <a:pt x="6896" y="13742"/>
                </a:cubicBezTo>
                <a:cubicBezTo>
                  <a:pt x="6860" y="13727"/>
                  <a:pt x="6837" y="13723"/>
                  <a:pt x="6796" y="13717"/>
                </a:cubicBezTo>
                <a:cubicBezTo>
                  <a:pt x="6733" y="13708"/>
                  <a:pt x="6662" y="13717"/>
                  <a:pt x="6598" y="13717"/>
                </a:cubicBezTo>
                <a:cubicBezTo>
                  <a:pt x="6615" y="13725"/>
                  <a:pt x="6676" y="13779"/>
                  <a:pt x="6722" y="13791"/>
                </a:cubicBezTo>
                <a:cubicBezTo>
                  <a:pt x="6794" y="13809"/>
                  <a:pt x="6928" y="13855"/>
                  <a:pt x="6995" y="13866"/>
                </a:cubicBezTo>
                <a:cubicBezTo>
                  <a:pt x="7154" y="13892"/>
                  <a:pt x="7396" y="13859"/>
                  <a:pt x="7516" y="13841"/>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081240" y="4956120"/>
            <a:ext cx="71640" cy="1800"/>
          </a:xfrm>
          <a:custGeom>
            <a:avLst/>
            <a:gdLst/>
            <a:ahLst/>
            <a:rect l="l" t="t" r="r" b="b"/>
            <a:pathLst>
              <a:path w="199" h="1">
                <a:moveTo>
                  <a:pt x="8558" y="13767"/>
                </a:moveTo>
                <a:cubicBezTo>
                  <a:pt x="8624" y="13767"/>
                  <a:pt x="8690" y="13767"/>
                  <a:pt x="8756" y="13767"/>
                </a:cubicBezTo>
              </a:path>
            </a:pathLst>
          </a:custGeom>
          <a:noFill/>
          <a:ln cap="sq" w="228600">
            <a:solidFill>
              <a:srgbClr val="ffff00">
                <a:alpha val="33000"/>
              </a:srgbClr>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 name=""/>
          <p:cNvSpPr/>
          <p:nvPr/>
        </p:nvSpPr>
        <p:spPr>
          <a:xfrm>
            <a:off x="3419640" y="4983120"/>
            <a:ext cx="5573520" cy="44640"/>
          </a:xfrm>
          <a:custGeom>
            <a:avLst/>
            <a:gdLst/>
            <a:ahLst/>
            <a:rect l="l" t="t" r="r" b="b"/>
            <a:pathLst>
              <a:path w="15479" h="125">
                <a:moveTo>
                  <a:pt x="9500" y="13915"/>
                </a:moveTo>
                <a:cubicBezTo>
                  <a:pt x="9840" y="13923"/>
                  <a:pt x="10175" y="13940"/>
                  <a:pt x="10517" y="13940"/>
                </a:cubicBezTo>
                <a:cubicBezTo>
                  <a:pt x="10966" y="13940"/>
                  <a:pt x="11453" y="13976"/>
                  <a:pt x="11881" y="13915"/>
                </a:cubicBezTo>
                <a:cubicBezTo>
                  <a:pt x="11981" y="13901"/>
                  <a:pt x="12079" y="13873"/>
                  <a:pt x="12179" y="13866"/>
                </a:cubicBezTo>
                <a:cubicBezTo>
                  <a:pt x="13239" y="13787"/>
                  <a:pt x="14354" y="13853"/>
                  <a:pt x="15404" y="13841"/>
                </a:cubicBezTo>
                <a:cubicBezTo>
                  <a:pt x="16461" y="13829"/>
                  <a:pt x="17601" y="13764"/>
                  <a:pt x="18628" y="13891"/>
                </a:cubicBezTo>
                <a:cubicBezTo>
                  <a:pt x="18713" y="13902"/>
                  <a:pt x="18792" y="13906"/>
                  <a:pt x="18876" y="13915"/>
                </a:cubicBezTo>
                <a:cubicBezTo>
                  <a:pt x="19001" y="13929"/>
                  <a:pt x="19127" y="13957"/>
                  <a:pt x="19248" y="13965"/>
                </a:cubicBezTo>
                <a:cubicBezTo>
                  <a:pt x="21043" y="14077"/>
                  <a:pt x="23235" y="14176"/>
                  <a:pt x="24954" y="13915"/>
                </a:cubicBezTo>
                <a:cubicBezTo>
                  <a:pt x="24962" y="13915"/>
                  <a:pt x="24970" y="13915"/>
                  <a:pt x="24978" y="13915"/>
                </a:cubicBezTo>
              </a:path>
            </a:pathLst>
          </a:custGeom>
          <a:noFill/>
          <a:ln cap="sq" w="228600">
            <a:solidFill>
              <a:srgbClr val="ffff00">
                <a:alpha val="33000"/>
              </a:srgbClr>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5" name=""/>
          <p:cNvSpPr/>
          <p:nvPr/>
        </p:nvSpPr>
        <p:spPr>
          <a:xfrm>
            <a:off x="3438360" y="5214960"/>
            <a:ext cx="160560" cy="1440"/>
          </a:xfrm>
          <a:custGeom>
            <a:avLst/>
            <a:gdLst/>
            <a:ahLst/>
            <a:rect l="l" t="t" r="r" b="b"/>
            <a:pathLst>
              <a:path w="447" h="1">
                <a:moveTo>
                  <a:pt x="9550" y="14486"/>
                </a:moveTo>
                <a:cubicBezTo>
                  <a:pt x="9699" y="14486"/>
                  <a:pt x="9847" y="14486"/>
                  <a:pt x="9996" y="14486"/>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 name=""/>
          <p:cNvSpPr/>
          <p:nvPr/>
        </p:nvSpPr>
        <p:spPr>
          <a:xfrm>
            <a:off x="3776760" y="5367240"/>
            <a:ext cx="1527120" cy="61920"/>
          </a:xfrm>
          <a:custGeom>
            <a:avLst/>
            <a:gdLst/>
            <a:ahLst/>
            <a:rect l="l" t="t" r="r" b="b"/>
            <a:pathLst>
              <a:path w="4243" h="174">
                <a:moveTo>
                  <a:pt x="14734" y="14908"/>
                </a:moveTo>
                <a:cubicBezTo>
                  <a:pt x="14234" y="14908"/>
                  <a:pt x="13705" y="14887"/>
                  <a:pt x="13221" y="14932"/>
                </a:cubicBezTo>
                <a:cubicBezTo>
                  <a:pt x="13157" y="14938"/>
                  <a:pt x="13132" y="14950"/>
                  <a:pt x="13072" y="14957"/>
                </a:cubicBezTo>
                <a:cubicBezTo>
                  <a:pt x="13026" y="14962"/>
                  <a:pt x="13011" y="14971"/>
                  <a:pt x="12973" y="14982"/>
                </a:cubicBezTo>
                <a:cubicBezTo>
                  <a:pt x="12910" y="15001"/>
                  <a:pt x="12889" y="15027"/>
                  <a:pt x="12824" y="15056"/>
                </a:cubicBezTo>
                <a:cubicBezTo>
                  <a:pt x="12778" y="15076"/>
                  <a:pt x="12756" y="15077"/>
                  <a:pt x="12700" y="15081"/>
                </a:cubicBezTo>
                <a:cubicBezTo>
                  <a:pt x="12399" y="15102"/>
                  <a:pt x="12075" y="15085"/>
                  <a:pt x="11782" y="15056"/>
                </a:cubicBezTo>
                <a:cubicBezTo>
                  <a:pt x="11687" y="15047"/>
                  <a:pt x="11574" y="15038"/>
                  <a:pt x="11485" y="15032"/>
                </a:cubicBezTo>
                <a:cubicBezTo>
                  <a:pt x="11399" y="15026"/>
                  <a:pt x="11320" y="15016"/>
                  <a:pt x="11237" y="15007"/>
                </a:cubicBezTo>
                <a:cubicBezTo>
                  <a:pt x="11075" y="14990"/>
                  <a:pt x="10889" y="14996"/>
                  <a:pt x="10740" y="14982"/>
                </a:cubicBezTo>
                <a:cubicBezTo>
                  <a:pt x="10681" y="14976"/>
                  <a:pt x="10621" y="14963"/>
                  <a:pt x="10567" y="14957"/>
                </a:cubicBezTo>
                <a:cubicBezTo>
                  <a:pt x="10453" y="14945"/>
                  <a:pt x="10542" y="14957"/>
                  <a:pt x="10492" y="14908"/>
                </a:cubicBezTo>
              </a:path>
            </a:pathLst>
          </a:custGeom>
          <a:noFill/>
          <a:ln cap="sq" w="228600">
            <a:solidFill>
              <a:srgbClr val="ffff00">
                <a:alpha val="33000"/>
              </a:srgbClr>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 name=""/>
          <p:cNvSpPr/>
          <p:nvPr/>
        </p:nvSpPr>
        <p:spPr>
          <a:xfrm>
            <a:off x="4786200" y="5661000"/>
            <a:ext cx="142920" cy="9720"/>
          </a:xfrm>
          <a:custGeom>
            <a:avLst/>
            <a:gdLst/>
            <a:ahLst/>
            <a:rect l="l" t="t" r="r" b="b"/>
            <a:pathLst>
              <a:path w="398" h="26">
                <a:moveTo>
                  <a:pt x="13295" y="15751"/>
                </a:moveTo>
                <a:cubicBezTo>
                  <a:pt x="13357" y="15751"/>
                  <a:pt x="13394" y="15743"/>
                  <a:pt x="13444" y="15726"/>
                </a:cubicBezTo>
                <a:cubicBezTo>
                  <a:pt x="13506" y="15705"/>
                  <a:pt x="13626" y="15726"/>
                  <a:pt x="13692" y="15726"/>
                </a:cubicBezTo>
              </a:path>
            </a:pathLst>
          </a:custGeom>
          <a:noFill/>
          <a:ln cap="sq" w="228600">
            <a:solidFill>
              <a:srgbClr val="ffff00">
                <a:alpha val="33000"/>
              </a:srgbClr>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8" name=""/>
          <p:cNvSpPr/>
          <p:nvPr/>
        </p:nvSpPr>
        <p:spPr>
          <a:xfrm>
            <a:off x="5241960" y="5653080"/>
            <a:ext cx="419040" cy="54000"/>
          </a:xfrm>
          <a:custGeom>
            <a:avLst/>
            <a:gdLst/>
            <a:ahLst/>
            <a:rect l="l" t="t" r="r" b="b"/>
            <a:pathLst>
              <a:path w="1167" h="150">
                <a:moveTo>
                  <a:pt x="14560" y="15850"/>
                </a:moveTo>
                <a:cubicBezTo>
                  <a:pt x="14598" y="15821"/>
                  <a:pt x="14611" y="15825"/>
                  <a:pt x="14660" y="15825"/>
                </a:cubicBezTo>
                <a:cubicBezTo>
                  <a:pt x="14709" y="15825"/>
                  <a:pt x="14715" y="15810"/>
                  <a:pt x="14734" y="15801"/>
                </a:cubicBezTo>
                <a:cubicBezTo>
                  <a:pt x="14845" y="15748"/>
                  <a:pt x="15102" y="15801"/>
                  <a:pt x="15230" y="15801"/>
                </a:cubicBezTo>
                <a:cubicBezTo>
                  <a:pt x="15243" y="15761"/>
                  <a:pt x="15278" y="15776"/>
                  <a:pt x="15329" y="15776"/>
                </a:cubicBezTo>
                <a:cubicBezTo>
                  <a:pt x="15381" y="15776"/>
                  <a:pt x="15421" y="15751"/>
                  <a:pt x="15478" y="15751"/>
                </a:cubicBezTo>
                <a:cubicBezTo>
                  <a:pt x="15528" y="15751"/>
                  <a:pt x="15537" y="15740"/>
                  <a:pt x="15577" y="15726"/>
                </a:cubicBezTo>
                <a:cubicBezTo>
                  <a:pt x="15603" y="15717"/>
                  <a:pt x="15649" y="15726"/>
                  <a:pt x="15677" y="15726"/>
                </a:cubicBezTo>
                <a:cubicBezTo>
                  <a:pt x="15677" y="15693"/>
                  <a:pt x="15685" y="15685"/>
                  <a:pt x="15726" y="15701"/>
                </a:cubicBezTo>
              </a:path>
            </a:pathLst>
          </a:custGeom>
          <a:noFill/>
          <a:ln cap="sq" w="228600">
            <a:solidFill>
              <a:srgbClr val="ffff00">
                <a:alpha val="33000"/>
              </a:srgbClr>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9" name=""/>
          <p:cNvSpPr/>
          <p:nvPr/>
        </p:nvSpPr>
        <p:spPr>
          <a:xfrm>
            <a:off x="5786280" y="5803920"/>
            <a:ext cx="152640" cy="19080"/>
          </a:xfrm>
          <a:custGeom>
            <a:avLst/>
            <a:gdLst/>
            <a:ahLst/>
            <a:rect l="l" t="t" r="r" b="b"/>
            <a:pathLst>
              <a:path w="423" h="51">
                <a:moveTo>
                  <a:pt x="16073" y="16173"/>
                </a:moveTo>
                <a:cubicBezTo>
                  <a:pt x="16119" y="16173"/>
                  <a:pt x="16132" y="16151"/>
                  <a:pt x="16173" y="16148"/>
                </a:cubicBezTo>
                <a:cubicBezTo>
                  <a:pt x="16269" y="16141"/>
                  <a:pt x="16420" y="16180"/>
                  <a:pt x="16495" y="16123"/>
                </a:cubicBezTo>
              </a:path>
            </a:pathLst>
          </a:custGeom>
          <a:noFill/>
          <a:ln cap="sq" w="228600">
            <a:solidFill>
              <a:srgbClr val="ffff00">
                <a:alpha val="33000"/>
              </a:srgbClr>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6715080" y="5749920"/>
            <a:ext cx="196920" cy="36360"/>
          </a:xfrm>
          <a:custGeom>
            <a:avLst/>
            <a:gdLst/>
            <a:ahLst/>
            <a:rect l="l" t="t" r="r" b="b"/>
            <a:pathLst>
              <a:path w="547" h="100">
                <a:moveTo>
                  <a:pt x="18653" y="16073"/>
                </a:moveTo>
                <a:cubicBezTo>
                  <a:pt x="18699" y="16073"/>
                  <a:pt x="18717" y="16056"/>
                  <a:pt x="18752" y="16049"/>
                </a:cubicBezTo>
                <a:cubicBezTo>
                  <a:pt x="18784" y="16042"/>
                  <a:pt x="18843" y="16049"/>
                  <a:pt x="18876" y="16049"/>
                </a:cubicBezTo>
                <a:cubicBezTo>
                  <a:pt x="18889" y="16011"/>
                  <a:pt x="18906" y="16024"/>
                  <a:pt x="18951" y="16024"/>
                </a:cubicBezTo>
                <a:cubicBezTo>
                  <a:pt x="18993" y="16024"/>
                  <a:pt x="19023" y="15999"/>
                  <a:pt x="19075" y="15999"/>
                </a:cubicBezTo>
                <a:cubicBezTo>
                  <a:pt x="19133" y="15999"/>
                  <a:pt x="19155" y="16007"/>
                  <a:pt x="19199" y="15974"/>
                </a:cubicBezTo>
              </a:path>
            </a:pathLst>
          </a:custGeom>
          <a:noFill/>
          <a:ln cap="sq" w="228600">
            <a:solidFill>
              <a:srgbClr val="ffff00">
                <a:alpha val="33000"/>
              </a:srgbClr>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1" name=""/>
          <p:cNvSpPr/>
          <p:nvPr/>
        </p:nvSpPr>
        <p:spPr>
          <a:xfrm>
            <a:off x="7035840" y="5786280"/>
            <a:ext cx="144360" cy="9720"/>
          </a:xfrm>
          <a:custGeom>
            <a:avLst/>
            <a:gdLst/>
            <a:ahLst/>
            <a:rect l="l" t="t" r="r" b="b"/>
            <a:pathLst>
              <a:path w="398" h="26">
                <a:moveTo>
                  <a:pt x="19943" y="16098"/>
                </a:moveTo>
                <a:cubicBezTo>
                  <a:pt x="19868" y="16098"/>
                  <a:pt x="19565" y="16129"/>
                  <a:pt x="19546" y="16073"/>
                </a:cubicBezTo>
              </a:path>
            </a:pathLst>
          </a:custGeom>
          <a:noFill/>
          <a:ln cap="sq" w="228600">
            <a:solidFill>
              <a:srgbClr val="ffff00">
                <a:alpha val="33000"/>
              </a:srgbClr>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Tree>
  </p:cSld>
  <p:transition spd="med" advTm="13000">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0" y="45720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ea typeface="Times New Roman"/>
              </a:rPr>
              <a:t>Cobalah untuk mengerti bahwa pada usia tertentu, kita tidak benar-benar “hidup” lagi, kita hanya “tidak mati”.</a:t>
            </a:r>
            <a:r>
              <a:rPr b="1" lang="en-GB" sz="2800" spc="-1" strike="noStrike">
                <a:solidFill>
                  <a:srgbClr val="0000ff"/>
                </a:solidFill>
                <a:latin typeface="Comic Sans MS"/>
              </a:rPr>
              <a:t> </a:t>
            </a:r>
            <a:endParaRPr b="0" lang="en-US" sz="2800" spc="-1" strike="noStrike">
              <a:solidFill>
                <a:srgbClr val="000000"/>
              </a:solidFill>
              <a:latin typeface="Times New Roman"/>
            </a:endParaRPr>
          </a:p>
        </p:txBody>
      </p:sp>
      <p:sp>
        <p:nvSpPr>
          <p:cNvPr id="93" name=""/>
          <p:cNvSpPr/>
          <p:nvPr/>
        </p:nvSpPr>
        <p:spPr>
          <a:xfrm>
            <a:off x="4857840" y="1152360"/>
            <a:ext cx="3232080" cy="17640"/>
          </a:xfrm>
          <a:custGeom>
            <a:avLst/>
            <a:gdLst/>
            <a:ahLst/>
            <a:rect l="l" t="t" r="r" b="b"/>
            <a:pathLst>
              <a:path w="8980" h="50">
                <a:moveTo>
                  <a:pt x="13494" y="3200"/>
                </a:moveTo>
                <a:cubicBezTo>
                  <a:pt x="13786" y="3200"/>
                  <a:pt x="14072" y="3221"/>
                  <a:pt x="14362" y="3225"/>
                </a:cubicBezTo>
                <a:cubicBezTo>
                  <a:pt x="16977" y="3266"/>
                  <a:pt x="19679" y="3103"/>
                  <a:pt x="22250" y="3249"/>
                </a:cubicBezTo>
                <a:cubicBezTo>
                  <a:pt x="22324" y="3253"/>
                  <a:pt x="22399" y="3246"/>
                  <a:pt x="22473" y="3249"/>
                </a:cubicBezTo>
              </a:path>
            </a:pathLst>
          </a:custGeom>
          <a:noFill/>
          <a:ln cap="sq" w="228600">
            <a:solidFill>
              <a:srgbClr val="ffff00">
                <a:alpha val="33000"/>
              </a:srgbClr>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 name=""/>
          <p:cNvSpPr/>
          <p:nvPr/>
        </p:nvSpPr>
        <p:spPr>
          <a:xfrm>
            <a:off x="285840" y="687240"/>
            <a:ext cx="3116160" cy="98640"/>
          </a:xfrm>
          <a:custGeom>
            <a:avLst/>
            <a:gdLst/>
            <a:ahLst/>
            <a:rect l="l" t="t" r="r" b="b"/>
            <a:pathLst>
              <a:path w="8658" h="274">
                <a:moveTo>
                  <a:pt x="794" y="1910"/>
                </a:moveTo>
                <a:cubicBezTo>
                  <a:pt x="1196" y="1910"/>
                  <a:pt x="1720" y="1833"/>
                  <a:pt x="2108" y="1935"/>
                </a:cubicBezTo>
                <a:cubicBezTo>
                  <a:pt x="2176" y="1953"/>
                  <a:pt x="2243" y="1964"/>
                  <a:pt x="2307" y="1984"/>
                </a:cubicBezTo>
                <a:cubicBezTo>
                  <a:pt x="2348" y="1997"/>
                  <a:pt x="2387" y="2020"/>
                  <a:pt x="2431" y="2034"/>
                </a:cubicBezTo>
                <a:cubicBezTo>
                  <a:pt x="2505" y="2057"/>
                  <a:pt x="2576" y="2078"/>
                  <a:pt x="2654" y="2084"/>
                </a:cubicBezTo>
                <a:cubicBezTo>
                  <a:pt x="4550" y="2233"/>
                  <a:pt x="6535" y="1842"/>
                  <a:pt x="8409" y="2133"/>
                </a:cubicBezTo>
                <a:cubicBezTo>
                  <a:pt x="8524" y="2151"/>
                  <a:pt x="8642" y="2176"/>
                  <a:pt x="8756" y="2183"/>
                </a:cubicBezTo>
                <a:cubicBezTo>
                  <a:pt x="8986" y="2196"/>
                  <a:pt x="9221" y="2183"/>
                  <a:pt x="9451" y="2183"/>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554280" y="714240"/>
            <a:ext cx="5276880" cy="98640"/>
          </a:xfrm>
          <a:custGeom>
            <a:avLst/>
            <a:gdLst/>
            <a:ahLst/>
            <a:rect l="l" t="t" r="r" b="b"/>
            <a:pathLst>
              <a:path w="14661" h="274">
                <a:moveTo>
                  <a:pt x="9872" y="1984"/>
                </a:moveTo>
                <a:cubicBezTo>
                  <a:pt x="9954" y="2001"/>
                  <a:pt x="10037" y="2016"/>
                  <a:pt x="10120" y="2034"/>
                </a:cubicBezTo>
                <a:cubicBezTo>
                  <a:pt x="10198" y="2051"/>
                  <a:pt x="10217" y="2077"/>
                  <a:pt x="10294" y="2084"/>
                </a:cubicBezTo>
                <a:cubicBezTo>
                  <a:pt x="11557" y="2197"/>
                  <a:pt x="12963" y="2101"/>
                  <a:pt x="14188" y="2059"/>
                </a:cubicBezTo>
                <a:cubicBezTo>
                  <a:pt x="15577" y="2011"/>
                  <a:pt x="16971" y="2084"/>
                  <a:pt x="18355" y="2084"/>
                </a:cubicBezTo>
                <a:cubicBezTo>
                  <a:pt x="18783" y="2084"/>
                  <a:pt x="19184" y="2110"/>
                  <a:pt x="19596" y="2158"/>
                </a:cubicBezTo>
                <a:cubicBezTo>
                  <a:pt x="19780" y="2179"/>
                  <a:pt x="19957" y="2208"/>
                  <a:pt x="20141" y="2232"/>
                </a:cubicBezTo>
                <a:cubicBezTo>
                  <a:pt x="20254" y="2247"/>
                  <a:pt x="20377" y="2252"/>
                  <a:pt x="20489" y="2257"/>
                </a:cubicBezTo>
                <a:cubicBezTo>
                  <a:pt x="20904" y="2276"/>
                  <a:pt x="21343" y="2257"/>
                  <a:pt x="21729" y="2208"/>
                </a:cubicBezTo>
                <a:cubicBezTo>
                  <a:pt x="21837" y="2194"/>
                  <a:pt x="21931" y="2176"/>
                  <a:pt x="22027" y="2158"/>
                </a:cubicBezTo>
                <a:cubicBezTo>
                  <a:pt x="22094" y="2145"/>
                  <a:pt x="22157" y="2143"/>
                  <a:pt x="22225" y="2133"/>
                </a:cubicBezTo>
                <a:cubicBezTo>
                  <a:pt x="22340" y="2117"/>
                  <a:pt x="22451" y="2110"/>
                  <a:pt x="22572" y="2108"/>
                </a:cubicBezTo>
                <a:cubicBezTo>
                  <a:pt x="23225" y="2095"/>
                  <a:pt x="23879" y="2108"/>
                  <a:pt x="24532" y="2108"/>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advTm="6000">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0" y="4267080"/>
            <a:ext cx="914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Suatu hari kelak kau akan mengerti bahwa di samping semua kesalahan yang aku buat, aku selalu ingin apa yang terbaik bagimu dan bahwa aku siapkan dasar bagi perkembangan dan kehidupanmu kelak.</a:t>
            </a:r>
            <a:r>
              <a:rPr b="1" lang="en-GB" sz="2400" spc="-1" strike="noStrike">
                <a:solidFill>
                  <a:srgbClr val="ffffff"/>
                </a:solidFill>
                <a:latin typeface="Comic Sans MS"/>
              </a:rPr>
              <a:t> </a:t>
            </a:r>
            <a:endParaRPr b="0" lang="en-US" sz="2400" spc="-1" strike="noStrike">
              <a:solidFill>
                <a:srgbClr val="000000"/>
              </a:solidFill>
              <a:latin typeface="Times New Roman"/>
            </a:endParaRPr>
          </a:p>
        </p:txBody>
      </p:sp>
      <p:sp>
        <p:nvSpPr>
          <p:cNvPr id="97" name=""/>
          <p:cNvSpPr/>
          <p:nvPr/>
        </p:nvSpPr>
        <p:spPr>
          <a:xfrm>
            <a:off x="142920" y="4510080"/>
            <a:ext cx="1187280" cy="81000"/>
          </a:xfrm>
          <a:custGeom>
            <a:avLst/>
            <a:gdLst/>
            <a:ahLst/>
            <a:rect l="l" t="t" r="r" b="b"/>
            <a:pathLst>
              <a:path w="3300" h="225">
                <a:moveTo>
                  <a:pt x="397" y="12526"/>
                </a:moveTo>
                <a:cubicBezTo>
                  <a:pt x="618" y="12526"/>
                  <a:pt x="826" y="12554"/>
                  <a:pt x="1042" y="12601"/>
                </a:cubicBezTo>
                <a:cubicBezTo>
                  <a:pt x="1159" y="12626"/>
                  <a:pt x="1274" y="12652"/>
                  <a:pt x="1389" y="12675"/>
                </a:cubicBezTo>
                <a:cubicBezTo>
                  <a:pt x="1574" y="12712"/>
                  <a:pt x="1714" y="12750"/>
                  <a:pt x="1910" y="12750"/>
                </a:cubicBezTo>
                <a:cubicBezTo>
                  <a:pt x="2151" y="12750"/>
                  <a:pt x="2397" y="12754"/>
                  <a:pt x="2629" y="12725"/>
                </a:cubicBezTo>
                <a:cubicBezTo>
                  <a:pt x="2830" y="12700"/>
                  <a:pt x="3061" y="12719"/>
                  <a:pt x="3249" y="12700"/>
                </a:cubicBezTo>
                <a:cubicBezTo>
                  <a:pt x="3307" y="12694"/>
                  <a:pt x="3342" y="12694"/>
                  <a:pt x="3398" y="12675"/>
                </a:cubicBezTo>
                <a:cubicBezTo>
                  <a:pt x="3464" y="12653"/>
                  <a:pt x="3555" y="12634"/>
                  <a:pt x="3621" y="12626"/>
                </a:cubicBezTo>
                <a:cubicBezTo>
                  <a:pt x="3661" y="12621"/>
                  <a:pt x="3686" y="12605"/>
                  <a:pt x="3696" y="12601"/>
                </a:cubicBezTo>
              </a:path>
            </a:pathLst>
          </a:custGeom>
          <a:noFill/>
          <a:ln cap="sq" w="228600">
            <a:solidFill>
              <a:srgbClr val="ffff00">
                <a:alpha val="33000"/>
              </a:srgbClr>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8" name=""/>
          <p:cNvSpPr/>
          <p:nvPr/>
        </p:nvSpPr>
        <p:spPr>
          <a:xfrm>
            <a:off x="1643040" y="4518000"/>
            <a:ext cx="5303880" cy="36360"/>
          </a:xfrm>
          <a:custGeom>
            <a:avLst/>
            <a:gdLst/>
            <a:ahLst/>
            <a:rect l="l" t="t" r="r" b="b"/>
            <a:pathLst>
              <a:path w="14735" h="100">
                <a:moveTo>
                  <a:pt x="4564" y="12650"/>
                </a:moveTo>
                <a:cubicBezTo>
                  <a:pt x="4588" y="12645"/>
                  <a:pt x="4610" y="12601"/>
                  <a:pt x="4614" y="12601"/>
                </a:cubicBezTo>
                <a:cubicBezTo>
                  <a:pt x="6422" y="12391"/>
                  <a:pt x="8388" y="12607"/>
                  <a:pt x="10195" y="12551"/>
                </a:cubicBezTo>
                <a:cubicBezTo>
                  <a:pt x="11784" y="12501"/>
                  <a:pt x="13435" y="12489"/>
                  <a:pt x="15007" y="12601"/>
                </a:cubicBezTo>
                <a:cubicBezTo>
                  <a:pt x="15418" y="12630"/>
                  <a:pt x="15830" y="12570"/>
                  <a:pt x="16222" y="12551"/>
                </a:cubicBezTo>
                <a:cubicBezTo>
                  <a:pt x="17241" y="12501"/>
                  <a:pt x="18278" y="12551"/>
                  <a:pt x="19298" y="12551"/>
                </a:cubicBezTo>
              </a:path>
            </a:pathLst>
          </a:custGeom>
          <a:noFill/>
          <a:ln cap="sq" w="228600">
            <a:solidFill>
              <a:srgbClr val="ffff00">
                <a:alpha val="33000"/>
              </a:srgbClr>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9" name=""/>
          <p:cNvSpPr/>
          <p:nvPr/>
        </p:nvSpPr>
        <p:spPr>
          <a:xfrm>
            <a:off x="6946920" y="4473720"/>
            <a:ext cx="2019240" cy="44280"/>
          </a:xfrm>
          <a:custGeom>
            <a:avLst/>
            <a:gdLst/>
            <a:ahLst/>
            <a:rect l="l" t="t" r="r" b="b"/>
            <a:pathLst>
              <a:path w="5607" h="125">
                <a:moveTo>
                  <a:pt x="19298" y="12427"/>
                </a:moveTo>
                <a:cubicBezTo>
                  <a:pt x="19591" y="12427"/>
                  <a:pt x="19877" y="12416"/>
                  <a:pt x="20166" y="12477"/>
                </a:cubicBezTo>
                <a:cubicBezTo>
                  <a:pt x="20277" y="12500"/>
                  <a:pt x="20376" y="12523"/>
                  <a:pt x="20489" y="12526"/>
                </a:cubicBezTo>
                <a:cubicBezTo>
                  <a:pt x="20656" y="12530"/>
                  <a:pt x="20823" y="12541"/>
                  <a:pt x="20985" y="12551"/>
                </a:cubicBezTo>
                <a:cubicBezTo>
                  <a:pt x="21857" y="12605"/>
                  <a:pt x="24190" y="12949"/>
                  <a:pt x="24879" y="12526"/>
                </a:cubicBezTo>
                <a:cubicBezTo>
                  <a:pt x="24902" y="12504"/>
                  <a:pt x="24910" y="12499"/>
                  <a:pt x="24904" y="12477"/>
                </a:cubicBezTo>
              </a:path>
            </a:pathLst>
          </a:custGeom>
          <a:noFill/>
          <a:ln cap="sq" w="228600">
            <a:solidFill>
              <a:srgbClr val="ffff00">
                <a:alpha val="33000"/>
              </a:srgbClr>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0" name=""/>
          <p:cNvSpPr/>
          <p:nvPr/>
        </p:nvSpPr>
        <p:spPr>
          <a:xfrm>
            <a:off x="955800" y="4822920"/>
            <a:ext cx="7367400" cy="79200"/>
          </a:xfrm>
          <a:custGeom>
            <a:avLst/>
            <a:gdLst/>
            <a:ahLst/>
            <a:rect l="l" t="t" r="r" b="b"/>
            <a:pathLst>
              <a:path w="20465" h="224">
                <a:moveTo>
                  <a:pt x="2654" y="13494"/>
                </a:moveTo>
                <a:cubicBezTo>
                  <a:pt x="2738" y="13511"/>
                  <a:pt x="2798" y="13557"/>
                  <a:pt x="2877" y="13568"/>
                </a:cubicBezTo>
                <a:cubicBezTo>
                  <a:pt x="2962" y="13580"/>
                  <a:pt x="3037" y="13586"/>
                  <a:pt x="3125" y="13593"/>
                </a:cubicBezTo>
                <a:cubicBezTo>
                  <a:pt x="3739" y="13645"/>
                  <a:pt x="4396" y="13572"/>
                  <a:pt x="4986" y="13543"/>
                </a:cubicBezTo>
                <a:cubicBezTo>
                  <a:pt x="10364" y="13274"/>
                  <a:pt x="15999" y="13343"/>
                  <a:pt x="21357" y="13618"/>
                </a:cubicBezTo>
                <a:cubicBezTo>
                  <a:pt x="21704" y="13636"/>
                  <a:pt x="22117" y="13657"/>
                  <a:pt x="22448" y="13593"/>
                </a:cubicBezTo>
                <a:cubicBezTo>
                  <a:pt x="22490" y="13585"/>
                  <a:pt x="22587" y="13570"/>
                  <a:pt x="22597" y="13568"/>
                </a:cubicBezTo>
                <a:cubicBezTo>
                  <a:pt x="22695" y="13547"/>
                  <a:pt x="22796" y="13499"/>
                  <a:pt x="22895" y="13469"/>
                </a:cubicBezTo>
                <a:cubicBezTo>
                  <a:pt x="22964" y="13448"/>
                  <a:pt x="23025" y="13415"/>
                  <a:pt x="23093" y="13395"/>
                </a:cubicBezTo>
                <a:cubicBezTo>
                  <a:pt x="23101" y="13395"/>
                  <a:pt x="23110" y="13395"/>
                  <a:pt x="23118" y="13395"/>
                </a:cubicBezTo>
              </a:path>
            </a:pathLst>
          </a:custGeom>
          <a:noFill/>
          <a:ln cap="sq" w="228600">
            <a:solidFill>
              <a:srgbClr val="ffff00">
                <a:alpha val="33000"/>
              </a:srgbClr>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Tree>
  </p:cSld>
  <p:transition spd="med" advTm="4000">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0" y="1447920"/>
            <a:ext cx="91440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Kau tak usah merasa sedih, tidak beruntung atau gagal di hadapanku melihat kondisiku dan usia ku yang sudah bertambah tua.</a:t>
            </a:r>
            <a:br>
              <a:rPr sz="2400"/>
            </a:br>
            <a:br>
              <a:rPr sz="2400"/>
            </a:br>
            <a:r>
              <a:rPr b="1" lang="en-US" sz="2400" spc="-1" strike="noStrike">
                <a:solidFill>
                  <a:srgbClr val="000000"/>
                </a:solidFill>
                <a:latin typeface="Comic Sans MS"/>
                <a:ea typeface="Times New Roman"/>
              </a:rPr>
              <a:t>Kau harus ada didekatku, mencoba mengerti aku bahwa hidupku adalah bagimu, bagi kesuksesanmu, seperti apa yang kulakukan pada saat kau lahir.</a:t>
            </a:r>
            <a:r>
              <a:rPr b="1" lang="en-GB"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102" name=""/>
          <p:cNvSpPr/>
          <p:nvPr/>
        </p:nvSpPr>
        <p:spPr>
          <a:xfrm>
            <a:off x="276120" y="2411280"/>
            <a:ext cx="3832200" cy="44640"/>
          </a:xfrm>
          <a:custGeom>
            <a:avLst/>
            <a:gdLst/>
            <a:ahLst/>
            <a:rect l="l" t="t" r="r" b="b"/>
            <a:pathLst>
              <a:path w="10642" h="125">
                <a:moveTo>
                  <a:pt x="769" y="6697"/>
                </a:moveTo>
                <a:cubicBezTo>
                  <a:pt x="1162" y="6697"/>
                  <a:pt x="1585" y="6676"/>
                  <a:pt x="1960" y="6722"/>
                </a:cubicBezTo>
                <a:cubicBezTo>
                  <a:pt x="2044" y="6732"/>
                  <a:pt x="2125" y="6736"/>
                  <a:pt x="2208" y="6747"/>
                </a:cubicBezTo>
                <a:cubicBezTo>
                  <a:pt x="2286" y="6757"/>
                  <a:pt x="2351" y="6768"/>
                  <a:pt x="2431" y="6772"/>
                </a:cubicBezTo>
                <a:cubicBezTo>
                  <a:pt x="4310" y="6873"/>
                  <a:pt x="6235" y="6821"/>
                  <a:pt x="8111" y="6821"/>
                </a:cubicBezTo>
                <a:cubicBezTo>
                  <a:pt x="9211" y="6821"/>
                  <a:pt x="10310" y="6821"/>
                  <a:pt x="11410" y="6821"/>
                </a:cubicBezTo>
              </a:path>
            </a:pathLst>
          </a:custGeom>
          <a:noFill/>
          <a:ln cap="sq" w="228600">
            <a:solidFill>
              <a:srgbClr val="ffff00">
                <a:alpha val="33000"/>
              </a:srgbClr>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3" name=""/>
          <p:cNvSpPr/>
          <p:nvPr/>
        </p:nvSpPr>
        <p:spPr>
          <a:xfrm>
            <a:off x="4367160" y="2438280"/>
            <a:ext cx="4510080" cy="17640"/>
          </a:xfrm>
          <a:custGeom>
            <a:avLst/>
            <a:gdLst/>
            <a:ahLst/>
            <a:rect l="l" t="t" r="r" b="b"/>
            <a:pathLst>
              <a:path w="12528" h="50">
                <a:moveTo>
                  <a:pt x="12129" y="6821"/>
                </a:moveTo>
                <a:cubicBezTo>
                  <a:pt x="12943" y="6821"/>
                  <a:pt x="13758" y="6806"/>
                  <a:pt x="14560" y="6772"/>
                </a:cubicBezTo>
                <a:cubicBezTo>
                  <a:pt x="17670" y="6638"/>
                  <a:pt x="21139" y="6455"/>
                  <a:pt x="24234" y="6796"/>
                </a:cubicBezTo>
                <a:cubicBezTo>
                  <a:pt x="24279" y="6801"/>
                  <a:pt x="24350" y="6816"/>
                  <a:pt x="24408" y="6821"/>
                </a:cubicBezTo>
                <a:cubicBezTo>
                  <a:pt x="24490" y="6827"/>
                  <a:pt x="24574" y="6821"/>
                  <a:pt x="24656" y="6821"/>
                </a:cubicBezTo>
              </a:path>
            </a:pathLst>
          </a:custGeom>
          <a:noFill/>
          <a:ln cap="sq" w="228600">
            <a:solidFill>
              <a:srgbClr val="ffff00">
                <a:alpha val="33000"/>
              </a:srgbClr>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 name=""/>
          <p:cNvSpPr/>
          <p:nvPr/>
        </p:nvSpPr>
        <p:spPr>
          <a:xfrm>
            <a:off x="357120" y="2357280"/>
            <a:ext cx="3759120" cy="54000"/>
          </a:xfrm>
          <a:custGeom>
            <a:avLst/>
            <a:gdLst/>
            <a:ahLst/>
            <a:rect l="l" t="t" r="r" b="b"/>
            <a:pathLst>
              <a:path w="10444" h="150">
                <a:moveTo>
                  <a:pt x="992" y="6548"/>
                </a:moveTo>
                <a:cubicBezTo>
                  <a:pt x="1052" y="6558"/>
                  <a:pt x="1107" y="6561"/>
                  <a:pt x="1166" y="6573"/>
                </a:cubicBezTo>
                <a:cubicBezTo>
                  <a:pt x="1290" y="6598"/>
                  <a:pt x="1412" y="6607"/>
                  <a:pt x="1538" y="6623"/>
                </a:cubicBezTo>
                <a:cubicBezTo>
                  <a:pt x="1743" y="6649"/>
                  <a:pt x="1947" y="6648"/>
                  <a:pt x="2158" y="6648"/>
                </a:cubicBezTo>
                <a:cubicBezTo>
                  <a:pt x="4723" y="6648"/>
                  <a:pt x="7315" y="6541"/>
                  <a:pt x="9872" y="6672"/>
                </a:cubicBezTo>
                <a:cubicBezTo>
                  <a:pt x="10088" y="6683"/>
                  <a:pt x="10300" y="6694"/>
                  <a:pt x="10517" y="6697"/>
                </a:cubicBezTo>
                <a:cubicBezTo>
                  <a:pt x="10823" y="6701"/>
                  <a:pt x="11129" y="6697"/>
                  <a:pt x="11435" y="6697"/>
                </a:cubicBezTo>
              </a:path>
            </a:pathLst>
          </a:custGeom>
          <a:noFill/>
          <a:ln cap="sq" w="228600">
            <a:solidFill>
              <a:srgbClr val="ffff00">
                <a:alpha val="33000"/>
              </a:srgbClr>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5" name=""/>
          <p:cNvSpPr/>
          <p:nvPr/>
        </p:nvSpPr>
        <p:spPr>
          <a:xfrm>
            <a:off x="4357800" y="2394000"/>
            <a:ext cx="446040" cy="44280"/>
          </a:xfrm>
          <a:custGeom>
            <a:avLst/>
            <a:gdLst/>
            <a:ahLst/>
            <a:rect l="l" t="t" r="r" b="b"/>
            <a:pathLst>
              <a:path w="1241" h="125">
                <a:moveTo>
                  <a:pt x="12105" y="6648"/>
                </a:moveTo>
                <a:cubicBezTo>
                  <a:pt x="12163" y="6648"/>
                  <a:pt x="12199" y="6653"/>
                  <a:pt x="12254" y="6672"/>
                </a:cubicBezTo>
                <a:cubicBezTo>
                  <a:pt x="12347" y="6704"/>
                  <a:pt x="12432" y="6714"/>
                  <a:pt x="12526" y="6747"/>
                </a:cubicBezTo>
                <a:cubicBezTo>
                  <a:pt x="12611" y="6777"/>
                  <a:pt x="12685" y="6772"/>
                  <a:pt x="12774" y="6772"/>
                </a:cubicBezTo>
                <a:cubicBezTo>
                  <a:pt x="12949" y="6772"/>
                  <a:pt x="13129" y="6783"/>
                  <a:pt x="13295" y="6747"/>
                </a:cubicBezTo>
                <a:cubicBezTo>
                  <a:pt x="13320" y="6747"/>
                  <a:pt x="13328" y="6747"/>
                  <a:pt x="13345" y="6747"/>
                </a:cubicBezTo>
              </a:path>
            </a:pathLst>
          </a:custGeom>
          <a:noFill/>
          <a:ln cap="sq" w="228600">
            <a:solidFill>
              <a:srgbClr val="ffff00">
                <a:alpha val="33000"/>
              </a:srgbClr>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6" name=""/>
          <p:cNvSpPr/>
          <p:nvPr/>
        </p:nvSpPr>
        <p:spPr>
          <a:xfrm>
            <a:off x="4973760" y="2411280"/>
            <a:ext cx="233280" cy="9720"/>
          </a:xfrm>
          <a:custGeom>
            <a:avLst/>
            <a:gdLst/>
            <a:ahLst/>
            <a:rect l="l" t="t" r="r" b="b"/>
            <a:pathLst>
              <a:path w="646" h="26">
                <a:moveTo>
                  <a:pt x="13816" y="6722"/>
                </a:moveTo>
                <a:cubicBezTo>
                  <a:pt x="13949" y="6722"/>
                  <a:pt x="14096" y="6736"/>
                  <a:pt x="14213" y="6697"/>
                </a:cubicBezTo>
                <a:cubicBezTo>
                  <a:pt x="14280" y="6675"/>
                  <a:pt x="14389" y="6697"/>
                  <a:pt x="14461" y="6697"/>
                </a:cubicBezTo>
              </a:path>
            </a:pathLst>
          </a:custGeom>
          <a:noFill/>
          <a:ln cap="sq" w="228600">
            <a:solidFill>
              <a:srgbClr val="ffff00">
                <a:alpha val="33000"/>
              </a:srgbClr>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 name=""/>
          <p:cNvSpPr/>
          <p:nvPr/>
        </p:nvSpPr>
        <p:spPr>
          <a:xfrm>
            <a:off x="5429160" y="2419200"/>
            <a:ext cx="1544760" cy="73080"/>
          </a:xfrm>
          <a:custGeom>
            <a:avLst/>
            <a:gdLst/>
            <a:ahLst/>
            <a:rect l="l" t="t" r="r" b="b"/>
            <a:pathLst>
              <a:path w="4292" h="200">
                <a:moveTo>
                  <a:pt x="15081" y="6722"/>
                </a:moveTo>
                <a:cubicBezTo>
                  <a:pt x="16503" y="6722"/>
                  <a:pt x="17926" y="6722"/>
                  <a:pt x="19348" y="6722"/>
                </a:cubicBezTo>
                <a:cubicBezTo>
                  <a:pt x="19316" y="6727"/>
                  <a:pt x="19330" y="6715"/>
                  <a:pt x="19298" y="6722"/>
                </a:cubicBezTo>
                <a:cubicBezTo>
                  <a:pt x="19154" y="6754"/>
                  <a:pt x="19024" y="6770"/>
                  <a:pt x="18876" y="6796"/>
                </a:cubicBezTo>
                <a:cubicBezTo>
                  <a:pt x="18719" y="6824"/>
                  <a:pt x="18561" y="6860"/>
                  <a:pt x="18405" y="6896"/>
                </a:cubicBezTo>
                <a:cubicBezTo>
                  <a:pt x="18279" y="6925"/>
                  <a:pt x="18162" y="6921"/>
                  <a:pt x="18033" y="6921"/>
                </a:cubicBezTo>
                <a:cubicBezTo>
                  <a:pt x="17895" y="6921"/>
                  <a:pt x="15819" y="7073"/>
                  <a:pt x="15751" y="6896"/>
                </a:cubicBezTo>
                <a:cubicBezTo>
                  <a:pt x="15751" y="6868"/>
                  <a:pt x="15753" y="6857"/>
                  <a:pt x="15776" y="6846"/>
                </a:cubicBezTo>
              </a:path>
            </a:pathLst>
          </a:custGeom>
          <a:noFill/>
          <a:ln cap="sq" w="228600">
            <a:solidFill>
              <a:srgbClr val="ffff00">
                <a:alpha val="33000"/>
              </a:srgbClr>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Tree>
  </p:cSld>
  <p:transition spd="med" advTm="12000">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0" y="304920"/>
            <a:ext cx="91440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ea typeface="Times New Roman"/>
              </a:rPr>
              <a:t>Bantulah aku untuk berjalan, bantulah aku pada akhir hidupku dengan cinta dan kesabar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ea typeface="Times New Roman"/>
              </a:rPr>
              <a:t>Satu hal yang membuatku harus berterimakasih padamu adalah senyum dan kecintanmu padaku.</a:t>
            </a:r>
            <a:endParaRPr b="0" lang="en-US" sz="2800" spc="-1" strike="noStrike">
              <a:solidFill>
                <a:srgbClr val="000000"/>
              </a:solidFill>
              <a:latin typeface="Times New Roman"/>
            </a:endParaRPr>
          </a:p>
        </p:txBody>
      </p:sp>
      <p:sp>
        <p:nvSpPr>
          <p:cNvPr id="109" name=""/>
          <p:cNvSpPr/>
          <p:nvPr/>
        </p:nvSpPr>
        <p:spPr>
          <a:xfrm>
            <a:off x="982800" y="571680"/>
            <a:ext cx="2795400" cy="26640"/>
          </a:xfrm>
          <a:custGeom>
            <a:avLst/>
            <a:gdLst/>
            <a:ahLst/>
            <a:rect l="l" t="t" r="r" b="b"/>
            <a:pathLst>
              <a:path w="7764" h="75">
                <a:moveTo>
                  <a:pt x="2729" y="1588"/>
                </a:moveTo>
                <a:cubicBezTo>
                  <a:pt x="4438" y="1588"/>
                  <a:pt x="6159" y="1545"/>
                  <a:pt x="7863" y="1612"/>
                </a:cubicBezTo>
                <a:cubicBezTo>
                  <a:pt x="8006" y="1618"/>
                  <a:pt x="8143" y="1630"/>
                  <a:pt x="8285" y="1637"/>
                </a:cubicBezTo>
                <a:cubicBezTo>
                  <a:pt x="8778" y="1662"/>
                  <a:pt x="9284" y="1662"/>
                  <a:pt x="9773" y="1662"/>
                </a:cubicBezTo>
                <a:cubicBezTo>
                  <a:pt x="10013" y="1662"/>
                  <a:pt x="10252" y="1662"/>
                  <a:pt x="10492" y="1662"/>
                </a:cubicBezTo>
              </a:path>
            </a:pathLst>
          </a:custGeom>
          <a:noFill/>
          <a:ln cap="sq" w="228600">
            <a:solidFill>
              <a:srgbClr val="ffff00">
                <a:alpha val="33000"/>
              </a:srgbClr>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10" name=""/>
          <p:cNvSpPr/>
          <p:nvPr/>
        </p:nvSpPr>
        <p:spPr>
          <a:xfrm>
            <a:off x="4259160" y="561960"/>
            <a:ext cx="3911760" cy="19080"/>
          </a:xfrm>
          <a:custGeom>
            <a:avLst/>
            <a:gdLst/>
            <a:ahLst/>
            <a:rect l="l" t="t" r="r" b="b"/>
            <a:pathLst>
              <a:path w="10865" h="50">
                <a:moveTo>
                  <a:pt x="11832" y="1588"/>
                </a:moveTo>
                <a:cubicBezTo>
                  <a:pt x="12642" y="1588"/>
                  <a:pt x="13459" y="1582"/>
                  <a:pt x="14263" y="1612"/>
                </a:cubicBezTo>
                <a:cubicBezTo>
                  <a:pt x="15891" y="1672"/>
                  <a:pt x="17562" y="1635"/>
                  <a:pt x="19174" y="1563"/>
                </a:cubicBezTo>
                <a:cubicBezTo>
                  <a:pt x="19569" y="1545"/>
                  <a:pt x="19953" y="1578"/>
                  <a:pt x="20340" y="1612"/>
                </a:cubicBezTo>
                <a:cubicBezTo>
                  <a:pt x="21112" y="1680"/>
                  <a:pt x="21920" y="1612"/>
                  <a:pt x="22696" y="1612"/>
                </a:cubicBezTo>
              </a:path>
            </a:pathLst>
          </a:custGeom>
          <a:noFill/>
          <a:ln cap="sq" w="228600">
            <a:solidFill>
              <a:srgbClr val="ffff00">
                <a:alpha val="33000"/>
              </a:srgbClr>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 name=""/>
          <p:cNvSpPr/>
          <p:nvPr/>
        </p:nvSpPr>
        <p:spPr>
          <a:xfrm>
            <a:off x="177840" y="1027080"/>
            <a:ext cx="3903480" cy="17640"/>
          </a:xfrm>
          <a:custGeom>
            <a:avLst/>
            <a:gdLst/>
            <a:ahLst/>
            <a:rect l="l" t="t" r="r" b="b"/>
            <a:pathLst>
              <a:path w="10841" h="50">
                <a:moveTo>
                  <a:pt x="496" y="2853"/>
                </a:moveTo>
                <a:cubicBezTo>
                  <a:pt x="653" y="2868"/>
                  <a:pt x="810" y="2893"/>
                  <a:pt x="967" y="2902"/>
                </a:cubicBezTo>
                <a:cubicBezTo>
                  <a:pt x="4329" y="3102"/>
                  <a:pt x="7919" y="3059"/>
                  <a:pt x="11261" y="2853"/>
                </a:cubicBezTo>
                <a:cubicBezTo>
                  <a:pt x="11286" y="2851"/>
                  <a:pt x="11311" y="2855"/>
                  <a:pt x="11336" y="2853"/>
                </a:cubicBezTo>
              </a:path>
            </a:pathLst>
          </a:custGeom>
          <a:noFill/>
          <a:ln cap="sq" w="228600">
            <a:solidFill>
              <a:srgbClr val="ffff00">
                <a:alpha val="33000"/>
              </a:srgbClr>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 name=""/>
          <p:cNvSpPr/>
          <p:nvPr/>
        </p:nvSpPr>
        <p:spPr>
          <a:xfrm>
            <a:off x="4411800" y="1000080"/>
            <a:ext cx="4473360" cy="27000"/>
          </a:xfrm>
          <a:custGeom>
            <a:avLst/>
            <a:gdLst/>
            <a:ahLst/>
            <a:rect l="l" t="t" r="r" b="b"/>
            <a:pathLst>
              <a:path w="12428" h="76">
                <a:moveTo>
                  <a:pt x="12254" y="2803"/>
                </a:moveTo>
                <a:cubicBezTo>
                  <a:pt x="12427" y="2791"/>
                  <a:pt x="12596" y="2780"/>
                  <a:pt x="12774" y="2778"/>
                </a:cubicBezTo>
                <a:cubicBezTo>
                  <a:pt x="13236" y="2773"/>
                  <a:pt x="13707" y="2769"/>
                  <a:pt x="14163" y="2803"/>
                </a:cubicBezTo>
                <a:cubicBezTo>
                  <a:pt x="14304" y="2813"/>
                  <a:pt x="14444" y="2821"/>
                  <a:pt x="14585" y="2828"/>
                </a:cubicBezTo>
                <a:cubicBezTo>
                  <a:pt x="16189" y="2909"/>
                  <a:pt x="17819" y="2853"/>
                  <a:pt x="19422" y="2853"/>
                </a:cubicBezTo>
                <a:cubicBezTo>
                  <a:pt x="21051" y="2853"/>
                  <a:pt x="22683" y="2828"/>
                  <a:pt x="24309" y="2828"/>
                </a:cubicBezTo>
                <a:cubicBezTo>
                  <a:pt x="24433" y="2828"/>
                  <a:pt x="24557" y="2828"/>
                  <a:pt x="24681" y="2828"/>
                </a:cubicBezTo>
              </a:path>
            </a:pathLst>
          </a:custGeom>
          <a:noFill/>
          <a:ln cap="sq" w="228600">
            <a:solidFill>
              <a:srgbClr val="ffff00">
                <a:alpha val="33000"/>
              </a:srgbClr>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 name=""/>
          <p:cNvSpPr/>
          <p:nvPr/>
        </p:nvSpPr>
        <p:spPr>
          <a:xfrm>
            <a:off x="1428840" y="1419120"/>
            <a:ext cx="6473880" cy="54000"/>
          </a:xfrm>
          <a:custGeom>
            <a:avLst/>
            <a:gdLst/>
            <a:ahLst/>
            <a:rect l="l" t="t" r="r" b="b"/>
            <a:pathLst>
              <a:path w="17984" h="150">
                <a:moveTo>
                  <a:pt x="3969" y="4018"/>
                </a:moveTo>
                <a:cubicBezTo>
                  <a:pt x="5897" y="4018"/>
                  <a:pt x="7821" y="4043"/>
                  <a:pt x="9748" y="4043"/>
                </a:cubicBezTo>
                <a:cubicBezTo>
                  <a:pt x="11238" y="4043"/>
                  <a:pt x="12732" y="4030"/>
                  <a:pt x="14213" y="3994"/>
                </a:cubicBezTo>
                <a:cubicBezTo>
                  <a:pt x="14488" y="3987"/>
                  <a:pt x="14759" y="3991"/>
                  <a:pt x="15032" y="3969"/>
                </a:cubicBezTo>
                <a:cubicBezTo>
                  <a:pt x="15158" y="3959"/>
                  <a:pt x="15277" y="3948"/>
                  <a:pt x="15404" y="3944"/>
                </a:cubicBezTo>
                <a:cubicBezTo>
                  <a:pt x="16813" y="3902"/>
                  <a:pt x="18278" y="3875"/>
                  <a:pt x="19670" y="4018"/>
                </a:cubicBezTo>
                <a:cubicBezTo>
                  <a:pt x="19906" y="4042"/>
                  <a:pt x="20151" y="4080"/>
                  <a:pt x="20389" y="4093"/>
                </a:cubicBezTo>
                <a:cubicBezTo>
                  <a:pt x="20892" y="4121"/>
                  <a:pt x="21440" y="4097"/>
                  <a:pt x="21927" y="4068"/>
                </a:cubicBezTo>
                <a:cubicBezTo>
                  <a:pt x="21935" y="4068"/>
                  <a:pt x="21944" y="4068"/>
                  <a:pt x="21952" y="4068"/>
                </a:cubicBezTo>
              </a:path>
            </a:pathLst>
          </a:custGeom>
          <a:noFill/>
          <a:ln cap="sq" w="228600">
            <a:solidFill>
              <a:srgbClr val="ffff00">
                <a:alpha val="33000"/>
              </a:srgbClr>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4" name=""/>
          <p:cNvSpPr/>
          <p:nvPr/>
        </p:nvSpPr>
        <p:spPr>
          <a:xfrm>
            <a:off x="2581200" y="1768320"/>
            <a:ext cx="3919680" cy="169920"/>
          </a:xfrm>
          <a:custGeom>
            <a:avLst/>
            <a:gdLst/>
            <a:ahLst/>
            <a:rect l="l" t="t" r="r" b="b"/>
            <a:pathLst>
              <a:path w="10890" h="473">
                <a:moveTo>
                  <a:pt x="7169" y="5383"/>
                </a:moveTo>
                <a:cubicBezTo>
                  <a:pt x="7934" y="5383"/>
                  <a:pt x="8718" y="5428"/>
                  <a:pt x="9475" y="5333"/>
                </a:cubicBezTo>
                <a:cubicBezTo>
                  <a:pt x="9885" y="5281"/>
                  <a:pt x="10304" y="5244"/>
                  <a:pt x="10716" y="5234"/>
                </a:cubicBezTo>
                <a:cubicBezTo>
                  <a:pt x="10987" y="5227"/>
                  <a:pt x="11243" y="5176"/>
                  <a:pt x="11509" y="5135"/>
                </a:cubicBezTo>
                <a:cubicBezTo>
                  <a:pt x="11760" y="5096"/>
                  <a:pt x="12025" y="5054"/>
                  <a:pt x="12278" y="5035"/>
                </a:cubicBezTo>
                <a:cubicBezTo>
                  <a:pt x="12517" y="5017"/>
                  <a:pt x="12760" y="5041"/>
                  <a:pt x="12998" y="5011"/>
                </a:cubicBezTo>
                <a:cubicBezTo>
                  <a:pt x="13188" y="4987"/>
                  <a:pt x="13378" y="4947"/>
                  <a:pt x="13568" y="4936"/>
                </a:cubicBezTo>
                <a:cubicBezTo>
                  <a:pt x="13725" y="4927"/>
                  <a:pt x="13882" y="4917"/>
                  <a:pt x="14039" y="4911"/>
                </a:cubicBezTo>
                <a:cubicBezTo>
                  <a:pt x="14433" y="4895"/>
                  <a:pt x="14870" y="4876"/>
                  <a:pt x="15255" y="4961"/>
                </a:cubicBezTo>
                <a:cubicBezTo>
                  <a:pt x="15448" y="5003"/>
                  <a:pt x="15637" y="5074"/>
                  <a:pt x="15825" y="5135"/>
                </a:cubicBezTo>
                <a:cubicBezTo>
                  <a:pt x="16026" y="5200"/>
                  <a:pt x="16237" y="5287"/>
                  <a:pt x="16446" y="5308"/>
                </a:cubicBezTo>
                <a:cubicBezTo>
                  <a:pt x="16753" y="5339"/>
                  <a:pt x="17098" y="5296"/>
                  <a:pt x="17388" y="5283"/>
                </a:cubicBezTo>
                <a:cubicBezTo>
                  <a:pt x="17611" y="5273"/>
                  <a:pt x="17835" y="5283"/>
                  <a:pt x="18058" y="5283"/>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advTm="13000">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600200" y="990720"/>
            <a:ext cx="62485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ea typeface="Times New Roman"/>
              </a:rPr>
              <a:t>Aku mencintaimu anakku………</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Comic Sans MS"/>
              </a:rPr>
              <a:t>Ayahmu, ibumu</a:t>
            </a:r>
            <a:endParaRPr b="0" lang="en-US" sz="4000" spc="-1" strike="noStrike">
              <a:solidFill>
                <a:srgbClr val="000000"/>
              </a:solidFill>
              <a:latin typeface="Times New Roman"/>
            </a:endParaRPr>
          </a:p>
        </p:txBody>
      </p:sp>
      <p:sp>
        <p:nvSpPr>
          <p:cNvPr id="116" name=""/>
          <p:cNvSpPr/>
          <p:nvPr/>
        </p:nvSpPr>
        <p:spPr>
          <a:xfrm>
            <a:off x="4205160" y="1571760"/>
            <a:ext cx="1800" cy="1440"/>
          </a:xfrm>
          <a:custGeom>
            <a:avLst/>
            <a:gdLst/>
            <a:ahLst/>
            <a:rect l="l" t="t" r="r" b="b"/>
            <a:pathLst>
              <a:path w="1" h="1">
                <a:moveTo>
                  <a:pt x="11683" y="4366"/>
                </a:moveTo>
                <a:lnTo>
                  <a:pt x="11683" y="4366"/>
                </a:ln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a:off x="1704960" y="1251000"/>
            <a:ext cx="2805120" cy="52200"/>
          </a:xfrm>
          <a:custGeom>
            <a:avLst/>
            <a:gdLst/>
            <a:ahLst/>
            <a:rect l="l" t="t" r="r" b="b"/>
            <a:pathLst>
              <a:path w="7789" h="149">
                <a:moveTo>
                  <a:pt x="4738" y="3522"/>
                </a:moveTo>
                <a:cubicBezTo>
                  <a:pt x="4961" y="3528"/>
                  <a:pt x="5185" y="3532"/>
                  <a:pt x="5407" y="3547"/>
                </a:cubicBezTo>
                <a:cubicBezTo>
                  <a:pt x="5806" y="3574"/>
                  <a:pt x="6198" y="3617"/>
                  <a:pt x="6598" y="3621"/>
                </a:cubicBezTo>
                <a:cubicBezTo>
                  <a:pt x="7463" y="3630"/>
                  <a:pt x="8342" y="3648"/>
                  <a:pt x="9203" y="3597"/>
                </a:cubicBezTo>
                <a:cubicBezTo>
                  <a:pt x="9697" y="3568"/>
                  <a:pt x="10202" y="3598"/>
                  <a:pt x="10691" y="3572"/>
                </a:cubicBezTo>
                <a:cubicBezTo>
                  <a:pt x="11176" y="3546"/>
                  <a:pt x="11683" y="3579"/>
                  <a:pt x="12154" y="3547"/>
                </a:cubicBezTo>
                <a:cubicBezTo>
                  <a:pt x="12203" y="3544"/>
                  <a:pt x="12263" y="3525"/>
                  <a:pt x="12278" y="3522"/>
                </a:cubicBezTo>
                <a:cubicBezTo>
                  <a:pt x="12324" y="3512"/>
                  <a:pt x="12318" y="3502"/>
                  <a:pt x="12353" y="3497"/>
                </a:cubicBezTo>
                <a:cubicBezTo>
                  <a:pt x="12409" y="3488"/>
                  <a:pt x="12502" y="3478"/>
                  <a:pt x="12526" y="3473"/>
                </a:cubicBezTo>
              </a:path>
            </a:pathLst>
          </a:custGeom>
          <a:noFill/>
          <a:ln cap="sq" w="228600">
            <a:solidFill>
              <a:srgbClr val="ffff00">
                <a:alpha val="33000"/>
              </a:srgbClr>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8" name=""/>
          <p:cNvSpPr/>
          <p:nvPr/>
        </p:nvSpPr>
        <p:spPr>
          <a:xfrm>
            <a:off x="4732200" y="1946160"/>
            <a:ext cx="3251160" cy="63720"/>
          </a:xfrm>
          <a:custGeom>
            <a:avLst/>
            <a:gdLst/>
            <a:ahLst/>
            <a:rect l="l" t="t" r="r" b="b"/>
            <a:pathLst>
              <a:path w="9030" h="175">
                <a:moveTo>
                  <a:pt x="13146" y="5432"/>
                </a:moveTo>
                <a:cubicBezTo>
                  <a:pt x="13359" y="5414"/>
                  <a:pt x="13573" y="5407"/>
                  <a:pt x="13791" y="5407"/>
                </a:cubicBezTo>
                <a:cubicBezTo>
                  <a:pt x="14296" y="5407"/>
                  <a:pt x="14799" y="5427"/>
                  <a:pt x="15304" y="5432"/>
                </a:cubicBezTo>
                <a:cubicBezTo>
                  <a:pt x="15636" y="5435"/>
                  <a:pt x="15965" y="5452"/>
                  <a:pt x="16297" y="5457"/>
                </a:cubicBezTo>
                <a:cubicBezTo>
                  <a:pt x="17478" y="5476"/>
                  <a:pt x="18667" y="5430"/>
                  <a:pt x="19844" y="5482"/>
                </a:cubicBezTo>
                <a:cubicBezTo>
                  <a:pt x="20498" y="5511"/>
                  <a:pt x="21369" y="5314"/>
                  <a:pt x="22002" y="5507"/>
                </a:cubicBezTo>
                <a:cubicBezTo>
                  <a:pt x="22060" y="5532"/>
                  <a:pt x="22117" y="5556"/>
                  <a:pt x="22175" y="5581"/>
                </a:cubicBezTo>
              </a:path>
            </a:pathLst>
          </a:custGeom>
          <a:noFill/>
          <a:ln cap="sq" w="228600">
            <a:solidFill>
              <a:srgbClr val="ffff00">
                <a:alpha val="33000"/>
              </a:srgbClr>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Tree>
  </p:cSld>
  <p:transition spd="med" advTm="4000">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1371600" y="2971800"/>
            <a:ext cx="6781680" cy="293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3200" spc="-1" strike="noStrike">
                <a:solidFill>
                  <a:srgbClr val="00ff00"/>
                </a:solidFill>
                <a:latin typeface="Wingdings"/>
                <a:ea typeface="Wingdings"/>
              </a:rPr>
              <a:t></a:t>
            </a:r>
            <a:r>
              <a:rPr b="0" lang="es-ES" sz="3200" spc="-1" strike="noStrike">
                <a:solidFill>
                  <a:srgbClr val="00ff00"/>
                </a:solidFill>
                <a:latin typeface="Wingdings"/>
                <a:ea typeface="Wingdings"/>
              </a:rPr>
              <a:t></a:t>
            </a:r>
            <a:r>
              <a:rPr b="0" lang="en-US" sz="1800" spc="-1" strike="noStrike">
                <a:solidFill>
                  <a:srgbClr val="ffffff"/>
                </a:solidFill>
                <a:latin typeface="Comic Sans MS"/>
                <a:ea typeface="Times New Roman"/>
              </a:rPr>
              <a:t>To close the music and leave this slide show.</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Comic Sans MS"/>
                <a:ea typeface="Times New Roman"/>
              </a:rPr>
              <a:t>I received this slide show of a person who asked me to translate it into English. It was not signed; I ignore the author.</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Times New Roman"/>
              </a:rPr>
              <a:t>I offer it to you to all because I found it really touching.</a:t>
            </a:r>
            <a:br>
              <a:rPr sz="1800"/>
            </a:br>
            <a:r>
              <a:rPr b="0" lang="en-US" sz="1800" spc="-1" strike="noStrike">
                <a:solidFill>
                  <a:srgbClr val="ffffff"/>
                </a:solidFill>
                <a:latin typeface="Comic Sans MS"/>
                <a:ea typeface="Times New Roman"/>
              </a:rPr>
              <a:t>It should be the same thing for you!</a:t>
            </a:r>
            <a:r>
              <a:rPr b="0" lang="en-GB" sz="1800" spc="-1" strike="noStrike">
                <a:solidFill>
                  <a:srgbClr val="ffffff"/>
                </a:solidFill>
                <a:latin typeface="Comic Sans MS"/>
              </a:rPr>
              <a:t>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advTm="9000">
    <p:randomBar dir="vert"/>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2" presetSubtype="8">
                                  <p:stCondLst>
                                    <p:cond delay="2000"/>
                                  </p:stCondLst>
                                  <p:iterate type="lt">
                                    <p:tmAbs val="75"/>
                                  </p:iterate>
                                  <p:childTnLst>
                                    <p:set>
                                      <p:cBhvr>
                                        <p:cTn id="12" dur="1" fill="hold">
                                          <p:stCondLst>
                                            <p:cond delay="0"/>
                                          </p:stCondLst>
                                        </p:cTn>
                                        <p:tgtEl>
                                          <p:spTgt spid="119"/>
                                        </p:tgtEl>
                                        <p:attrNameLst>
                                          <p:attrName>style.visibility</p:attrName>
                                        </p:attrNameLst>
                                      </p:cBhvr>
                                      <p:to>
                                        <p:strVal val="visible"/>
                                      </p:to>
                                    </p:set>
                                    <p:anim calcmode="lin" valueType="num">
                                      <p:cBhvr additive="base">
                                        <p:cTn id="13" dur="75" fill="hold"/>
                                        <p:tgtEl>
                                          <p:spTgt spid="119"/>
                                        </p:tgtEl>
                                        <p:attrNameLst>
                                          <p:attrName>ppt_x</p:attrName>
                                        </p:attrNameLst>
                                      </p:cBhvr>
                                      <p:tavLst>
                                        <p:tav tm="0">
                                          <p:val>
                                            <p:strVal val="0-#ppt_w/2"/>
                                          </p:val>
                                        </p:tav>
                                        <p:tav tm="100000">
                                          <p:val>
                                            <p:strVal val="#ppt_x"/>
                                          </p:val>
                                        </p:tav>
                                      </p:tavLst>
                                    </p:anim>
                                    <p:anim calcmode="lin" valueType="num">
                                      <p:cBhvr additive="base">
                                        <p:cTn id="14" dur="75"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685800" y="3352680"/>
            <a:ext cx="304920" cy="304920"/>
          </a:xfrm>
          <a:prstGeom prst="rect">
            <a:avLst/>
          </a:prstGeom>
          <a:ln w="0">
            <a:noFill/>
          </a:ln>
        </p:spPr>
      </p:pic>
      <p:sp>
        <p:nvSpPr>
          <p:cNvPr id="43" name=""/>
          <p:cNvSpPr/>
          <p:nvPr/>
        </p:nvSpPr>
        <p:spPr>
          <a:xfrm>
            <a:off x="1523880" y="457200"/>
            <a:ext cx="6172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omic Sans MS"/>
                <a:ea typeface="Times New Roman"/>
              </a:rPr>
              <a:t>Anakku yang kusayangi………</a:t>
            </a:r>
            <a:endParaRPr b="0" lang="en-US" sz="4800" spc="-1" strike="noStrike">
              <a:solidFill>
                <a:srgbClr val="000000"/>
              </a:solidFill>
              <a:latin typeface="Times New Roman"/>
            </a:endParaRPr>
          </a:p>
        </p:txBody>
      </p:sp>
      <p:sp>
        <p:nvSpPr>
          <p:cNvPr id="44" name=""/>
          <p:cNvSpPr/>
          <p:nvPr/>
        </p:nvSpPr>
        <p:spPr>
          <a:xfrm>
            <a:off x="1633680" y="714240"/>
            <a:ext cx="2635200" cy="357480"/>
          </a:xfrm>
          <a:custGeom>
            <a:avLst/>
            <a:gdLst/>
            <a:ahLst/>
            <a:rect l="l" t="t" r="r" b="b"/>
            <a:pathLst>
              <a:path w="7319" h="994">
                <a:moveTo>
                  <a:pt x="4713" y="2505"/>
                </a:moveTo>
                <a:cubicBezTo>
                  <a:pt x="5144" y="2505"/>
                  <a:pt x="5573" y="2530"/>
                  <a:pt x="6003" y="2530"/>
                </a:cubicBezTo>
                <a:cubicBezTo>
                  <a:pt x="7938" y="2530"/>
                  <a:pt x="9872" y="2530"/>
                  <a:pt x="11807" y="2530"/>
                </a:cubicBezTo>
                <a:cubicBezTo>
                  <a:pt x="11787" y="2566"/>
                  <a:pt x="11753" y="2614"/>
                  <a:pt x="11733" y="2654"/>
                </a:cubicBezTo>
                <a:cubicBezTo>
                  <a:pt x="11716" y="2688"/>
                  <a:pt x="11714" y="2724"/>
                  <a:pt x="11683" y="2753"/>
                </a:cubicBezTo>
                <a:cubicBezTo>
                  <a:pt x="11648" y="2786"/>
                  <a:pt x="11666" y="2788"/>
                  <a:pt x="11609" y="2803"/>
                </a:cubicBezTo>
                <a:cubicBezTo>
                  <a:pt x="11504" y="2831"/>
                  <a:pt x="11363" y="2792"/>
                  <a:pt x="11261" y="2778"/>
                </a:cubicBezTo>
                <a:cubicBezTo>
                  <a:pt x="11149" y="2763"/>
                  <a:pt x="11027" y="2737"/>
                  <a:pt x="10914" y="2729"/>
                </a:cubicBezTo>
                <a:cubicBezTo>
                  <a:pt x="10700" y="2715"/>
                  <a:pt x="10418" y="2703"/>
                  <a:pt x="10220" y="2753"/>
                </a:cubicBezTo>
                <a:cubicBezTo>
                  <a:pt x="10126" y="2777"/>
                  <a:pt x="10038" y="2821"/>
                  <a:pt x="9947" y="2853"/>
                </a:cubicBezTo>
                <a:cubicBezTo>
                  <a:pt x="9834" y="2893"/>
                  <a:pt x="9718" y="2925"/>
                  <a:pt x="9599" y="2952"/>
                </a:cubicBezTo>
                <a:cubicBezTo>
                  <a:pt x="9544" y="2964"/>
                  <a:pt x="9482" y="2973"/>
                  <a:pt x="9426" y="2977"/>
                </a:cubicBezTo>
                <a:cubicBezTo>
                  <a:pt x="8912" y="3012"/>
                  <a:pt x="8399" y="2952"/>
                  <a:pt x="7888" y="2952"/>
                </a:cubicBezTo>
                <a:cubicBezTo>
                  <a:pt x="7363" y="2952"/>
                  <a:pt x="6789" y="3007"/>
                  <a:pt x="6276" y="2927"/>
                </a:cubicBezTo>
                <a:cubicBezTo>
                  <a:pt x="6207" y="2916"/>
                  <a:pt x="6143" y="2890"/>
                  <a:pt x="6077" y="2877"/>
                </a:cubicBezTo>
                <a:cubicBezTo>
                  <a:pt x="6016" y="2865"/>
                  <a:pt x="5939" y="2857"/>
                  <a:pt x="5879" y="2853"/>
                </a:cubicBezTo>
                <a:cubicBezTo>
                  <a:pt x="5657" y="2837"/>
                  <a:pt x="5428" y="2831"/>
                  <a:pt x="5209" y="2828"/>
                </a:cubicBezTo>
                <a:cubicBezTo>
                  <a:pt x="5079" y="2826"/>
                  <a:pt x="4705" y="2882"/>
                  <a:pt x="4614" y="2803"/>
                </a:cubicBezTo>
                <a:cubicBezTo>
                  <a:pt x="4596" y="2787"/>
                  <a:pt x="4579" y="2766"/>
                  <a:pt x="4564" y="2729"/>
                </a:cubicBezTo>
                <a:cubicBezTo>
                  <a:pt x="4539" y="2667"/>
                  <a:pt x="4544" y="2601"/>
                  <a:pt x="4539" y="2530"/>
                </a:cubicBezTo>
                <a:cubicBezTo>
                  <a:pt x="4531" y="2418"/>
                  <a:pt x="4537" y="2304"/>
                  <a:pt x="4564" y="2208"/>
                </a:cubicBezTo>
                <a:cubicBezTo>
                  <a:pt x="4572" y="2180"/>
                  <a:pt x="4599" y="2106"/>
                  <a:pt x="4614" y="2084"/>
                </a:cubicBezTo>
                <a:cubicBezTo>
                  <a:pt x="4627" y="2064"/>
                  <a:pt x="4653" y="2030"/>
                  <a:pt x="4688" y="2009"/>
                </a:cubicBezTo>
                <a:cubicBezTo>
                  <a:pt x="4738" y="1979"/>
                  <a:pt x="4748" y="1986"/>
                  <a:pt x="4812" y="1984"/>
                </a:cubicBezTo>
                <a:cubicBezTo>
                  <a:pt x="4946" y="1979"/>
                  <a:pt x="5099" y="1997"/>
                  <a:pt x="5234" y="2009"/>
                </a:cubicBezTo>
                <a:cubicBezTo>
                  <a:pt x="5391" y="2023"/>
                  <a:pt x="5554" y="2039"/>
                  <a:pt x="5705" y="2059"/>
                </a:cubicBezTo>
                <a:cubicBezTo>
                  <a:pt x="5787" y="2070"/>
                  <a:pt x="5872" y="2100"/>
                  <a:pt x="5953" y="2108"/>
                </a:cubicBezTo>
                <a:cubicBezTo>
                  <a:pt x="6107" y="2123"/>
                  <a:pt x="6270" y="2149"/>
                  <a:pt x="6424" y="2158"/>
                </a:cubicBezTo>
                <a:cubicBezTo>
                  <a:pt x="6695" y="2174"/>
                  <a:pt x="6976" y="2168"/>
                  <a:pt x="7243" y="2183"/>
                </a:cubicBezTo>
                <a:cubicBezTo>
                  <a:pt x="8027" y="2226"/>
                  <a:pt x="8819" y="2186"/>
                  <a:pt x="9599" y="2232"/>
                </a:cubicBezTo>
                <a:cubicBezTo>
                  <a:pt x="9741" y="2240"/>
                  <a:pt x="9880" y="2244"/>
                  <a:pt x="10021" y="2257"/>
                </a:cubicBezTo>
                <a:cubicBezTo>
                  <a:pt x="10163" y="2271"/>
                  <a:pt x="10302" y="2299"/>
                  <a:pt x="10443" y="2307"/>
                </a:cubicBezTo>
                <a:cubicBezTo>
                  <a:pt x="10909" y="2335"/>
                  <a:pt x="11390" y="2307"/>
                  <a:pt x="11857" y="2307"/>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advTm="8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p:nvPr/>
        </p:nvSpPr>
        <p:spPr>
          <a:xfrm>
            <a:off x="152280" y="5257800"/>
            <a:ext cx="883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Pada suatu saat dikala kamu menyadari bahwa  aku telah menjadi sangat tua, cobalah berlaku sabar dan cobalah mengerti aku.</a:t>
            </a:r>
            <a:r>
              <a:rPr b="1" lang="en-GB" sz="2400" spc="-1" strike="noStrike">
                <a:solidFill>
                  <a:srgbClr val="ffffff"/>
                </a:solidFill>
                <a:latin typeface="Comic Sans MS"/>
              </a:rPr>
              <a:t> </a:t>
            </a:r>
            <a:endParaRPr b="0" lang="en-US" sz="2400" spc="-1" strike="noStrike">
              <a:solidFill>
                <a:srgbClr val="000000"/>
              </a:solidFill>
              <a:latin typeface="Times New Roman"/>
            </a:endParaRPr>
          </a:p>
        </p:txBody>
      </p:sp>
      <p:sp>
        <p:nvSpPr>
          <p:cNvPr id="46" name=""/>
          <p:cNvSpPr/>
          <p:nvPr/>
        </p:nvSpPr>
        <p:spPr>
          <a:xfrm>
            <a:off x="8340840" y="5375160"/>
            <a:ext cx="527040" cy="223920"/>
          </a:xfrm>
          <a:custGeom>
            <a:avLst/>
            <a:gdLst/>
            <a:ahLst/>
            <a:rect l="l" t="t" r="r" b="b"/>
            <a:pathLst>
              <a:path w="1464" h="622">
                <a:moveTo>
                  <a:pt x="23168" y="15354"/>
                </a:moveTo>
                <a:cubicBezTo>
                  <a:pt x="23357" y="15287"/>
                  <a:pt x="23547" y="15215"/>
                  <a:pt x="23738" y="15156"/>
                </a:cubicBezTo>
                <a:cubicBezTo>
                  <a:pt x="23875" y="15113"/>
                  <a:pt x="24002" y="15060"/>
                  <a:pt x="24135" y="15007"/>
                </a:cubicBezTo>
                <a:cubicBezTo>
                  <a:pt x="24204" y="14979"/>
                  <a:pt x="24295" y="14944"/>
                  <a:pt x="24358" y="14932"/>
                </a:cubicBezTo>
                <a:cubicBezTo>
                  <a:pt x="24427" y="14919"/>
                  <a:pt x="24525" y="14930"/>
                  <a:pt x="24557" y="14957"/>
                </a:cubicBezTo>
                <a:cubicBezTo>
                  <a:pt x="24573" y="14970"/>
                  <a:pt x="24621" y="15020"/>
                  <a:pt x="24631" y="15056"/>
                </a:cubicBezTo>
                <a:cubicBezTo>
                  <a:pt x="24646" y="15110"/>
                  <a:pt x="24628" y="15164"/>
                  <a:pt x="24606" y="15205"/>
                </a:cubicBezTo>
                <a:cubicBezTo>
                  <a:pt x="24574" y="15266"/>
                  <a:pt x="24570" y="15237"/>
                  <a:pt x="24507" y="15280"/>
                </a:cubicBezTo>
                <a:cubicBezTo>
                  <a:pt x="24448" y="15320"/>
                  <a:pt x="24390" y="15327"/>
                  <a:pt x="24333" y="15354"/>
                </a:cubicBezTo>
                <a:cubicBezTo>
                  <a:pt x="24289" y="15375"/>
                  <a:pt x="24282" y="15391"/>
                  <a:pt x="24234" y="15404"/>
                </a:cubicBezTo>
                <a:cubicBezTo>
                  <a:pt x="24164" y="15423"/>
                  <a:pt x="24141" y="15429"/>
                  <a:pt x="24085" y="15478"/>
                </a:cubicBezTo>
                <a:cubicBezTo>
                  <a:pt x="24045" y="15513"/>
                  <a:pt x="24016" y="15503"/>
                  <a:pt x="23961" y="15503"/>
                </a:cubicBezTo>
                <a:cubicBezTo>
                  <a:pt x="23887" y="15503"/>
                  <a:pt x="23831" y="15541"/>
                  <a:pt x="23763" y="15553"/>
                </a:cubicBezTo>
                <a:cubicBezTo>
                  <a:pt x="23680" y="15568"/>
                  <a:pt x="23575" y="15553"/>
                  <a:pt x="23490" y="15553"/>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2455920" y="5786280"/>
            <a:ext cx="4313160" cy="125640"/>
          </a:xfrm>
          <a:custGeom>
            <a:avLst/>
            <a:gdLst/>
            <a:ahLst/>
            <a:rect l="l" t="t" r="r" b="b"/>
            <a:pathLst>
              <a:path w="11982" h="349">
                <a:moveTo>
                  <a:pt x="6821" y="16197"/>
                </a:moveTo>
                <a:cubicBezTo>
                  <a:pt x="7474" y="16197"/>
                  <a:pt x="8167" y="16137"/>
                  <a:pt x="8806" y="16247"/>
                </a:cubicBezTo>
                <a:cubicBezTo>
                  <a:pt x="8919" y="16266"/>
                  <a:pt x="9013" y="16284"/>
                  <a:pt x="9128" y="16297"/>
                </a:cubicBezTo>
                <a:cubicBezTo>
                  <a:pt x="9252" y="16311"/>
                  <a:pt x="9411" y="16341"/>
                  <a:pt x="9525" y="16346"/>
                </a:cubicBezTo>
                <a:cubicBezTo>
                  <a:pt x="12557" y="16492"/>
                  <a:pt x="15652" y="16371"/>
                  <a:pt x="18678" y="16371"/>
                </a:cubicBezTo>
                <a:cubicBezTo>
                  <a:pt x="18728" y="16371"/>
                  <a:pt x="18727" y="16371"/>
                  <a:pt x="18777" y="16371"/>
                </a:cubicBezTo>
                <a:cubicBezTo>
                  <a:pt x="18761" y="16371"/>
                  <a:pt x="18744" y="16371"/>
                  <a:pt x="18728" y="16371"/>
                </a:cubicBezTo>
                <a:cubicBezTo>
                  <a:pt x="18056" y="16371"/>
                  <a:pt x="17388" y="16354"/>
                  <a:pt x="16718" y="16346"/>
                </a:cubicBezTo>
                <a:cubicBezTo>
                  <a:pt x="16410" y="16343"/>
                  <a:pt x="16107" y="16325"/>
                  <a:pt x="15801" y="16321"/>
                </a:cubicBezTo>
                <a:cubicBezTo>
                  <a:pt x="15684" y="16320"/>
                  <a:pt x="15562" y="16301"/>
                  <a:pt x="15453" y="16297"/>
                </a:cubicBezTo>
                <a:cubicBezTo>
                  <a:pt x="15396" y="16295"/>
                  <a:pt x="15337" y="16302"/>
                  <a:pt x="15280" y="16297"/>
                </a:cubicBezTo>
                <a:cubicBezTo>
                  <a:pt x="15358" y="16286"/>
                  <a:pt x="15645" y="16240"/>
                  <a:pt x="15751" y="16222"/>
                </a:cubicBezTo>
                <a:cubicBezTo>
                  <a:pt x="16106" y="16162"/>
                  <a:pt x="16462" y="16136"/>
                  <a:pt x="16818" y="16098"/>
                </a:cubicBezTo>
                <a:cubicBezTo>
                  <a:pt x="16899" y="16089"/>
                  <a:pt x="16983" y="16081"/>
                  <a:pt x="17066" y="16073"/>
                </a:cubicBezTo>
                <a:cubicBezTo>
                  <a:pt x="16782" y="16087"/>
                  <a:pt x="16504" y="16116"/>
                  <a:pt x="16222" y="16148"/>
                </a:cubicBezTo>
                <a:cubicBezTo>
                  <a:pt x="15926" y="16182"/>
                  <a:pt x="15628" y="16219"/>
                  <a:pt x="15329" y="16247"/>
                </a:cubicBezTo>
                <a:cubicBezTo>
                  <a:pt x="14755" y="16301"/>
                  <a:pt x="14195" y="16321"/>
                  <a:pt x="13618" y="16321"/>
                </a:cubicBezTo>
                <a:cubicBezTo>
                  <a:pt x="12723" y="16321"/>
                  <a:pt x="11828" y="16333"/>
                  <a:pt x="10939" y="16272"/>
                </a:cubicBezTo>
                <a:cubicBezTo>
                  <a:pt x="9869" y="16198"/>
                  <a:pt x="8683" y="16202"/>
                  <a:pt x="7615" y="16297"/>
                </a:cubicBezTo>
                <a:cubicBezTo>
                  <a:pt x="7462" y="16311"/>
                  <a:pt x="7357" y="16365"/>
                  <a:pt x="7218" y="16396"/>
                </a:cubicBezTo>
                <a:cubicBezTo>
                  <a:pt x="7147" y="16412"/>
                  <a:pt x="7067" y="16407"/>
                  <a:pt x="6995" y="16421"/>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2463840" y="6116760"/>
            <a:ext cx="3975120" cy="268200"/>
          </a:xfrm>
          <a:custGeom>
            <a:avLst/>
            <a:gdLst/>
            <a:ahLst/>
            <a:rect l="l" t="t" r="r" b="b"/>
            <a:pathLst>
              <a:path w="11039" h="745">
                <a:moveTo>
                  <a:pt x="7243" y="17413"/>
                </a:moveTo>
                <a:cubicBezTo>
                  <a:pt x="7302" y="17396"/>
                  <a:pt x="7372" y="17349"/>
                  <a:pt x="7441" y="17338"/>
                </a:cubicBezTo>
                <a:cubicBezTo>
                  <a:pt x="7622" y="17308"/>
                  <a:pt x="7802" y="17316"/>
                  <a:pt x="7987" y="17314"/>
                </a:cubicBezTo>
                <a:cubicBezTo>
                  <a:pt x="9196" y="17303"/>
                  <a:pt x="10409" y="17303"/>
                  <a:pt x="11609" y="17388"/>
                </a:cubicBezTo>
                <a:cubicBezTo>
                  <a:pt x="11812" y="17402"/>
                  <a:pt x="12001" y="17401"/>
                  <a:pt x="12204" y="17438"/>
                </a:cubicBezTo>
                <a:cubicBezTo>
                  <a:pt x="12459" y="17485"/>
                  <a:pt x="12720" y="17532"/>
                  <a:pt x="12973" y="17587"/>
                </a:cubicBezTo>
                <a:cubicBezTo>
                  <a:pt x="13199" y="17636"/>
                  <a:pt x="13432" y="17716"/>
                  <a:pt x="13667" y="17735"/>
                </a:cubicBezTo>
                <a:cubicBezTo>
                  <a:pt x="14694" y="17818"/>
                  <a:pt x="15852" y="17805"/>
                  <a:pt x="16867" y="17686"/>
                </a:cubicBezTo>
                <a:cubicBezTo>
                  <a:pt x="16951" y="17676"/>
                  <a:pt x="17031" y="17659"/>
                  <a:pt x="17115" y="17636"/>
                </a:cubicBezTo>
                <a:cubicBezTo>
                  <a:pt x="17159" y="17624"/>
                  <a:pt x="17248" y="17592"/>
                  <a:pt x="17264" y="17587"/>
                </a:cubicBezTo>
                <a:cubicBezTo>
                  <a:pt x="17302" y="17576"/>
                  <a:pt x="17352" y="17575"/>
                  <a:pt x="17388" y="17562"/>
                </a:cubicBezTo>
                <a:cubicBezTo>
                  <a:pt x="17442" y="17542"/>
                  <a:pt x="17488" y="17508"/>
                  <a:pt x="17537" y="17487"/>
                </a:cubicBezTo>
                <a:cubicBezTo>
                  <a:pt x="17575" y="17471"/>
                  <a:pt x="17656" y="17454"/>
                  <a:pt x="17686" y="17438"/>
                </a:cubicBezTo>
                <a:cubicBezTo>
                  <a:pt x="17713" y="17424"/>
                  <a:pt x="17794" y="17380"/>
                  <a:pt x="17810" y="17363"/>
                </a:cubicBezTo>
                <a:cubicBezTo>
                  <a:pt x="17850" y="17320"/>
                  <a:pt x="17826" y="17258"/>
                  <a:pt x="17859" y="17214"/>
                </a:cubicBezTo>
                <a:cubicBezTo>
                  <a:pt x="17520" y="17214"/>
                  <a:pt x="17218" y="17194"/>
                  <a:pt x="16892" y="17140"/>
                </a:cubicBezTo>
                <a:cubicBezTo>
                  <a:pt x="16637" y="17098"/>
                  <a:pt x="16380" y="17054"/>
                  <a:pt x="16123" y="17041"/>
                </a:cubicBezTo>
                <a:cubicBezTo>
                  <a:pt x="15769" y="17023"/>
                  <a:pt x="15366" y="17009"/>
                  <a:pt x="15032" y="17090"/>
                </a:cubicBezTo>
                <a:cubicBezTo>
                  <a:pt x="14883" y="17126"/>
                  <a:pt x="14727" y="17187"/>
                  <a:pt x="14585" y="17239"/>
                </a:cubicBezTo>
                <a:cubicBezTo>
                  <a:pt x="14495" y="17272"/>
                  <a:pt x="14433" y="17323"/>
                  <a:pt x="14337" y="17338"/>
                </a:cubicBezTo>
                <a:cubicBezTo>
                  <a:pt x="13951" y="17398"/>
                  <a:pt x="13501" y="17328"/>
                  <a:pt x="13122" y="17289"/>
                </a:cubicBezTo>
                <a:cubicBezTo>
                  <a:pt x="13005" y="17277"/>
                  <a:pt x="12890" y="17245"/>
                  <a:pt x="12774" y="17239"/>
                </a:cubicBezTo>
                <a:cubicBezTo>
                  <a:pt x="12550" y="17227"/>
                  <a:pt x="12328" y="17231"/>
                  <a:pt x="12105" y="17214"/>
                </a:cubicBezTo>
                <a:cubicBezTo>
                  <a:pt x="11972" y="17204"/>
                  <a:pt x="11940" y="17196"/>
                  <a:pt x="11807" y="17190"/>
                </a:cubicBezTo>
                <a:cubicBezTo>
                  <a:pt x="12246" y="17190"/>
                  <a:pt x="12685" y="17208"/>
                  <a:pt x="13122" y="17239"/>
                </a:cubicBezTo>
                <a:cubicBezTo>
                  <a:pt x="13394" y="17259"/>
                  <a:pt x="13668" y="17282"/>
                  <a:pt x="13940" y="17289"/>
                </a:cubicBezTo>
                <a:cubicBezTo>
                  <a:pt x="14477" y="17303"/>
                  <a:pt x="15016" y="17308"/>
                  <a:pt x="15553" y="17314"/>
                </a:cubicBezTo>
                <a:cubicBezTo>
                  <a:pt x="15991" y="17319"/>
                  <a:pt x="16433" y="17324"/>
                  <a:pt x="16867" y="17338"/>
                </a:cubicBezTo>
                <a:cubicBezTo>
                  <a:pt x="16986" y="17342"/>
                  <a:pt x="17099" y="17357"/>
                  <a:pt x="17214" y="17363"/>
                </a:cubicBezTo>
                <a:cubicBezTo>
                  <a:pt x="17436" y="17374"/>
                  <a:pt x="17662" y="17363"/>
                  <a:pt x="17884" y="17363"/>
                </a:cubicBezTo>
                <a:cubicBezTo>
                  <a:pt x="17725" y="17350"/>
                  <a:pt x="17580" y="17340"/>
                  <a:pt x="17413" y="17338"/>
                </a:cubicBezTo>
                <a:cubicBezTo>
                  <a:pt x="16463" y="17329"/>
                  <a:pt x="15504" y="17387"/>
                  <a:pt x="14560" y="17289"/>
                </a:cubicBezTo>
                <a:cubicBezTo>
                  <a:pt x="14090" y="17240"/>
                  <a:pt x="13615" y="17168"/>
                  <a:pt x="13146" y="17140"/>
                </a:cubicBezTo>
                <a:cubicBezTo>
                  <a:pt x="12748" y="17116"/>
                  <a:pt x="12353" y="17064"/>
                  <a:pt x="11956" y="17041"/>
                </a:cubicBezTo>
                <a:cubicBezTo>
                  <a:pt x="11376" y="17008"/>
                  <a:pt x="10794" y="17036"/>
                  <a:pt x="10220" y="16991"/>
                </a:cubicBezTo>
                <a:cubicBezTo>
                  <a:pt x="9834" y="16961"/>
                  <a:pt x="9383" y="16960"/>
                  <a:pt x="9004" y="17016"/>
                </a:cubicBezTo>
                <a:cubicBezTo>
                  <a:pt x="8886" y="17034"/>
                  <a:pt x="8767" y="17078"/>
                  <a:pt x="8657" y="17115"/>
                </a:cubicBezTo>
                <a:cubicBezTo>
                  <a:pt x="8532" y="17157"/>
                  <a:pt x="8412" y="17204"/>
                  <a:pt x="8285" y="17239"/>
                </a:cubicBezTo>
                <a:cubicBezTo>
                  <a:pt x="8207" y="17260"/>
                  <a:pt x="8139" y="17274"/>
                  <a:pt x="8062" y="17289"/>
                </a:cubicBezTo>
                <a:cubicBezTo>
                  <a:pt x="7994" y="17302"/>
                  <a:pt x="7903" y="17293"/>
                  <a:pt x="7838" y="17314"/>
                </a:cubicBezTo>
                <a:cubicBezTo>
                  <a:pt x="7801" y="17326"/>
                  <a:pt x="7721" y="17397"/>
                  <a:pt x="7665" y="17413"/>
                </a:cubicBezTo>
                <a:cubicBezTo>
                  <a:pt x="7613" y="17428"/>
                  <a:pt x="7539" y="17430"/>
                  <a:pt x="7491" y="17438"/>
                </a:cubicBezTo>
                <a:cubicBezTo>
                  <a:pt x="7389" y="17456"/>
                  <a:pt x="7271" y="17481"/>
                  <a:pt x="7169" y="17487"/>
                </a:cubicBezTo>
                <a:cubicBezTo>
                  <a:pt x="7062" y="17493"/>
                  <a:pt x="6953" y="17484"/>
                  <a:pt x="6846" y="17487"/>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advTm="7000">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0" y="4495680"/>
            <a:ext cx="9144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Jika banyak makanan yang tercecer dikala aku makan….… </a:t>
            </a:r>
            <a:br>
              <a:rPr sz="2400"/>
            </a:br>
            <a:r>
              <a:rPr b="1" lang="en-US" sz="2400" spc="-1" strike="noStrike">
                <a:solidFill>
                  <a:srgbClr val="ffffff"/>
                </a:solidFill>
                <a:latin typeface="Comic Sans MS"/>
                <a:ea typeface="Times New Roman"/>
              </a:rPr>
              <a:t>Jika aku mendapat kesulitan dalam mengenakan pakaianku sendiri……… sabarlah !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Kenanglah saat-saat dimana aku meluangkan waktuku untuk mengajarimu tentang segala hal yang kau perlu tahu, ketika kau masih keci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 </a:t>
            </a:r>
            <a:br>
              <a:rPr sz="2400"/>
            </a:br>
            <a:r>
              <a:rPr b="1" lang="en-GB" sz="2400" spc="-1" strike="noStrike">
                <a:solidFill>
                  <a:srgbClr val="ffffff"/>
                </a:solidFill>
                <a:latin typeface="Comic Sans MS"/>
              </a:rPr>
              <a:t> </a:t>
            </a:r>
            <a:endParaRPr b="0" lang="en-US" sz="2400" spc="-1" strike="noStrike">
              <a:solidFill>
                <a:srgbClr val="000000"/>
              </a:solidFill>
              <a:latin typeface="Times New Roman"/>
            </a:endParaRPr>
          </a:p>
        </p:txBody>
      </p:sp>
      <p:sp>
        <p:nvSpPr>
          <p:cNvPr id="50" name=""/>
          <p:cNvSpPr/>
          <p:nvPr/>
        </p:nvSpPr>
        <p:spPr>
          <a:xfrm>
            <a:off x="5670720" y="5018040"/>
            <a:ext cx="1527120" cy="206280"/>
          </a:xfrm>
          <a:custGeom>
            <a:avLst/>
            <a:gdLst/>
            <a:ahLst/>
            <a:rect l="l" t="t" r="r" b="b"/>
            <a:pathLst>
              <a:path w="4243" h="572">
                <a:moveTo>
                  <a:pt x="15776" y="14114"/>
                </a:moveTo>
                <a:cubicBezTo>
                  <a:pt x="17044" y="14114"/>
                  <a:pt x="18360" y="14030"/>
                  <a:pt x="19621" y="14139"/>
                </a:cubicBezTo>
                <a:cubicBezTo>
                  <a:pt x="19743" y="14150"/>
                  <a:pt x="19870" y="14139"/>
                  <a:pt x="19993" y="14139"/>
                </a:cubicBezTo>
                <a:cubicBezTo>
                  <a:pt x="19953" y="14155"/>
                  <a:pt x="19934" y="14166"/>
                  <a:pt x="19893" y="14188"/>
                </a:cubicBezTo>
                <a:cubicBezTo>
                  <a:pt x="19824" y="14225"/>
                  <a:pt x="19769" y="14251"/>
                  <a:pt x="19695" y="14263"/>
                </a:cubicBezTo>
                <a:cubicBezTo>
                  <a:pt x="18499" y="14458"/>
                  <a:pt x="17095" y="14263"/>
                  <a:pt x="15875" y="14263"/>
                </a:cubicBezTo>
                <a:cubicBezTo>
                  <a:pt x="15933" y="14307"/>
                  <a:pt x="15929" y="14312"/>
                  <a:pt x="16024" y="14337"/>
                </a:cubicBezTo>
                <a:cubicBezTo>
                  <a:pt x="16165" y="14374"/>
                  <a:pt x="16300" y="14413"/>
                  <a:pt x="16446" y="14436"/>
                </a:cubicBezTo>
                <a:cubicBezTo>
                  <a:pt x="16732" y="14482"/>
                  <a:pt x="17025" y="14500"/>
                  <a:pt x="17314" y="14511"/>
                </a:cubicBezTo>
                <a:cubicBezTo>
                  <a:pt x="17974" y="14537"/>
                  <a:pt x="18668" y="14541"/>
                  <a:pt x="19323" y="14486"/>
                </a:cubicBezTo>
                <a:cubicBezTo>
                  <a:pt x="19414" y="14478"/>
                  <a:pt x="19485" y="14479"/>
                  <a:pt x="19571" y="14461"/>
                </a:cubicBezTo>
                <a:cubicBezTo>
                  <a:pt x="19652" y="14444"/>
                  <a:pt x="19735" y="14433"/>
                  <a:pt x="19819" y="14412"/>
                </a:cubicBezTo>
                <a:cubicBezTo>
                  <a:pt x="19868" y="14400"/>
                  <a:pt x="19962" y="14407"/>
                  <a:pt x="19993" y="14362"/>
                </a:cubicBezTo>
                <a:cubicBezTo>
                  <a:pt x="20038" y="14296"/>
                  <a:pt x="19971" y="14143"/>
                  <a:pt x="19943" y="14114"/>
                </a:cubicBezTo>
                <a:cubicBezTo>
                  <a:pt x="19858" y="14025"/>
                  <a:pt x="19752" y="13992"/>
                  <a:pt x="19621" y="13965"/>
                </a:cubicBezTo>
                <a:cubicBezTo>
                  <a:pt x="19440" y="13928"/>
                  <a:pt x="19258" y="13940"/>
                  <a:pt x="19075" y="13940"/>
                </a:cubicBezTo>
                <a:cubicBezTo>
                  <a:pt x="17967" y="13940"/>
                  <a:pt x="16859" y="13940"/>
                  <a:pt x="15751" y="13940"/>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625840" y="4680000"/>
            <a:ext cx="3483000" cy="231840"/>
          </a:xfrm>
          <a:custGeom>
            <a:avLst/>
            <a:gdLst/>
            <a:ahLst/>
            <a:rect l="l" t="t" r="r" b="b"/>
            <a:pathLst>
              <a:path w="9674" h="646">
                <a:moveTo>
                  <a:pt x="7293" y="13072"/>
                </a:moveTo>
                <a:cubicBezTo>
                  <a:pt x="7364" y="13065"/>
                  <a:pt x="7414" y="13051"/>
                  <a:pt x="7491" y="13047"/>
                </a:cubicBezTo>
                <a:cubicBezTo>
                  <a:pt x="7606" y="13041"/>
                  <a:pt x="7728" y="13027"/>
                  <a:pt x="7838" y="13022"/>
                </a:cubicBezTo>
                <a:cubicBezTo>
                  <a:pt x="7964" y="13017"/>
                  <a:pt x="8087" y="13003"/>
                  <a:pt x="8210" y="12998"/>
                </a:cubicBezTo>
                <a:cubicBezTo>
                  <a:pt x="8438" y="12988"/>
                  <a:pt x="8637" y="13012"/>
                  <a:pt x="8855" y="13072"/>
                </a:cubicBezTo>
                <a:cubicBezTo>
                  <a:pt x="8906" y="13086"/>
                  <a:pt x="9008" y="13138"/>
                  <a:pt x="9054" y="13146"/>
                </a:cubicBezTo>
                <a:cubicBezTo>
                  <a:pt x="9168" y="13165"/>
                  <a:pt x="9289" y="13156"/>
                  <a:pt x="9401" y="13171"/>
                </a:cubicBezTo>
                <a:cubicBezTo>
                  <a:pt x="9527" y="13188"/>
                  <a:pt x="9642" y="13194"/>
                  <a:pt x="9773" y="13196"/>
                </a:cubicBezTo>
                <a:cubicBezTo>
                  <a:pt x="9925" y="13198"/>
                  <a:pt x="10050" y="13227"/>
                  <a:pt x="10195" y="13246"/>
                </a:cubicBezTo>
                <a:cubicBezTo>
                  <a:pt x="10337" y="13264"/>
                  <a:pt x="10475" y="13297"/>
                  <a:pt x="10616" y="13320"/>
                </a:cubicBezTo>
                <a:cubicBezTo>
                  <a:pt x="10731" y="13339"/>
                  <a:pt x="10826" y="13368"/>
                  <a:pt x="10939" y="13395"/>
                </a:cubicBezTo>
                <a:cubicBezTo>
                  <a:pt x="11057" y="13423"/>
                  <a:pt x="11189" y="13447"/>
                  <a:pt x="11311" y="13469"/>
                </a:cubicBezTo>
                <a:cubicBezTo>
                  <a:pt x="11528" y="13509"/>
                  <a:pt x="11740" y="13560"/>
                  <a:pt x="11956" y="13593"/>
                </a:cubicBezTo>
                <a:cubicBezTo>
                  <a:pt x="12058" y="13608"/>
                  <a:pt x="12155" y="13636"/>
                  <a:pt x="12254" y="13643"/>
                </a:cubicBezTo>
                <a:cubicBezTo>
                  <a:pt x="12471" y="13659"/>
                  <a:pt x="12686" y="13634"/>
                  <a:pt x="12898" y="13618"/>
                </a:cubicBezTo>
                <a:cubicBezTo>
                  <a:pt x="13006" y="13610"/>
                  <a:pt x="13115" y="13614"/>
                  <a:pt x="13221" y="13593"/>
                </a:cubicBezTo>
                <a:cubicBezTo>
                  <a:pt x="13346" y="13568"/>
                  <a:pt x="13470" y="13520"/>
                  <a:pt x="13593" y="13494"/>
                </a:cubicBezTo>
                <a:cubicBezTo>
                  <a:pt x="13668" y="13478"/>
                  <a:pt x="13733" y="13479"/>
                  <a:pt x="13816" y="13469"/>
                </a:cubicBezTo>
                <a:cubicBezTo>
                  <a:pt x="13916" y="13457"/>
                  <a:pt x="14014" y="13454"/>
                  <a:pt x="14114" y="13444"/>
                </a:cubicBezTo>
                <a:cubicBezTo>
                  <a:pt x="14214" y="13434"/>
                  <a:pt x="14311" y="13429"/>
                  <a:pt x="14412" y="13419"/>
                </a:cubicBezTo>
                <a:cubicBezTo>
                  <a:pt x="14510" y="13409"/>
                  <a:pt x="14611" y="13382"/>
                  <a:pt x="14709" y="13370"/>
                </a:cubicBezTo>
                <a:cubicBezTo>
                  <a:pt x="14784" y="13361"/>
                  <a:pt x="14857" y="13355"/>
                  <a:pt x="14932" y="13345"/>
                </a:cubicBezTo>
                <a:cubicBezTo>
                  <a:pt x="15023" y="13333"/>
                  <a:pt x="15113" y="13306"/>
                  <a:pt x="15205" y="13295"/>
                </a:cubicBezTo>
                <a:cubicBezTo>
                  <a:pt x="15636" y="13242"/>
                  <a:pt x="16085" y="13271"/>
                  <a:pt x="16520" y="13271"/>
                </a:cubicBezTo>
                <a:cubicBezTo>
                  <a:pt x="16669" y="13271"/>
                  <a:pt x="16817" y="13271"/>
                  <a:pt x="16966" y="13271"/>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2660760" y="4653000"/>
            <a:ext cx="3233520" cy="125280"/>
          </a:xfrm>
          <a:custGeom>
            <a:avLst/>
            <a:gdLst/>
            <a:ahLst/>
            <a:rect l="l" t="t" r="r" b="b"/>
            <a:pathLst>
              <a:path w="8980" h="349">
                <a:moveTo>
                  <a:pt x="16371" y="13047"/>
                </a:moveTo>
                <a:cubicBezTo>
                  <a:pt x="15993" y="13047"/>
                  <a:pt x="15632" y="12991"/>
                  <a:pt x="15255" y="12973"/>
                </a:cubicBezTo>
                <a:cubicBezTo>
                  <a:pt x="15004" y="12961"/>
                  <a:pt x="14762" y="12930"/>
                  <a:pt x="14511" y="12923"/>
                </a:cubicBezTo>
                <a:cubicBezTo>
                  <a:pt x="13984" y="12908"/>
                  <a:pt x="13305" y="12839"/>
                  <a:pt x="12799" y="12973"/>
                </a:cubicBezTo>
                <a:cubicBezTo>
                  <a:pt x="12720" y="12994"/>
                  <a:pt x="12627" y="13022"/>
                  <a:pt x="12551" y="13047"/>
                </a:cubicBezTo>
                <a:cubicBezTo>
                  <a:pt x="12461" y="13077"/>
                  <a:pt x="12364" y="13096"/>
                  <a:pt x="12278" y="13122"/>
                </a:cubicBezTo>
                <a:cubicBezTo>
                  <a:pt x="12148" y="13162"/>
                  <a:pt x="12034" y="13189"/>
                  <a:pt x="11906" y="13221"/>
                </a:cubicBezTo>
                <a:cubicBezTo>
                  <a:pt x="11781" y="13252"/>
                  <a:pt x="11687" y="13267"/>
                  <a:pt x="11559" y="13271"/>
                </a:cubicBezTo>
                <a:cubicBezTo>
                  <a:pt x="11334" y="13278"/>
                  <a:pt x="11105" y="13257"/>
                  <a:pt x="10889" y="13246"/>
                </a:cubicBezTo>
                <a:cubicBezTo>
                  <a:pt x="10791" y="13241"/>
                  <a:pt x="10711" y="13238"/>
                  <a:pt x="10616" y="13221"/>
                </a:cubicBezTo>
                <a:cubicBezTo>
                  <a:pt x="10575" y="13214"/>
                  <a:pt x="10558" y="13199"/>
                  <a:pt x="10517" y="13196"/>
                </a:cubicBezTo>
                <a:cubicBezTo>
                  <a:pt x="10350" y="13183"/>
                  <a:pt x="10187" y="13187"/>
                  <a:pt x="10021" y="13171"/>
                </a:cubicBezTo>
                <a:cubicBezTo>
                  <a:pt x="9896" y="13159"/>
                  <a:pt x="9776" y="13148"/>
                  <a:pt x="9649" y="13146"/>
                </a:cubicBezTo>
                <a:cubicBezTo>
                  <a:pt x="9529" y="13144"/>
                  <a:pt x="9419" y="13128"/>
                  <a:pt x="9302" y="13122"/>
                </a:cubicBezTo>
                <a:cubicBezTo>
                  <a:pt x="9177" y="13116"/>
                  <a:pt x="9055" y="13102"/>
                  <a:pt x="8930" y="13097"/>
                </a:cubicBezTo>
                <a:cubicBezTo>
                  <a:pt x="8420" y="13076"/>
                  <a:pt x="7903" y="13097"/>
                  <a:pt x="7392" y="13097"/>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268200" y="5081760"/>
            <a:ext cx="5143680" cy="152280"/>
          </a:xfrm>
          <a:custGeom>
            <a:avLst/>
            <a:gdLst/>
            <a:ahLst/>
            <a:rect l="l" t="t" r="r" b="b"/>
            <a:pathLst>
              <a:path w="14289" h="423">
                <a:moveTo>
                  <a:pt x="744" y="14114"/>
                </a:moveTo>
                <a:cubicBezTo>
                  <a:pt x="1048" y="14130"/>
                  <a:pt x="1257" y="14183"/>
                  <a:pt x="1563" y="14263"/>
                </a:cubicBezTo>
                <a:cubicBezTo>
                  <a:pt x="1696" y="14298"/>
                  <a:pt x="1830" y="14334"/>
                  <a:pt x="1960" y="14362"/>
                </a:cubicBezTo>
                <a:cubicBezTo>
                  <a:pt x="2041" y="14379"/>
                  <a:pt x="2131" y="14386"/>
                  <a:pt x="2208" y="14412"/>
                </a:cubicBezTo>
                <a:cubicBezTo>
                  <a:pt x="2305" y="14445"/>
                  <a:pt x="2373" y="14496"/>
                  <a:pt x="2480" y="14511"/>
                </a:cubicBezTo>
                <a:cubicBezTo>
                  <a:pt x="2693" y="14542"/>
                  <a:pt x="2932" y="14547"/>
                  <a:pt x="3150" y="14536"/>
                </a:cubicBezTo>
                <a:cubicBezTo>
                  <a:pt x="3207" y="14533"/>
                  <a:pt x="3327" y="14513"/>
                  <a:pt x="3349" y="14511"/>
                </a:cubicBezTo>
                <a:cubicBezTo>
                  <a:pt x="3391" y="14507"/>
                  <a:pt x="3410" y="14489"/>
                  <a:pt x="3448" y="14486"/>
                </a:cubicBezTo>
                <a:cubicBezTo>
                  <a:pt x="3525" y="14480"/>
                  <a:pt x="3683" y="14463"/>
                  <a:pt x="3721" y="14461"/>
                </a:cubicBezTo>
                <a:cubicBezTo>
                  <a:pt x="4009" y="14442"/>
                  <a:pt x="4304" y="14447"/>
                  <a:pt x="4589" y="14436"/>
                </a:cubicBezTo>
                <a:cubicBezTo>
                  <a:pt x="7751" y="14319"/>
                  <a:pt x="12087" y="15328"/>
                  <a:pt x="15032" y="14387"/>
                </a:cubicBezTo>
                <a:cubicBezTo>
                  <a:pt x="15032" y="14362"/>
                  <a:pt x="15032" y="14354"/>
                  <a:pt x="15032" y="14337"/>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12840" y="4884840"/>
            <a:ext cx="5054400" cy="196920"/>
          </a:xfrm>
          <a:custGeom>
            <a:avLst/>
            <a:gdLst/>
            <a:ahLst/>
            <a:rect l="l" t="t" r="r" b="b"/>
            <a:pathLst>
              <a:path w="14041" h="547">
                <a:moveTo>
                  <a:pt x="14908" y="14064"/>
                </a:moveTo>
                <a:cubicBezTo>
                  <a:pt x="14844" y="14073"/>
                  <a:pt x="14797" y="14108"/>
                  <a:pt x="14734" y="14114"/>
                </a:cubicBezTo>
                <a:cubicBezTo>
                  <a:pt x="14347" y="14149"/>
                  <a:pt x="13922" y="14122"/>
                  <a:pt x="13543" y="14089"/>
                </a:cubicBezTo>
                <a:cubicBezTo>
                  <a:pt x="13447" y="14081"/>
                  <a:pt x="13364" y="14079"/>
                  <a:pt x="13271" y="14064"/>
                </a:cubicBezTo>
                <a:cubicBezTo>
                  <a:pt x="13169" y="14048"/>
                  <a:pt x="13077" y="14027"/>
                  <a:pt x="12973" y="14015"/>
                </a:cubicBezTo>
                <a:cubicBezTo>
                  <a:pt x="12720" y="13985"/>
                  <a:pt x="12463" y="13990"/>
                  <a:pt x="12204" y="13990"/>
                </a:cubicBezTo>
                <a:cubicBezTo>
                  <a:pt x="11673" y="13990"/>
                  <a:pt x="11144" y="13971"/>
                  <a:pt x="10616" y="13965"/>
                </a:cubicBezTo>
                <a:cubicBezTo>
                  <a:pt x="9684" y="13955"/>
                  <a:pt x="8760" y="13979"/>
                  <a:pt x="7838" y="13891"/>
                </a:cubicBezTo>
                <a:cubicBezTo>
                  <a:pt x="7714" y="13879"/>
                  <a:pt x="7590" y="13878"/>
                  <a:pt x="7466" y="13866"/>
                </a:cubicBezTo>
                <a:cubicBezTo>
                  <a:pt x="7357" y="13855"/>
                  <a:pt x="7253" y="13851"/>
                  <a:pt x="7144" y="13841"/>
                </a:cubicBezTo>
                <a:cubicBezTo>
                  <a:pt x="7042" y="13831"/>
                  <a:pt x="6946" y="13832"/>
                  <a:pt x="6846" y="13816"/>
                </a:cubicBezTo>
                <a:cubicBezTo>
                  <a:pt x="6715" y="13795"/>
                  <a:pt x="6583" y="13759"/>
                  <a:pt x="6449" y="13742"/>
                </a:cubicBezTo>
                <a:cubicBezTo>
                  <a:pt x="6251" y="13717"/>
                  <a:pt x="6052" y="13689"/>
                  <a:pt x="5854" y="13667"/>
                </a:cubicBezTo>
                <a:cubicBezTo>
                  <a:pt x="5719" y="13652"/>
                  <a:pt x="5591" y="13655"/>
                  <a:pt x="5457" y="13643"/>
                </a:cubicBezTo>
                <a:cubicBezTo>
                  <a:pt x="5275" y="13626"/>
                  <a:pt x="5094" y="13629"/>
                  <a:pt x="4911" y="13618"/>
                </a:cubicBezTo>
                <a:cubicBezTo>
                  <a:pt x="4791" y="13611"/>
                  <a:pt x="4682" y="13604"/>
                  <a:pt x="4564" y="13593"/>
                </a:cubicBezTo>
                <a:cubicBezTo>
                  <a:pt x="4479" y="13585"/>
                  <a:pt x="4403" y="13572"/>
                  <a:pt x="4316" y="13568"/>
                </a:cubicBezTo>
                <a:cubicBezTo>
                  <a:pt x="4017" y="13554"/>
                  <a:pt x="3735" y="13566"/>
                  <a:pt x="3448" y="13643"/>
                </a:cubicBezTo>
                <a:cubicBezTo>
                  <a:pt x="3379" y="13661"/>
                  <a:pt x="3323" y="13679"/>
                  <a:pt x="3249" y="13692"/>
                </a:cubicBezTo>
                <a:cubicBezTo>
                  <a:pt x="3135" y="13712"/>
                  <a:pt x="3023" y="13714"/>
                  <a:pt x="2902" y="13717"/>
                </a:cubicBezTo>
                <a:cubicBezTo>
                  <a:pt x="2321" y="13731"/>
                  <a:pt x="1325" y="13857"/>
                  <a:pt x="868" y="13667"/>
                </a:cubicBezTo>
                <a:cubicBezTo>
                  <a:pt x="868" y="13659"/>
                  <a:pt x="868" y="13651"/>
                  <a:pt x="868" y="13643"/>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advTm="14000">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08000" y="115920"/>
            <a:ext cx="4648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omic Sans MS"/>
                <a:ea typeface="Times New Roman"/>
              </a:rPr>
              <a:t>Jika aku mengulang mengatakan hal yang sama berpuluh kali, jangan menghentikanku! Dengarlah aku</a:t>
            </a:r>
            <a:r>
              <a:rPr b="1" lang="en-US" sz="2800" spc="-1" strike="noStrike">
                <a:solidFill>
                  <a:srgbClr val="000000"/>
                </a:solidFill>
                <a:latin typeface="Comic Sans MS"/>
                <a:ea typeface="Times New Roman"/>
              </a:rPr>
              <a:t> ! </a:t>
            </a:r>
            <a:endParaRPr b="0" lang="en-US" sz="2800" spc="-1" strike="noStrike">
              <a:solidFill>
                <a:srgbClr val="000000"/>
              </a:solidFill>
              <a:latin typeface="Times New Roman"/>
            </a:endParaRPr>
          </a:p>
        </p:txBody>
      </p:sp>
      <p:sp>
        <p:nvSpPr>
          <p:cNvPr id="56" name=""/>
          <p:cNvSpPr/>
          <p:nvPr/>
        </p:nvSpPr>
        <p:spPr>
          <a:xfrm>
            <a:off x="0" y="4437000"/>
            <a:ext cx="5257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Times New Roman"/>
              </a:rPr>
              <a:t>Ketika kau kecil, kau selalu memintaku membacakanmu cerita yang sama berulang-ulang, dari malam yang satu ke malam yang lain hinga kau tertidur. Dan aku lakukan itu untukmu !</a:t>
            </a:r>
            <a:r>
              <a:rPr b="1" lang="en-GB"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57" name=""/>
          <p:cNvSpPr/>
          <p:nvPr/>
        </p:nvSpPr>
        <p:spPr>
          <a:xfrm>
            <a:off x="125280" y="1535040"/>
            <a:ext cx="2249640" cy="9720"/>
          </a:xfrm>
          <a:custGeom>
            <a:avLst/>
            <a:gdLst/>
            <a:ahLst/>
            <a:rect l="l" t="t" r="r" b="b"/>
            <a:pathLst>
              <a:path w="6252" h="26">
                <a:moveTo>
                  <a:pt x="347" y="4266"/>
                </a:moveTo>
                <a:cubicBezTo>
                  <a:pt x="1705" y="4266"/>
                  <a:pt x="3091" y="4198"/>
                  <a:pt x="4440" y="4291"/>
                </a:cubicBezTo>
                <a:cubicBezTo>
                  <a:pt x="5152" y="4340"/>
                  <a:pt x="5884" y="4291"/>
                  <a:pt x="6598" y="4291"/>
                </a:cubicBezTo>
              </a:path>
            </a:pathLst>
          </a:custGeom>
          <a:noFill/>
          <a:ln cap="sq" w="228600">
            <a:solidFill>
              <a:srgbClr val="ffff00">
                <a:alpha val="33000"/>
              </a:srgbClr>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 name=""/>
          <p:cNvSpPr/>
          <p:nvPr/>
        </p:nvSpPr>
        <p:spPr>
          <a:xfrm>
            <a:off x="250920" y="620640"/>
            <a:ext cx="3894120" cy="7920"/>
          </a:xfrm>
          <a:custGeom>
            <a:avLst/>
            <a:gdLst/>
            <a:ahLst/>
            <a:rect l="l" t="t" r="r" b="b"/>
            <a:pathLst>
              <a:path w="10816" h="25">
                <a:moveTo>
                  <a:pt x="248" y="719"/>
                </a:moveTo>
                <a:cubicBezTo>
                  <a:pt x="672" y="719"/>
                  <a:pt x="1093" y="701"/>
                  <a:pt x="1513" y="695"/>
                </a:cubicBezTo>
                <a:cubicBezTo>
                  <a:pt x="4695" y="652"/>
                  <a:pt x="7881" y="695"/>
                  <a:pt x="11063" y="695"/>
                </a:cubicBezTo>
              </a:path>
            </a:pathLst>
          </a:custGeom>
          <a:noFill/>
          <a:ln cap="sq" w="228600">
            <a:solidFill>
              <a:srgbClr val="ffff00">
                <a:alpha val="33000"/>
              </a:srgbClr>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9" name=""/>
          <p:cNvSpPr/>
          <p:nvPr/>
        </p:nvSpPr>
        <p:spPr>
          <a:xfrm>
            <a:off x="179280" y="765000"/>
            <a:ext cx="3697560" cy="125640"/>
          </a:xfrm>
          <a:custGeom>
            <a:avLst/>
            <a:gdLst/>
            <a:ahLst/>
            <a:rect l="l" t="t" r="r" b="b"/>
            <a:pathLst>
              <a:path w="10270" h="348">
                <a:moveTo>
                  <a:pt x="174" y="1885"/>
                </a:moveTo>
                <a:cubicBezTo>
                  <a:pt x="282" y="1862"/>
                  <a:pt x="379" y="1827"/>
                  <a:pt x="496" y="1811"/>
                </a:cubicBezTo>
                <a:cubicBezTo>
                  <a:pt x="619" y="1794"/>
                  <a:pt x="742" y="1788"/>
                  <a:pt x="868" y="1786"/>
                </a:cubicBezTo>
                <a:cubicBezTo>
                  <a:pt x="1258" y="1781"/>
                  <a:pt x="1646" y="1766"/>
                  <a:pt x="2034" y="1761"/>
                </a:cubicBezTo>
                <a:cubicBezTo>
                  <a:pt x="4011" y="1734"/>
                  <a:pt x="6023" y="1704"/>
                  <a:pt x="7987" y="1811"/>
                </a:cubicBezTo>
                <a:cubicBezTo>
                  <a:pt x="8129" y="1819"/>
                  <a:pt x="8268" y="1830"/>
                  <a:pt x="8409" y="1836"/>
                </a:cubicBezTo>
                <a:cubicBezTo>
                  <a:pt x="8593" y="1844"/>
                  <a:pt x="8773" y="1852"/>
                  <a:pt x="8954" y="1860"/>
                </a:cubicBezTo>
                <a:cubicBezTo>
                  <a:pt x="9073" y="1865"/>
                  <a:pt x="9141" y="1888"/>
                  <a:pt x="9252" y="1910"/>
                </a:cubicBezTo>
                <a:cubicBezTo>
                  <a:pt x="9308" y="1921"/>
                  <a:pt x="9347" y="1926"/>
                  <a:pt x="9401" y="1935"/>
                </a:cubicBezTo>
                <a:cubicBezTo>
                  <a:pt x="9548" y="1960"/>
                  <a:pt x="9702" y="1980"/>
                  <a:pt x="9847" y="2009"/>
                </a:cubicBezTo>
                <a:cubicBezTo>
                  <a:pt x="9952" y="2030"/>
                  <a:pt x="10065" y="2038"/>
                  <a:pt x="10170" y="2059"/>
                </a:cubicBezTo>
                <a:cubicBezTo>
                  <a:pt x="10258" y="2077"/>
                  <a:pt x="10330" y="2098"/>
                  <a:pt x="10418" y="2108"/>
                </a:cubicBezTo>
                <a:cubicBezTo>
                  <a:pt x="10426" y="2108"/>
                  <a:pt x="10435" y="2108"/>
                  <a:pt x="10443" y="2108"/>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5280" y="1089000"/>
            <a:ext cx="3938760" cy="90360"/>
          </a:xfrm>
          <a:custGeom>
            <a:avLst/>
            <a:gdLst/>
            <a:ahLst/>
            <a:rect l="l" t="t" r="r" b="b"/>
            <a:pathLst>
              <a:path w="10940" h="249">
                <a:moveTo>
                  <a:pt x="347" y="3200"/>
                </a:moveTo>
                <a:cubicBezTo>
                  <a:pt x="556" y="3189"/>
                  <a:pt x="760" y="3174"/>
                  <a:pt x="967" y="3150"/>
                </a:cubicBezTo>
                <a:cubicBezTo>
                  <a:pt x="1331" y="3108"/>
                  <a:pt x="1731" y="3115"/>
                  <a:pt x="2084" y="3101"/>
                </a:cubicBezTo>
                <a:cubicBezTo>
                  <a:pt x="2235" y="3095"/>
                  <a:pt x="2386" y="3083"/>
                  <a:pt x="2530" y="3076"/>
                </a:cubicBezTo>
                <a:cubicBezTo>
                  <a:pt x="2681" y="3069"/>
                  <a:pt x="2828" y="3057"/>
                  <a:pt x="2977" y="3051"/>
                </a:cubicBezTo>
                <a:cubicBezTo>
                  <a:pt x="3710" y="3020"/>
                  <a:pt x="4456" y="3055"/>
                  <a:pt x="5184" y="3026"/>
                </a:cubicBezTo>
                <a:cubicBezTo>
                  <a:pt x="5744" y="3004"/>
                  <a:pt x="6317" y="3029"/>
                  <a:pt x="6871" y="3051"/>
                </a:cubicBezTo>
                <a:cubicBezTo>
                  <a:pt x="7139" y="3062"/>
                  <a:pt x="7401" y="3036"/>
                  <a:pt x="7665" y="3026"/>
                </a:cubicBezTo>
                <a:cubicBezTo>
                  <a:pt x="8066" y="3011"/>
                  <a:pt x="8434" y="3067"/>
                  <a:pt x="8830" y="3101"/>
                </a:cubicBezTo>
                <a:cubicBezTo>
                  <a:pt x="9364" y="3147"/>
                  <a:pt x="9912" y="3068"/>
                  <a:pt x="10443" y="3125"/>
                </a:cubicBezTo>
                <a:cubicBezTo>
                  <a:pt x="10557" y="3137"/>
                  <a:pt x="10657" y="3147"/>
                  <a:pt x="10765" y="3175"/>
                </a:cubicBezTo>
                <a:cubicBezTo>
                  <a:pt x="10826" y="3191"/>
                  <a:pt x="10884" y="3208"/>
                  <a:pt x="10939" y="3225"/>
                </a:cubicBezTo>
                <a:cubicBezTo>
                  <a:pt x="10983" y="3239"/>
                  <a:pt x="10985" y="3267"/>
                  <a:pt x="11038" y="3274"/>
                </a:cubicBezTo>
                <a:cubicBezTo>
                  <a:pt x="11119" y="3285"/>
                  <a:pt x="11205" y="3268"/>
                  <a:pt x="11286" y="3274"/>
                </a:cubicBezTo>
              </a:path>
            </a:pathLst>
          </a:custGeom>
          <a:noFill/>
          <a:ln cap="sq" w="228600">
            <a:solidFill>
              <a:srgbClr val="ffff00">
                <a:alpha val="33000"/>
              </a:srgbClr>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p:transition spd="med" advTm="13000">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0" y="3962520"/>
            <a:ext cx="914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ea typeface="Times New Roman"/>
              </a:rPr>
              <a:t>Jika aku enggan mandi, jangan memarahiku dan jangan katakan kepadaku bahwa itu memalukan.</a:t>
            </a:r>
            <a:br>
              <a:rPr sz="2400"/>
            </a:b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ea typeface="Times New Roman"/>
              </a:rPr>
              <a:t>Ingatlah berapa banyak pengertian yang kuberikan padamu menyuruhmu mandi dikala kecilmu.</a:t>
            </a:r>
            <a:r>
              <a:rPr b="1" lang="en-GB" sz="2400" spc="-1" strike="noStrike">
                <a:solidFill>
                  <a:srgbClr val="0000ff"/>
                </a:solidFill>
                <a:latin typeface="Comic Sans MS"/>
              </a:rPr>
              <a:t> </a:t>
            </a:r>
            <a:endParaRPr b="0" lang="en-US" sz="2400" spc="-1" strike="noStrike">
              <a:solidFill>
                <a:srgbClr val="000000"/>
              </a:solidFill>
              <a:latin typeface="Times New Roman"/>
            </a:endParaRPr>
          </a:p>
        </p:txBody>
      </p:sp>
      <p:sp>
        <p:nvSpPr>
          <p:cNvPr id="62" name=""/>
          <p:cNvSpPr/>
          <p:nvPr/>
        </p:nvSpPr>
        <p:spPr>
          <a:xfrm>
            <a:off x="4973760" y="4581360"/>
            <a:ext cx="3830400" cy="44640"/>
          </a:xfrm>
          <a:custGeom>
            <a:avLst/>
            <a:gdLst/>
            <a:ahLst/>
            <a:rect l="l" t="t" r="r" b="b"/>
            <a:pathLst>
              <a:path w="10642" h="125">
                <a:moveTo>
                  <a:pt x="13816" y="12725"/>
                </a:moveTo>
                <a:cubicBezTo>
                  <a:pt x="15215" y="12725"/>
                  <a:pt x="16678" y="12613"/>
                  <a:pt x="18058" y="12774"/>
                </a:cubicBezTo>
                <a:cubicBezTo>
                  <a:pt x="18239" y="12795"/>
                  <a:pt x="18421" y="12816"/>
                  <a:pt x="18604" y="12824"/>
                </a:cubicBezTo>
                <a:cubicBezTo>
                  <a:pt x="18796" y="12832"/>
                  <a:pt x="18982" y="12847"/>
                  <a:pt x="19174" y="12849"/>
                </a:cubicBezTo>
                <a:cubicBezTo>
                  <a:pt x="19489" y="12853"/>
                  <a:pt x="19808" y="12858"/>
                  <a:pt x="20117" y="12824"/>
                </a:cubicBezTo>
                <a:cubicBezTo>
                  <a:pt x="20170" y="12818"/>
                  <a:pt x="20212" y="12803"/>
                  <a:pt x="20265" y="12799"/>
                </a:cubicBezTo>
                <a:cubicBezTo>
                  <a:pt x="21001" y="12739"/>
                  <a:pt x="21767" y="12790"/>
                  <a:pt x="22498" y="12750"/>
                </a:cubicBezTo>
                <a:cubicBezTo>
                  <a:pt x="23146" y="12714"/>
                  <a:pt x="23807" y="12750"/>
                  <a:pt x="24457" y="12750"/>
                </a:cubicBezTo>
              </a:path>
            </a:pathLst>
          </a:custGeom>
          <a:noFill/>
          <a:ln cap="sq" w="228600">
            <a:solidFill>
              <a:srgbClr val="ffff00">
                <a:alpha val="33000"/>
              </a:srgbClr>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3" name=""/>
          <p:cNvSpPr/>
          <p:nvPr/>
        </p:nvSpPr>
        <p:spPr>
          <a:xfrm>
            <a:off x="4211640" y="4437000"/>
            <a:ext cx="992160" cy="19080"/>
          </a:xfrm>
          <a:custGeom>
            <a:avLst/>
            <a:gdLst/>
            <a:ahLst/>
            <a:rect l="l" t="t" r="r" b="b"/>
            <a:pathLst>
              <a:path w="2754" h="51">
                <a:moveTo>
                  <a:pt x="11311" y="13717"/>
                </a:moveTo>
                <a:cubicBezTo>
                  <a:pt x="11520" y="13717"/>
                  <a:pt x="11727" y="13721"/>
                  <a:pt x="11931" y="13692"/>
                </a:cubicBezTo>
                <a:cubicBezTo>
                  <a:pt x="11991" y="13683"/>
                  <a:pt x="12048" y="13677"/>
                  <a:pt x="12105" y="13667"/>
                </a:cubicBezTo>
                <a:cubicBezTo>
                  <a:pt x="12716" y="13564"/>
                  <a:pt x="13440" y="13667"/>
                  <a:pt x="14064" y="13667"/>
                </a:cubicBezTo>
              </a:path>
            </a:pathLst>
          </a:custGeom>
          <a:noFill/>
          <a:ln cap="sq" w="228600">
            <a:solidFill>
              <a:srgbClr val="ffff00">
                <a:alpha val="33000"/>
              </a:srgbClr>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Tree>
  </p:cSld>
  <p:transition spd="med" advTm="12000">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0" y="3276720"/>
            <a:ext cx="495288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Times New Roman"/>
              </a:rPr>
              <a:t>By seeing my ignorance </a:t>
            </a:r>
            <a:br>
              <a:rPr sz="2800"/>
            </a:br>
            <a:r>
              <a:rPr b="1" lang="en-US" sz="2800" spc="-1" strike="noStrike">
                <a:solidFill>
                  <a:srgbClr val="ffffff"/>
                </a:solidFill>
                <a:latin typeface="Comic Sans MS"/>
                <a:ea typeface="Times New Roman"/>
              </a:rPr>
              <a:t>towards the new technologies, do not laugh of me but leave me rather the time to understand</a:t>
            </a:r>
            <a:r>
              <a:rPr b="1" lang="en-GB" sz="2800" spc="-1" strike="noStrike">
                <a:solidFill>
                  <a:srgbClr val="ffffff"/>
                </a:solidFill>
                <a:latin typeface="Comic Sans MS"/>
              </a:rPr>
              <a:t> </a:t>
            </a:r>
            <a:endParaRPr b="0" lang="en-US" sz="2800" spc="-1" strike="noStrike">
              <a:solidFill>
                <a:srgbClr val="000000"/>
              </a:solidFill>
              <a:latin typeface="Times New Roman"/>
            </a:endParaRPr>
          </a:p>
        </p:txBody>
      </p:sp>
      <p:sp>
        <p:nvSpPr>
          <p:cNvPr id="65" name=""/>
          <p:cNvSpPr/>
          <p:nvPr/>
        </p:nvSpPr>
        <p:spPr>
          <a:xfrm>
            <a:off x="2581200" y="4438800"/>
            <a:ext cx="2151000" cy="1440"/>
          </a:xfrm>
          <a:custGeom>
            <a:avLst/>
            <a:gdLst/>
            <a:ahLst/>
            <a:rect l="l" t="t" r="r" b="b"/>
            <a:pathLst>
              <a:path w="5978" h="1">
                <a:moveTo>
                  <a:pt x="7169" y="12328"/>
                </a:moveTo>
                <a:cubicBezTo>
                  <a:pt x="9161" y="12328"/>
                  <a:pt x="11154" y="12328"/>
                  <a:pt x="13146" y="12328"/>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 name=""/>
          <p:cNvSpPr/>
          <p:nvPr/>
        </p:nvSpPr>
        <p:spPr>
          <a:xfrm>
            <a:off x="160200" y="4840200"/>
            <a:ext cx="1001880" cy="17640"/>
          </a:xfrm>
          <a:custGeom>
            <a:avLst/>
            <a:gdLst/>
            <a:ahLst/>
            <a:rect l="l" t="t" r="r" b="b"/>
            <a:pathLst>
              <a:path w="2780" h="51">
                <a:moveTo>
                  <a:pt x="446" y="13469"/>
                </a:moveTo>
                <a:cubicBezTo>
                  <a:pt x="596" y="13497"/>
                  <a:pt x="739" y="13494"/>
                  <a:pt x="893" y="13494"/>
                </a:cubicBezTo>
                <a:cubicBezTo>
                  <a:pt x="1141" y="13494"/>
                  <a:pt x="1399" y="13509"/>
                  <a:pt x="1637" y="13469"/>
                </a:cubicBezTo>
                <a:cubicBezTo>
                  <a:pt x="1833" y="13436"/>
                  <a:pt x="2058" y="13460"/>
                  <a:pt x="2257" y="13444"/>
                </a:cubicBezTo>
                <a:cubicBezTo>
                  <a:pt x="2576" y="13418"/>
                  <a:pt x="2904" y="13444"/>
                  <a:pt x="3225" y="13444"/>
                </a:cubicBezTo>
              </a:path>
            </a:pathLst>
          </a:custGeom>
          <a:noFill/>
          <a:ln cap="sq" w="228600">
            <a:solidFill>
              <a:srgbClr val="ffff00">
                <a:alpha val="33000"/>
              </a:srgbClr>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Tree>
  </p:cSld>
  <p:transition spd="med" advTm="13000">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0" y="4800600"/>
            <a:ext cx="914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Times New Roman"/>
              </a:rPr>
              <a:t>Aku mengajarimu banyak hal …. Cara makan yang baik……cara berpakaian yang baik…….berperilaku yang baik………..bagaimana menghadapi problem dalam kehidupan…..</a:t>
            </a:r>
            <a:endParaRPr b="0" lang="en-US" sz="2400" spc="-1" strike="noStrike">
              <a:solidFill>
                <a:srgbClr val="000000"/>
              </a:solidFill>
              <a:latin typeface="Times New Roman"/>
            </a:endParaRPr>
          </a:p>
        </p:txBody>
      </p:sp>
    </p:spTree>
  </p:cSld>
  <p:transition spd="med" advTm="12000">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0" y="3962520"/>
            <a:ext cx="914400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ea typeface="Times New Roman"/>
              </a:rPr>
              <a:t>Jika terkadang aku menjadi pelupa dan aku tidak dapat mengerti dan mengikuti pembicaraan, beri aku waktu untuk mengingat dan jika aku gagal melakukannya jangan sombong dan memarahiku, karena yang penting bagiku adalah….aku dapat bersamamu dan dapat berbicara padamu. </a:t>
            </a:r>
            <a:endParaRPr b="0" lang="en-US" sz="2800" spc="-1" strike="noStrike">
              <a:solidFill>
                <a:srgbClr val="000000"/>
              </a:solidFill>
              <a:latin typeface="Times New Roman"/>
            </a:endParaRPr>
          </a:p>
        </p:txBody>
      </p:sp>
      <p:sp>
        <p:nvSpPr>
          <p:cNvPr id="69" name=""/>
          <p:cNvSpPr/>
          <p:nvPr/>
        </p:nvSpPr>
        <p:spPr>
          <a:xfrm>
            <a:off x="5473800" y="5911920"/>
            <a:ext cx="3357360" cy="115920"/>
          </a:xfrm>
          <a:custGeom>
            <a:avLst/>
            <a:gdLst/>
            <a:ahLst/>
            <a:rect l="l" t="t" r="r" b="b"/>
            <a:pathLst>
              <a:path w="9328" h="323">
                <a:moveTo>
                  <a:pt x="15304" y="16545"/>
                </a:moveTo>
                <a:cubicBezTo>
                  <a:pt x="15343" y="16534"/>
                  <a:pt x="15395" y="16503"/>
                  <a:pt x="15429" y="16495"/>
                </a:cubicBezTo>
                <a:cubicBezTo>
                  <a:pt x="15484" y="16483"/>
                  <a:pt x="15547" y="16475"/>
                  <a:pt x="15602" y="16470"/>
                </a:cubicBezTo>
                <a:cubicBezTo>
                  <a:pt x="16028" y="16430"/>
                  <a:pt x="16598" y="16409"/>
                  <a:pt x="17016" y="16495"/>
                </a:cubicBezTo>
                <a:cubicBezTo>
                  <a:pt x="17149" y="16522"/>
                  <a:pt x="17279" y="16549"/>
                  <a:pt x="17413" y="16570"/>
                </a:cubicBezTo>
                <a:cubicBezTo>
                  <a:pt x="17521" y="16587"/>
                  <a:pt x="17629" y="16604"/>
                  <a:pt x="17735" y="16619"/>
                </a:cubicBezTo>
                <a:cubicBezTo>
                  <a:pt x="17818" y="16631"/>
                  <a:pt x="17900" y="16632"/>
                  <a:pt x="17983" y="16644"/>
                </a:cubicBezTo>
                <a:cubicBezTo>
                  <a:pt x="18065" y="16656"/>
                  <a:pt x="18185" y="16689"/>
                  <a:pt x="18256" y="16694"/>
                </a:cubicBezTo>
                <a:cubicBezTo>
                  <a:pt x="18375" y="16702"/>
                  <a:pt x="18487" y="16703"/>
                  <a:pt x="18604" y="16718"/>
                </a:cubicBezTo>
                <a:cubicBezTo>
                  <a:pt x="18745" y="16735"/>
                  <a:pt x="18882" y="16741"/>
                  <a:pt x="19025" y="16743"/>
                </a:cubicBezTo>
                <a:cubicBezTo>
                  <a:pt x="19314" y="16747"/>
                  <a:pt x="19610" y="16753"/>
                  <a:pt x="19893" y="16718"/>
                </a:cubicBezTo>
                <a:cubicBezTo>
                  <a:pt x="19976" y="16708"/>
                  <a:pt x="20058" y="16707"/>
                  <a:pt x="20141" y="16694"/>
                </a:cubicBezTo>
                <a:cubicBezTo>
                  <a:pt x="20208" y="16683"/>
                  <a:pt x="20272" y="16680"/>
                  <a:pt x="20340" y="16669"/>
                </a:cubicBezTo>
                <a:cubicBezTo>
                  <a:pt x="20390" y="16661"/>
                  <a:pt x="20441" y="16657"/>
                  <a:pt x="20489" y="16644"/>
                </a:cubicBezTo>
                <a:cubicBezTo>
                  <a:pt x="20541" y="16630"/>
                  <a:pt x="20583" y="16605"/>
                  <a:pt x="20638" y="16594"/>
                </a:cubicBezTo>
                <a:cubicBezTo>
                  <a:pt x="20644" y="16593"/>
                  <a:pt x="20698" y="16573"/>
                  <a:pt x="20737" y="16570"/>
                </a:cubicBezTo>
                <a:cubicBezTo>
                  <a:pt x="20896" y="16557"/>
                  <a:pt x="21088" y="16552"/>
                  <a:pt x="21233" y="16545"/>
                </a:cubicBezTo>
                <a:cubicBezTo>
                  <a:pt x="21307" y="16542"/>
                  <a:pt x="21398" y="16524"/>
                  <a:pt x="21456" y="16520"/>
                </a:cubicBezTo>
                <a:cubicBezTo>
                  <a:pt x="22440" y="16452"/>
                  <a:pt x="23604" y="16520"/>
                  <a:pt x="24507" y="16520"/>
                </a:cubicBezTo>
                <a:cubicBezTo>
                  <a:pt x="24444" y="16534"/>
                  <a:pt x="24392" y="16523"/>
                  <a:pt x="24333" y="16545"/>
                </a:cubicBezTo>
                <a:cubicBezTo>
                  <a:pt x="24249" y="16576"/>
                  <a:pt x="24196" y="16601"/>
                  <a:pt x="24110" y="16619"/>
                </a:cubicBezTo>
                <a:cubicBezTo>
                  <a:pt x="24019" y="16638"/>
                  <a:pt x="23928" y="16663"/>
                  <a:pt x="23837" y="16669"/>
                </a:cubicBezTo>
                <a:cubicBezTo>
                  <a:pt x="22800" y="16738"/>
                  <a:pt x="21713" y="16682"/>
                  <a:pt x="20687" y="16619"/>
                </a:cubicBezTo>
                <a:cubicBezTo>
                  <a:pt x="20455" y="16605"/>
                  <a:pt x="20222" y="16592"/>
                  <a:pt x="19993" y="16545"/>
                </a:cubicBezTo>
                <a:cubicBezTo>
                  <a:pt x="19851" y="16516"/>
                  <a:pt x="19709" y="16473"/>
                  <a:pt x="19571" y="16446"/>
                </a:cubicBezTo>
                <a:cubicBezTo>
                  <a:pt x="19527" y="16437"/>
                  <a:pt x="19497" y="16427"/>
                  <a:pt x="19447" y="16421"/>
                </a:cubicBezTo>
                <a:cubicBezTo>
                  <a:pt x="19307" y="16404"/>
                  <a:pt x="19179" y="16440"/>
                  <a:pt x="19050" y="16446"/>
                </a:cubicBezTo>
                <a:cubicBezTo>
                  <a:pt x="18500" y="16472"/>
                  <a:pt x="17924" y="16444"/>
                  <a:pt x="17388" y="16470"/>
                </a:cubicBezTo>
                <a:cubicBezTo>
                  <a:pt x="16664" y="16506"/>
                  <a:pt x="15930" y="16470"/>
                  <a:pt x="15205" y="16470"/>
                </a:cubicBezTo>
              </a:path>
            </a:pathLst>
          </a:custGeom>
          <a:noFill/>
          <a:ln cap="sq" w="228600">
            <a:solidFill>
              <a:srgbClr val="ffff00">
                <a:alpha val="33000"/>
              </a:srgbClr>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803240" y="6384960"/>
            <a:ext cx="5384880" cy="54000"/>
          </a:xfrm>
          <a:custGeom>
            <a:avLst/>
            <a:gdLst/>
            <a:ahLst/>
            <a:rect l="l" t="t" r="r" b="b"/>
            <a:pathLst>
              <a:path w="14958" h="150">
                <a:moveTo>
                  <a:pt x="5011" y="17835"/>
                </a:moveTo>
                <a:cubicBezTo>
                  <a:pt x="5479" y="17835"/>
                  <a:pt x="6023" y="17824"/>
                  <a:pt x="6449" y="17810"/>
                </a:cubicBezTo>
                <a:cubicBezTo>
                  <a:pt x="7058" y="17790"/>
                  <a:pt x="7673" y="17763"/>
                  <a:pt x="8260" y="17735"/>
                </a:cubicBezTo>
                <a:cubicBezTo>
                  <a:pt x="10319" y="17638"/>
                  <a:pt x="12531" y="17626"/>
                  <a:pt x="14560" y="17810"/>
                </a:cubicBezTo>
                <a:cubicBezTo>
                  <a:pt x="14750" y="17827"/>
                  <a:pt x="14941" y="17829"/>
                  <a:pt x="15131" y="17835"/>
                </a:cubicBezTo>
                <a:cubicBezTo>
                  <a:pt x="16600" y="17882"/>
                  <a:pt x="18093" y="17821"/>
                  <a:pt x="19546" y="17884"/>
                </a:cubicBezTo>
                <a:cubicBezTo>
                  <a:pt x="19686" y="17890"/>
                  <a:pt x="19828" y="17881"/>
                  <a:pt x="19968" y="17884"/>
                </a:cubicBezTo>
              </a:path>
            </a:pathLst>
          </a:custGeom>
          <a:noFill/>
          <a:ln cap="sq" w="228600">
            <a:solidFill>
              <a:srgbClr val="ffff00">
                <a:alpha val="33000"/>
              </a:srgbClr>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 name=""/>
          <p:cNvSpPr/>
          <p:nvPr/>
        </p:nvSpPr>
        <p:spPr>
          <a:xfrm>
            <a:off x="8535960" y="5106960"/>
            <a:ext cx="376200" cy="9720"/>
          </a:xfrm>
          <a:custGeom>
            <a:avLst/>
            <a:gdLst/>
            <a:ahLst/>
            <a:rect l="l" t="t" r="r" b="b"/>
            <a:pathLst>
              <a:path w="1043" h="26">
                <a:moveTo>
                  <a:pt x="23713" y="14213"/>
                </a:moveTo>
                <a:cubicBezTo>
                  <a:pt x="23938" y="14213"/>
                  <a:pt x="24167" y="14224"/>
                  <a:pt x="24383" y="14188"/>
                </a:cubicBezTo>
                <a:cubicBezTo>
                  <a:pt x="24500" y="14169"/>
                  <a:pt x="24638" y="14188"/>
                  <a:pt x="24755" y="14188"/>
                </a:cubicBezTo>
              </a:path>
            </a:pathLst>
          </a:custGeom>
          <a:noFill/>
          <a:ln cap="sq" w="228600">
            <a:solidFill>
              <a:srgbClr val="ffff00">
                <a:alpha val="33000"/>
              </a:srgbClr>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 name=""/>
          <p:cNvSpPr/>
          <p:nvPr/>
        </p:nvSpPr>
        <p:spPr>
          <a:xfrm>
            <a:off x="169920" y="5500800"/>
            <a:ext cx="7375320" cy="71280"/>
          </a:xfrm>
          <a:custGeom>
            <a:avLst/>
            <a:gdLst/>
            <a:ahLst/>
            <a:rect l="l" t="t" r="r" b="b"/>
            <a:pathLst>
              <a:path w="20490" h="199">
                <a:moveTo>
                  <a:pt x="471" y="15304"/>
                </a:moveTo>
                <a:cubicBezTo>
                  <a:pt x="556" y="15326"/>
                  <a:pt x="629" y="15357"/>
                  <a:pt x="719" y="15379"/>
                </a:cubicBezTo>
                <a:cubicBezTo>
                  <a:pt x="845" y="15409"/>
                  <a:pt x="1013" y="15465"/>
                  <a:pt x="1141" y="15478"/>
                </a:cubicBezTo>
                <a:cubicBezTo>
                  <a:pt x="1659" y="15533"/>
                  <a:pt x="2198" y="15448"/>
                  <a:pt x="2704" y="15379"/>
                </a:cubicBezTo>
                <a:cubicBezTo>
                  <a:pt x="2846" y="15360"/>
                  <a:pt x="2985" y="15347"/>
                  <a:pt x="3125" y="15329"/>
                </a:cubicBezTo>
                <a:cubicBezTo>
                  <a:pt x="3195" y="15320"/>
                  <a:pt x="3256" y="15286"/>
                  <a:pt x="3324" y="15280"/>
                </a:cubicBezTo>
                <a:cubicBezTo>
                  <a:pt x="4120" y="15215"/>
                  <a:pt x="5036" y="15241"/>
                  <a:pt x="5804" y="15329"/>
                </a:cubicBezTo>
                <a:cubicBezTo>
                  <a:pt x="5883" y="15338"/>
                  <a:pt x="5950" y="15346"/>
                  <a:pt x="6028" y="15354"/>
                </a:cubicBezTo>
                <a:cubicBezTo>
                  <a:pt x="6113" y="15363"/>
                  <a:pt x="6188" y="15375"/>
                  <a:pt x="6276" y="15379"/>
                </a:cubicBezTo>
                <a:cubicBezTo>
                  <a:pt x="7503" y="15428"/>
                  <a:pt x="8745" y="15404"/>
                  <a:pt x="9971" y="15404"/>
                </a:cubicBezTo>
                <a:cubicBezTo>
                  <a:pt x="11496" y="15404"/>
                  <a:pt x="13020" y="15354"/>
                  <a:pt x="14536" y="15354"/>
                </a:cubicBezTo>
                <a:cubicBezTo>
                  <a:pt x="15313" y="15354"/>
                  <a:pt x="16158" y="15277"/>
                  <a:pt x="16917" y="15404"/>
                </a:cubicBezTo>
                <a:cubicBezTo>
                  <a:pt x="17067" y="15429"/>
                  <a:pt x="17182" y="15465"/>
                  <a:pt x="17338" y="15478"/>
                </a:cubicBezTo>
                <a:cubicBezTo>
                  <a:pt x="18310" y="15561"/>
                  <a:pt x="19529" y="15588"/>
                  <a:pt x="20439" y="15429"/>
                </a:cubicBezTo>
                <a:cubicBezTo>
                  <a:pt x="20541" y="15411"/>
                  <a:pt x="20697" y="15339"/>
                  <a:pt x="20762" y="15329"/>
                </a:cubicBezTo>
                <a:cubicBezTo>
                  <a:pt x="20826" y="15319"/>
                  <a:pt x="20896" y="15341"/>
                  <a:pt x="20960" y="15329"/>
                </a:cubicBezTo>
              </a:path>
            </a:pathLst>
          </a:custGeom>
          <a:noFill/>
          <a:ln cap="sq" w="228600">
            <a:solidFill>
              <a:srgbClr val="ffff00">
                <a:alpha val="33000"/>
              </a:srgbClr>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Tree>
  </p:cSld>
  <p:transition spd="med" advTm="15000">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6T19:58:36Z</dcterms:created>
  <dc:creator>Ricardo Venegas Ortega</dc:creator>
  <dc:description/>
  <dc:language>en-US</dc:language>
  <cp:lastModifiedBy>sarwonohm</cp:lastModifiedBy>
  <dcterms:modified xsi:type="dcterms:W3CDTF">2007-02-13T09:39:53Z</dcterms:modified>
  <cp:revision>68</cp:revision>
  <dc:subject/>
  <dc:title>Sin título de diapositiva</dc:title>
</cp:coreProperties>
</file>