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599988" cy="7199313"/>
  <p:notesSz cx="13258800" cy="8229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A37-2A7F-4995-ADD1-C372B72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34C-BAFC-4E31-87B3-4F9D147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A05-20A7-47E8-80C2-C612786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BB0-92E6-4408-A751-A8F6DD6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B8B-B7BA-4A9C-814E-C4B39B4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4AC-40E9-4109-B442-9A97D01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1A8-ABE9-4C07-9A84-FFB274F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69D-FD1F-4439-9713-2A3A651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FD7-58F5-4226-AAD8-207606AC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266-3A2E-458B-A97F-BEF698E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EEE-5AA7-4EF7-AC79-E7968AC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9A8-F2A6-4447-BD8E-EAFA9DC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F4ABF449-CF19-4C54-9211-E530694BBEA2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688000"/>
            <a:ext cx="12601440" cy="12556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Menyusun</a:t>
            </a:r>
            <a:r>
              <a:rPr b="0" lang="en-US" sz="4800" spc="-1" strike="noStrike">
                <a:solidFill>
                  <a:srgbClr val="ffffff"/>
                </a:solidFill>
                <a:latin typeface="Eras Light ITC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 Ultra Bold"/>
              </a:rPr>
              <a:t>RENCANA MANAJEMEN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TEKNI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5234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Menjelaskan secara rinci tentang kerja-kerja yang tertuan dalam gambar kerj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okumen gambar kerja terdiri ata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MASTER PL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RENCANA PENANAM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ETAIL PENANAM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ETAIL KONSTRUKSI LANSKA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BIAYA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1679400"/>
            <a:ext cx="11341080" cy="516096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Menjelaskan seluruh biaya pelaksanaan pekerjaan sehingga masa pemelihara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terdiri atas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ten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jasa lain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material didapatkan dari perkalian antara volume dan harga satu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tenaga didapatkan dari harga jasa dikalikan </a:t>
            </a:r>
            <a:r>
              <a:rPr b="0" i="1" lang="en-US" sz="3000" spc="-1" strike="noStrike">
                <a:solidFill>
                  <a:srgbClr val="ffffff"/>
                </a:solidFill>
                <a:latin typeface="Gill Sans MT"/>
              </a:rPr>
              <a:t>man month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masa kerj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jasa lainnya (termasuk sewa, dll) dapat dihitung per satuan volume maupun </a:t>
            </a:r>
            <a:r>
              <a:rPr b="0" i="1" lang="en-US" sz="3000" spc="-1" strike="noStrike">
                <a:solidFill>
                  <a:srgbClr val="ffffff"/>
                </a:solidFill>
                <a:latin typeface="Gill Sans MT"/>
              </a:rPr>
              <a:t>lump sum.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0360" y="720720"/>
            <a:ext cx="113410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ill Sans MT"/>
              </a:rPr>
              <a:t>M . A . N . A . J . E . M . E .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PLAN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ORGANIZ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ACTU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CONTROL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EVALU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Tujuan MANAJEMEN LANSKAP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83000"/>
          </a:bodyPr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astikan adanya manajemen berkelanjutan terhadap rencana yang telah dibu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elihara kawasan agar dapat lestari dan sesuai dengan histori maupun konsep aw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kualitas kawasan agar selalu bai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ingkatkan penampilan kawasan sehingga sesuai dengan tujuan lanskap tersebut dibu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Sasaran MANAJEMEN LANSKAP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1679400"/>
            <a:ext cx="11341080" cy="16336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asaran JANGKA PEND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asaran JANGKA PANJA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360" y="3600360"/>
            <a:ext cx="11341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56520" bIns="56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Langkah - langka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360" y="4991040"/>
            <a:ext cx="113410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56520" bIns="56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entukan tujuan dan aktivitas apa saja yang mesti dilakukan untuk setiap sasar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NGORGANISASI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pastikan agar perencanaan dapat berjalan seperti yang dikehendak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dapatkan gambaran keterlibatan pihak lain dalam pelaksanaan pekerja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elaskan struktur kerja dan hubungan kerja (tanggung jawab, konsultasi, dsb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LAKSANA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5234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6000"/>
          </a:bodyPr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tiap pelaksanaan mesti berdasarkan dokumen kerja yang telah disepakat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okumen kerja terdiri ata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ADMINISTRASI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TEKNI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ANGGARAN BIAY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tiap perubahan yang terjadi selama pelaksanaan mesti dibuat berdasarkan prosedure yang ben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MANTAU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5000"/>
          </a:bodyPr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agar perkembangan keadaan landskap sesuai dengan rencana aw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agar tidak terjadi kecelakaan dalam aktivitas yang dilakukan di atas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kelestarian lingkungan agar terjadi simbiosis (hubungan) yang saling menguntungk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EVALUASI / PENCERMAT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dapatkan </a:t>
            </a:r>
            <a:r>
              <a:rPr b="0" i="1" lang="en-US" sz="4000" spc="-1" strike="noStrike">
                <a:solidFill>
                  <a:srgbClr val="ffffff"/>
                </a:solidFill>
                <a:latin typeface="Gill Sans MT"/>
              </a:rPr>
              <a:t>feed back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ari desain lanskap setelah masa penggunaan (</a:t>
            </a:r>
            <a:r>
              <a:rPr b="0" i="1" lang="en-US" sz="4000" spc="-1" strike="noStrike">
                <a:solidFill>
                  <a:srgbClr val="ffffff"/>
                </a:solidFill>
                <a:latin typeface="Gill Sans MT"/>
              </a:rPr>
              <a:t>post occupancy evaluation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gar terjadi konsistensi dalam desain bila ada beberapa hal dari desain, yang setelah diwujudkan, ada yang kurang sesua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ADMINISTRASI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5000"/>
          </a:bodyPr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luruh dokumen yang dapat menjelaskan kelayakan seseorang atau badan sehingga diberikan kepada mereka kepercayaan untuk menjalankan kerja-kerja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Berisi profil badan / lembaga dan atau personil yang akan menjalankan kerja-kerja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ukungan dari asosiasi ataupun nurseri yang membantu pelaksanaan pekerjaan lanska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3:08:53Z</dcterms:created>
  <dc:creator>User</dc:creator>
  <dc:description/>
  <dc:language>en-US</dc:language>
  <cp:lastModifiedBy>Muhammad</cp:lastModifiedBy>
  <dcterms:modified xsi:type="dcterms:W3CDTF">2007-05-24T06:16:46Z</dcterms:modified>
  <cp:revision>36</cp:revision>
  <dc:subject/>
  <dc:title>TIPE SITE DAN RUANG LUAR</dc:title>
</cp:coreProperties>
</file>