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599988" cy="7199313"/>
  <p:notesSz cx="13258800" cy="8229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D2CE-5605-4B05-91E5-8BB373FCC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113410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0000" y="4161600"/>
            <a:ext cx="113410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E554-FE0D-473A-9FAA-080246A3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41480" y="167904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0000" y="416160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441480" y="416160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E1FF-FCD6-46F0-B658-B6F39FCA8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36514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64360" y="1679040"/>
            <a:ext cx="36514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298720" y="1679040"/>
            <a:ext cx="36514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0000" y="4161600"/>
            <a:ext cx="36514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64360" y="4161600"/>
            <a:ext cx="36514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298720" y="4161600"/>
            <a:ext cx="36514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BF56-56D9-464C-B097-CC3D9EF3B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0000" y="1679040"/>
            <a:ext cx="113410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48CE-8D04-489E-859C-5BBEE12F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11341080" cy="47530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DDC4-1883-430E-AED0-47B4CAA6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5534280" cy="47530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41480" y="1679040"/>
            <a:ext cx="5534280" cy="47530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DD07-67EF-4EED-A53A-94EFDAF4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8F31-81B0-4B9D-A823-A5AE60AF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0000" y="288720"/>
            <a:ext cx="1134108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7CE1-367B-4980-A11A-5AE07A4A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441480" y="1679040"/>
            <a:ext cx="5534280" cy="47530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0000" y="416160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8436-FCCF-400E-B666-1685D35E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5534280" cy="47530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441480" y="167904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41480" y="416160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E60D-C857-46C8-9D3A-00538900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41480" y="1679040"/>
            <a:ext cx="55342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0000" y="4161600"/>
            <a:ext cx="11341080" cy="226692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8816-3FA4-4FAC-81D6-078495CB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5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0000" y="1679040"/>
            <a:ext cx="11341080" cy="47530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 fontScale="92000"/>
          </a:bodyPr>
          <a:p>
            <a:pPr marL="389520" indent="-38952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45280" indent="-3254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2" marL="1301040" indent="-25992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821240" indent="-25992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4" marL="2342520" indent="-259920">
              <a:spcBef>
                <a:spcPts val="1001"/>
              </a:spcBef>
              <a:buClr>
                <a:srgbClr val="ffffff"/>
              </a:buClr>
              <a:buFont typeface="Arial"/>
              <a:buChar char="»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5" marL="2342520" indent="-259920">
              <a:spcBef>
                <a:spcPts val="1001"/>
              </a:spcBef>
              <a:buClr>
                <a:srgbClr val="ffffff"/>
              </a:buClr>
              <a:buFont typeface="Arial"/>
              <a:buChar char="»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6" marL="2342520" indent="-259920">
              <a:spcBef>
                <a:spcPts val="1001"/>
              </a:spcBef>
              <a:buClr>
                <a:srgbClr val="ffffff"/>
              </a:buClr>
              <a:buFont typeface="Arial"/>
              <a:buChar char="»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360" y="6557760"/>
            <a:ext cx="2939760" cy="50004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Autofit/>
          </a:bodyPr>
          <a:lstStyle>
            <a:lvl1pPr indent="0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  <a:defRPr b="0" lang="en-US" sz="17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05240" y="6557760"/>
            <a:ext cx="3990960" cy="50004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Autofit/>
          </a:bodyPr>
          <a:lstStyle>
            <a:lvl1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  <a:defRPr b="0" lang="en-US" sz="17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030960" y="6557760"/>
            <a:ext cx="2940120" cy="50004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Autofit/>
          </a:bodyPr>
          <a:lstStyle>
            <a:lvl1pPr indent="0" algn="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  <a:defRPr b="0" lang="en-US" sz="17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fld id="{29E7732F-D539-423C-A71A-8B9ACCD6635C}" type="slidenum">
              <a:rPr b="0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5688000"/>
            <a:ext cx="12601440" cy="1255680"/>
          </a:xfrm>
          <a:prstGeom prst="rect">
            <a:avLst/>
          </a:prstGeom>
          <a:solidFill>
            <a:srgbClr val="ff9900">
              <a:alpha val="40000"/>
            </a:srgbClr>
          </a:solidFill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MT"/>
              </a:rPr>
              <a:t>Menyusun</a:t>
            </a:r>
            <a:r>
              <a:rPr b="0" lang="en-US" sz="4800" spc="-1" strike="noStrike">
                <a:solidFill>
                  <a:srgbClr val="ffffff"/>
                </a:solidFill>
                <a:latin typeface="Eras Light ITC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Gill Sans Ultra Bold"/>
              </a:rPr>
              <a:t>RENCANA MANAJEMEN</a:t>
            </a: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5400" spc="-1" strike="noStrike">
                <a:solidFill>
                  <a:srgbClr val="ff9900"/>
                </a:solidFill>
                <a:latin typeface="Gill Sans MT"/>
              </a:rPr>
              <a:t>DOKUMEN TEKNIS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11341080" cy="523404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marL="423720" indent="-423720">
              <a:lnSpc>
                <a:spcPct val="100000"/>
              </a:lnSpc>
              <a:spcBef>
                <a:spcPts val="1001"/>
              </a:spcBef>
              <a:buClr>
                <a:srgbClr val="f0e500"/>
              </a:buClr>
              <a:buFont typeface="Gill Sans MT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Menjelaskan secara rinci tentang kerja-kerja yang tertuan dalam gambar kerj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23720" indent="-423720">
              <a:lnSpc>
                <a:spcPct val="100000"/>
              </a:lnSpc>
              <a:spcBef>
                <a:spcPts val="1001"/>
              </a:spcBef>
              <a:buClr>
                <a:srgbClr val="f0e500"/>
              </a:buClr>
              <a:buFont typeface="Gill Sans MT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Dokumen gambar kerja terdiri atas 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3880">
              <a:lnSpc>
                <a:spcPct val="100000"/>
              </a:lnSpc>
              <a:spcBef>
                <a:spcPts val="876"/>
              </a:spcBef>
              <a:buClr>
                <a:srgbClr val="33cc33"/>
              </a:buClr>
              <a:buSzPct val="70000"/>
              <a:buFont typeface="Wingdings" charset="2"/>
              <a:buChar char="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ill Sans MT"/>
              </a:rPr>
              <a:t>MASTER PLAN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3880">
              <a:lnSpc>
                <a:spcPct val="100000"/>
              </a:lnSpc>
              <a:spcBef>
                <a:spcPts val="876"/>
              </a:spcBef>
              <a:buClr>
                <a:srgbClr val="33cc33"/>
              </a:buClr>
              <a:buSzPct val="70000"/>
              <a:buFont typeface="Wingdings" charset="2"/>
              <a:buChar char="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ill Sans MT"/>
              </a:rPr>
              <a:t>RENCANA PENANAMAN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3880">
              <a:lnSpc>
                <a:spcPct val="100000"/>
              </a:lnSpc>
              <a:spcBef>
                <a:spcPts val="876"/>
              </a:spcBef>
              <a:buClr>
                <a:srgbClr val="33cc33"/>
              </a:buClr>
              <a:buSzPct val="70000"/>
              <a:buFont typeface="Wingdings" charset="2"/>
              <a:buChar char="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ill Sans MT"/>
              </a:rPr>
              <a:t>DETAIL PENANAMAN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3880">
              <a:lnSpc>
                <a:spcPct val="100000"/>
              </a:lnSpc>
              <a:spcBef>
                <a:spcPts val="876"/>
              </a:spcBef>
              <a:buClr>
                <a:srgbClr val="33cc33"/>
              </a:buClr>
              <a:buSzPct val="70000"/>
              <a:buFont typeface="Wingdings" charset="2"/>
              <a:buChar char="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ill Sans MT"/>
              </a:rPr>
              <a:t>DETAIL KONSTRUKSI LANSKAP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5400" spc="-1" strike="noStrike">
                <a:solidFill>
                  <a:srgbClr val="ff9900"/>
                </a:solidFill>
                <a:latin typeface="Gill Sans MT"/>
              </a:rPr>
              <a:t>DOKUMEN BIAYA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30000" y="1679400"/>
            <a:ext cx="11341080" cy="516096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marL="423720" indent="-423720">
              <a:lnSpc>
                <a:spcPct val="80000"/>
              </a:lnSpc>
              <a:spcBef>
                <a:spcPts val="751"/>
              </a:spcBef>
              <a:buClr>
                <a:srgbClr val="f0e500"/>
              </a:buClr>
              <a:buFont typeface="Gill Sans MT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Menjelaskan seluruh biaya pelaksanaan pekerjaan sehingga masa pemeliharaa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751"/>
              </a:spcBef>
              <a:buClr>
                <a:srgbClr val="f0e500"/>
              </a:buClr>
              <a:buFont typeface="Gill Sans MT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Biaya terdiri atas 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3880">
              <a:lnSpc>
                <a:spcPct val="80000"/>
              </a:lnSpc>
              <a:spcBef>
                <a:spcPts val="601"/>
              </a:spcBef>
              <a:buClr>
                <a:srgbClr val="33cc33"/>
              </a:buClr>
              <a:buFont typeface="Wingdings" charset="2"/>
              <a:buChar char="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Biaya mate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3880">
              <a:lnSpc>
                <a:spcPct val="80000"/>
              </a:lnSpc>
              <a:spcBef>
                <a:spcPts val="601"/>
              </a:spcBef>
              <a:buClr>
                <a:srgbClr val="33cc33"/>
              </a:buClr>
              <a:buFont typeface="Wingdings" charset="2"/>
              <a:buChar char="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Biaya tena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3880">
              <a:lnSpc>
                <a:spcPct val="80000"/>
              </a:lnSpc>
              <a:spcBef>
                <a:spcPts val="601"/>
              </a:spcBef>
              <a:buClr>
                <a:srgbClr val="33cc33"/>
              </a:buClr>
              <a:buFont typeface="Wingdings" charset="2"/>
              <a:buChar char="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Biaya jasa lainny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751"/>
              </a:spcBef>
              <a:buClr>
                <a:srgbClr val="f0e500"/>
              </a:buClr>
              <a:buFont typeface="Gill Sans MT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Biaya material didapatkan dari perkalian antara volume dan harga satua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751"/>
              </a:spcBef>
              <a:buClr>
                <a:srgbClr val="f0e500"/>
              </a:buClr>
              <a:buFont typeface="Gill Sans MT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Biaya tenaga didapatkan dari harga jasa dikalikan </a:t>
            </a:r>
            <a:r>
              <a:rPr b="0" i="1" lang="en-US" sz="3000" spc="-1" strike="noStrike">
                <a:solidFill>
                  <a:srgbClr val="ffffff"/>
                </a:solidFill>
                <a:latin typeface="Gill Sans MT"/>
              </a:rPr>
              <a:t>man month</a:t>
            </a: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 (masa kerja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751"/>
              </a:spcBef>
              <a:buClr>
                <a:srgbClr val="f0e500"/>
              </a:buClr>
              <a:buFont typeface="Gill Sans MT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Biaya jasa lainnya (termasuk sewa, dll) dapat dihitung per satuan volume maupun </a:t>
            </a:r>
            <a:r>
              <a:rPr b="0" i="1" lang="en-US" sz="3000" spc="-1" strike="noStrike">
                <a:solidFill>
                  <a:srgbClr val="ffffff"/>
                </a:solidFill>
                <a:latin typeface="Gill Sans MT"/>
              </a:rPr>
              <a:t>lump sum.</a:t>
            </a: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30360" y="720720"/>
            <a:ext cx="11341080" cy="57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ill Sans MT"/>
              </a:rPr>
              <a:t>M . A . N . A . J . E . M . E . 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5400" spc="-1" strike="noStrike">
                <a:solidFill>
                  <a:srgbClr val="dddddd"/>
                </a:solidFill>
                <a:latin typeface="Gill Sans MT"/>
              </a:rPr>
              <a:t>PLANN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5400" spc="-1" strike="noStrike">
                <a:solidFill>
                  <a:srgbClr val="dddddd"/>
                </a:solidFill>
                <a:latin typeface="Gill Sans MT"/>
              </a:rPr>
              <a:t>ORGANIZ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5400" spc="-1" strike="noStrike">
                <a:solidFill>
                  <a:srgbClr val="dddddd"/>
                </a:solidFill>
                <a:latin typeface="Gill Sans MT"/>
              </a:rPr>
              <a:t>ACTUAT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5400" spc="-1" strike="noStrike">
                <a:solidFill>
                  <a:srgbClr val="dddddd"/>
                </a:solidFill>
                <a:latin typeface="Gill Sans MT"/>
              </a:rPr>
              <a:t>CONTROL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5400" spc="-1" strike="noStrike">
                <a:solidFill>
                  <a:srgbClr val="dddddd"/>
                </a:solidFill>
                <a:latin typeface="Gill Sans MT"/>
              </a:rPr>
              <a:t>EVALUAT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5400" spc="-1" strike="noStrike">
                <a:solidFill>
                  <a:srgbClr val="ff9900"/>
                </a:solidFill>
                <a:latin typeface="Gill Sans MT"/>
              </a:rPr>
              <a:t>Tujuan MANAJEMEN LANSKAP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11341080" cy="47530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 fontScale="83000"/>
          </a:bodyPr>
          <a:p>
            <a:pPr marL="351360" indent="-351360">
              <a:lnSpc>
                <a:spcPct val="100000"/>
              </a:lnSpc>
              <a:spcBef>
                <a:spcPts val="1001"/>
              </a:spcBef>
              <a:buClr>
                <a:srgbClr val="f0e500"/>
              </a:buClr>
              <a:buFont typeface="Gill Sans MT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Untuk memastikan adanya manajemen berkelanjutan terhadap rencana yang telah dibua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51360" indent="-351360">
              <a:lnSpc>
                <a:spcPct val="100000"/>
              </a:lnSpc>
              <a:spcBef>
                <a:spcPts val="1001"/>
              </a:spcBef>
              <a:buClr>
                <a:srgbClr val="f0e500"/>
              </a:buClr>
              <a:buFont typeface="Gill Sans MT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Untuk memelihara kawasan agar dapat lestari dan sesuai dengan histori maupun konsep awa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51360" indent="-351360">
              <a:lnSpc>
                <a:spcPct val="100000"/>
              </a:lnSpc>
              <a:spcBef>
                <a:spcPts val="1001"/>
              </a:spcBef>
              <a:buClr>
                <a:srgbClr val="f0e500"/>
              </a:buClr>
              <a:buFont typeface="Gill Sans MT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Untuk menjaga kualitas kawasan agar selalu baik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51360" indent="-351360">
              <a:lnSpc>
                <a:spcPct val="100000"/>
              </a:lnSpc>
              <a:spcBef>
                <a:spcPts val="1001"/>
              </a:spcBef>
              <a:buClr>
                <a:srgbClr val="f0e500"/>
              </a:buClr>
              <a:buFont typeface="Gill Sans MT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Untuk meningkatkan penampilan kawasan sehingga sesuai dengan tujuan lanskap tersebut dibua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5400" spc="-1" strike="noStrike">
                <a:solidFill>
                  <a:srgbClr val="ff9900"/>
                </a:solidFill>
                <a:latin typeface="Gill Sans MT"/>
              </a:rPr>
              <a:t>Sasaran MANAJEMEN LANSKAP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30000" y="1679400"/>
            <a:ext cx="11341080" cy="16336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marL="423720" indent="-423720">
              <a:lnSpc>
                <a:spcPct val="100000"/>
              </a:lnSpc>
              <a:spcBef>
                <a:spcPts val="1001"/>
              </a:spcBef>
              <a:buClr>
                <a:srgbClr val="f0e500"/>
              </a:buClr>
              <a:buFont typeface="Gill Sans MT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Sasaran JANGKA PEND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23720" indent="-423720">
              <a:lnSpc>
                <a:spcPct val="100000"/>
              </a:lnSpc>
              <a:spcBef>
                <a:spcPts val="1001"/>
              </a:spcBef>
              <a:buClr>
                <a:srgbClr val="f0e500"/>
              </a:buClr>
              <a:buFont typeface="Gill Sans MT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Sasaran JANGKA PANJA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30360" y="3600360"/>
            <a:ext cx="1134108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040" rIns="113040" tIns="56520" bIns="56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5400" spc="-1" strike="noStrike">
                <a:solidFill>
                  <a:srgbClr val="ff9900"/>
                </a:solidFill>
                <a:latin typeface="Gill Sans MT"/>
              </a:rPr>
              <a:t>Langkah - langkah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0360" y="4991040"/>
            <a:ext cx="1134108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040" rIns="113040" tIns="56520" bIns="5652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Tentukan tujuan dan aktivitas apa saja yang mesti dilakukan untuk setiap sasara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5400" spc="-1" strike="noStrike">
                <a:solidFill>
                  <a:srgbClr val="ff9900"/>
                </a:solidFill>
                <a:latin typeface="Gill Sans MT"/>
              </a:rPr>
              <a:t>PENGORGANISASIAN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11341080" cy="47530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marL="423720" indent="-423720">
              <a:lnSpc>
                <a:spcPct val="100000"/>
              </a:lnSpc>
              <a:spcBef>
                <a:spcPts val="1001"/>
              </a:spcBef>
              <a:buClr>
                <a:srgbClr val="f0e500"/>
              </a:buClr>
              <a:buFont typeface="Gill Sans MT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Untuk mempastikan agar perencanaan dapat berjalan seperti yang dikehendaki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23720" indent="-423720">
              <a:lnSpc>
                <a:spcPct val="100000"/>
              </a:lnSpc>
              <a:spcBef>
                <a:spcPts val="1001"/>
              </a:spcBef>
              <a:buClr>
                <a:srgbClr val="f0e500"/>
              </a:buClr>
              <a:buFont typeface="Gill Sans MT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Untuk mendapatkan gambaran keterlibatan pihak lain dalam pelaksanaan pekerjaa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23720" indent="-423720">
              <a:lnSpc>
                <a:spcPct val="100000"/>
              </a:lnSpc>
              <a:spcBef>
                <a:spcPts val="1001"/>
              </a:spcBef>
              <a:buClr>
                <a:srgbClr val="f0e500"/>
              </a:buClr>
              <a:buFont typeface="Gill Sans MT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Untuk menjelaskan struktur kerja dan hubungan kerja (tanggung jawab, konsultasi, dsb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5400" spc="-1" strike="noStrike">
                <a:solidFill>
                  <a:srgbClr val="ff9900"/>
                </a:solidFill>
                <a:latin typeface="Gill Sans MT"/>
              </a:rPr>
              <a:t>PELAKSANAAN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11341080" cy="523404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 fontScale="96000"/>
          </a:bodyPr>
          <a:p>
            <a:pPr marL="406440" indent="-406440">
              <a:lnSpc>
                <a:spcPct val="90000"/>
              </a:lnSpc>
              <a:spcBef>
                <a:spcPts val="1001"/>
              </a:spcBef>
              <a:buClr>
                <a:srgbClr val="f0e500"/>
              </a:buClr>
              <a:buFont typeface="Gill Sans MT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Setiap pelaksanaan mesti berdasarkan dokumen kerja yang telah disepakati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>
              <a:lnSpc>
                <a:spcPct val="90000"/>
              </a:lnSpc>
              <a:spcBef>
                <a:spcPts val="1001"/>
              </a:spcBef>
              <a:buClr>
                <a:srgbClr val="f0e500"/>
              </a:buClr>
              <a:buFont typeface="Gill Sans MT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Dokumen kerja terdiri atas 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82000" indent="-33948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0000"/>
              <a:buFont typeface="Wingdings" charset="2"/>
              <a:buChar char="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ill Sans MT"/>
              </a:rPr>
              <a:t>Dokumen ADMINISTRASI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1" marL="882000" indent="-33948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0000"/>
              <a:buFont typeface="Wingdings" charset="2"/>
              <a:buChar char="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ill Sans MT"/>
              </a:rPr>
              <a:t>Dokumen TEKNIS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1" marL="882000" indent="-33948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SzPct val="70000"/>
              <a:buFont typeface="Wingdings" charset="2"/>
              <a:buChar char="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ill Sans MT"/>
              </a:rPr>
              <a:t>Dokumen ANGGARAN BIAYA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>
              <a:lnSpc>
                <a:spcPct val="90000"/>
              </a:lnSpc>
              <a:spcBef>
                <a:spcPts val="1001"/>
              </a:spcBef>
              <a:buClr>
                <a:srgbClr val="f0e500"/>
              </a:buClr>
              <a:buFont typeface="Gill Sans MT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Setiap perubahan yang terjadi selama pelaksanaan mesti dibuat berdasarkan prosedure yang bena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5400" spc="-1" strike="noStrike">
                <a:solidFill>
                  <a:srgbClr val="ff9900"/>
                </a:solidFill>
                <a:latin typeface="Gill Sans MT"/>
              </a:rPr>
              <a:t>PEMANTAUAN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11341080" cy="47530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 fontScale="95000"/>
          </a:bodyPr>
          <a:p>
            <a:pPr marL="402480" indent="-402480">
              <a:lnSpc>
                <a:spcPct val="100000"/>
              </a:lnSpc>
              <a:spcBef>
                <a:spcPts val="1001"/>
              </a:spcBef>
              <a:buClr>
                <a:srgbClr val="f0e500"/>
              </a:buClr>
              <a:buFont typeface="Gill Sans MT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Untuk menjaga agar perkembangan keadaan landskap sesuai dengan rencana awa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02480" indent="-402480">
              <a:lnSpc>
                <a:spcPct val="100000"/>
              </a:lnSpc>
              <a:spcBef>
                <a:spcPts val="1001"/>
              </a:spcBef>
              <a:buClr>
                <a:srgbClr val="f0e500"/>
              </a:buClr>
              <a:buFont typeface="Gill Sans MT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Untuk menjaga agar tidak terjadi kecelakaan dalam aktivitas yang dilakukan di atas lanskap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02480" indent="-402480">
              <a:lnSpc>
                <a:spcPct val="100000"/>
              </a:lnSpc>
              <a:spcBef>
                <a:spcPts val="1001"/>
              </a:spcBef>
              <a:buClr>
                <a:srgbClr val="f0e500"/>
              </a:buClr>
              <a:buFont typeface="Gill Sans MT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Untuk menjaga kelestarian lingkungan agar terjadi simbiosis (hubungan) yang saling menguntungka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5400" spc="-1" strike="noStrike">
                <a:solidFill>
                  <a:srgbClr val="ff9900"/>
                </a:solidFill>
                <a:latin typeface="Gill Sans MT"/>
              </a:rPr>
              <a:t>EVALUASI / PENCERMATAN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11341080" cy="47530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/>
          </a:bodyPr>
          <a:p>
            <a:pPr marL="423720" indent="-423720">
              <a:lnSpc>
                <a:spcPct val="100000"/>
              </a:lnSpc>
              <a:spcBef>
                <a:spcPts val="1001"/>
              </a:spcBef>
              <a:buClr>
                <a:srgbClr val="f0e500"/>
              </a:buClr>
              <a:buFont typeface="Gill Sans MT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Untuk mendapatkan </a:t>
            </a:r>
            <a:r>
              <a:rPr b="0" i="1" lang="en-US" sz="4000" spc="-1" strike="noStrike">
                <a:solidFill>
                  <a:srgbClr val="ffffff"/>
                </a:solidFill>
                <a:latin typeface="Gill Sans MT"/>
              </a:rPr>
              <a:t>feed back</a:t>
            </a: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 dari desain lanskap setelah masa penggunaan (</a:t>
            </a:r>
            <a:r>
              <a:rPr b="0" i="1" lang="en-US" sz="4000" spc="-1" strike="noStrike">
                <a:solidFill>
                  <a:srgbClr val="ffffff"/>
                </a:solidFill>
                <a:latin typeface="Gill Sans MT"/>
              </a:rPr>
              <a:t>post occupancy evaluation</a:t>
            </a: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23720" indent="-423720">
              <a:lnSpc>
                <a:spcPct val="100000"/>
              </a:lnSpc>
              <a:spcBef>
                <a:spcPts val="1001"/>
              </a:spcBef>
              <a:buClr>
                <a:srgbClr val="f0e500"/>
              </a:buClr>
              <a:buFont typeface="Gill Sans MT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Agar terjadi konsistensi dalam desain bila ada beberapa hal dari desain, yang setelah diwujudkan, ada yang kurang sesuai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30000" y="288720"/>
            <a:ext cx="11341080" cy="11998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5400" spc="-1" strike="noStrike">
                <a:solidFill>
                  <a:srgbClr val="ff9900"/>
                </a:solidFill>
                <a:latin typeface="Gill Sans MT"/>
              </a:rPr>
              <a:t>DOKUMEN ADMINISTRASI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30000" y="1679040"/>
            <a:ext cx="11341080" cy="4753080"/>
          </a:xfrm>
          <a:prstGeom prst="rect">
            <a:avLst/>
          </a:prstGeom>
          <a:noFill/>
          <a:ln w="0">
            <a:noFill/>
          </a:ln>
        </p:spPr>
        <p:txBody>
          <a:bodyPr lIns="113040" rIns="113040" tIns="56520" bIns="56520" anchor="t">
            <a:normAutofit fontScale="95000"/>
          </a:bodyPr>
          <a:p>
            <a:pPr marL="402480" indent="-402480">
              <a:lnSpc>
                <a:spcPct val="90000"/>
              </a:lnSpc>
              <a:spcBef>
                <a:spcPts val="1001"/>
              </a:spcBef>
              <a:buClr>
                <a:srgbClr val="f0e500"/>
              </a:buClr>
              <a:buFont typeface="Gill Sans MT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Seluruh dokumen yang dapat menjelaskan kelayakan seseorang atau badan sehingga diberikan kepada mereka kepercayaan untuk menjalankan kerja-kerja lanskap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02480" indent="-402480">
              <a:lnSpc>
                <a:spcPct val="90000"/>
              </a:lnSpc>
              <a:spcBef>
                <a:spcPts val="1001"/>
              </a:spcBef>
              <a:buClr>
                <a:srgbClr val="f0e500"/>
              </a:buClr>
              <a:buFont typeface="Gill Sans MT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Berisi profil badan / lembaga dan atau personil yang akan menjalankan kerja-kerja lanskap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02480" indent="-402480">
              <a:lnSpc>
                <a:spcPct val="90000"/>
              </a:lnSpc>
              <a:spcBef>
                <a:spcPts val="1001"/>
              </a:spcBef>
              <a:buClr>
                <a:srgbClr val="f0e500"/>
              </a:buClr>
              <a:buFont typeface="Gill Sans MT"/>
              <a:buChar char="•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Dukungan dari asosiasi ataupun nurseri yang membantu pelaksanaan pekerjaan lanskap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03:08:53Z</dcterms:created>
  <dc:creator>User</dc:creator>
  <dc:description/>
  <dc:language>en-US</dc:language>
  <cp:lastModifiedBy>Muhammad</cp:lastModifiedBy>
  <dcterms:modified xsi:type="dcterms:W3CDTF">2007-05-24T06:16:46Z</dcterms:modified>
  <cp:revision>36</cp:revision>
  <dc:subject/>
  <dc:title>TIPE SITE DAN RUANG LUAR</dc:title>
</cp:coreProperties>
</file>