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E2B-2BA1-41E4-9613-1C42D834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EBF-85EC-474E-A02C-53300DB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327-CCD6-4DE4-AB95-C20CB1BF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AEB-846B-4629-80F5-08ED9C56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D88-9267-4F6F-8455-C34F1547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2E3-706B-4B06-91DB-487FCE56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9D9A-8C65-4DB9-976F-2D0EA628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0FBA-1C87-44B9-BC73-81871DB2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704-0B74-42BF-A181-0B115DDD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9095-D450-458E-97BC-17CF6CC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2761-56C8-4A4C-B5BA-13E7895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E46-70B4-410F-889D-A6C70DF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5651-8D34-4ABC-A53B-3AEE038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2651-88C9-4C26-9709-B4E22AE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4735-E141-4C56-99B8-8C67BB3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BBB1-7679-4F3A-930D-AED778A9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208-A820-489D-B777-2EA65733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B22-6406-442A-AF2B-3C765D5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193-0354-4D32-A761-D17158BD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BEC-91FF-45D5-B254-2443B792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02E-BC9B-48A7-BB33-32BBB9CD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863-44FE-462F-B68B-9B5CD74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48E-1018-49A5-B66E-DD8D9CD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403-A559-4774-AB8A-F36A65A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5453-0389-49F3-B633-8F47C11D27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A6B-D079-4B2A-BDC1-B503FEFFAE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va Database Conne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77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E 32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640" y="255240"/>
            <a:ext cx="807696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bd189"/>
                </a:solidFill>
                <a:latin typeface="Arial"/>
              </a:rPr>
              <a:t>Three-Tier Database Access Model</a:t>
            </a:r>
            <a:endParaRPr b="0" lang="en-US" sz="39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7160" y="1504800"/>
            <a:ext cx="36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JDBC driver sends commands to a middle tier, which in turn sends commands to database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Results are sent back to the middle tier, which communicates them back to the application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062760" y="541188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164200" y="1465200"/>
            <a:ext cx="309384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573880" y="2052720"/>
            <a:ext cx="229536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573880" y="2914560"/>
            <a:ext cx="229536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67036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82120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992200" y="2967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65000" y="56847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11344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97" name="Group 17"/>
          <p:cNvGrpSpPr/>
          <p:nvPr/>
        </p:nvGrpSpPr>
        <p:grpSpPr>
          <a:xfrm>
            <a:off x="6427800" y="3386160"/>
            <a:ext cx="628560" cy="717480"/>
            <a:chOff x="6427800" y="3386160"/>
            <a:chExt cx="628560" cy="717480"/>
          </a:xfrm>
        </p:grpSpPr>
        <p:sp>
          <p:nvSpPr>
            <p:cNvPr id="198" name="Line 12"/>
            <p:cNvSpPr/>
            <p:nvPr/>
          </p:nvSpPr>
          <p:spPr>
            <a:xfrm>
              <a:off x="642780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70563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0" name="Text Box 15"/>
          <p:cNvSpPr/>
          <p:nvPr/>
        </p:nvSpPr>
        <p:spPr>
          <a:xfrm>
            <a:off x="715248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5746680" y="4130640"/>
            <a:ext cx="202428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807520" y="418464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Application Serv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(middle-tier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6427800" y="4834080"/>
            <a:ext cx="628560" cy="717480"/>
            <a:chOff x="6427800" y="4834080"/>
            <a:chExt cx="628560" cy="717480"/>
          </a:xfrm>
        </p:grpSpPr>
        <p:sp>
          <p:nvSpPr>
            <p:cNvPr id="204" name="Line 24"/>
            <p:cNvSpPr/>
            <p:nvPr/>
          </p:nvSpPr>
          <p:spPr>
            <a:xfrm>
              <a:off x="642780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5" name="Line 25"/>
            <p:cNvSpPr/>
            <p:nvPr/>
          </p:nvSpPr>
          <p:spPr>
            <a:xfrm>
              <a:off x="705636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6" name="Text Box 26"/>
          <p:cNvSpPr/>
          <p:nvPr/>
        </p:nvSpPr>
        <p:spPr>
          <a:xfrm>
            <a:off x="5108040" y="487044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Driver Typ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200" y="112392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-ODBC Bridge, plus ODBC driver (Type 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Translate JDBC methods to ODBC methods -&gt; ODBC to native methods -&gt; Native methods AP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API, partly Java driver (Type 2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Map JDBC methods to native methods (calls to vendor library) -&gt; Native methods API (vendor librar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-net, pure Java driver (Type 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methods -&gt; Translate to Native API methods through TCP/IP network -&gt; Native API meth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protocol, pure Java driver (Type 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va methods -&gt; Native methods in Jav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Type 1: JDBC-ODBC Bridge, Plus ODBC Driver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1638360"/>
            <a:ext cx="44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driver type is provided by Sun with JD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s JDBC access to databases through ODBC driv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DBC driver must be configured for the bridge to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ly solution if no JDBC driver available for the DB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615000" y="5411880"/>
            <a:ext cx="140040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716440" y="1465200"/>
            <a:ext cx="309420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126120" y="2052720"/>
            <a:ext cx="229572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126120" y="2914560"/>
            <a:ext cx="229572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22296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37344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6142320" y="29480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DBC – ODBC Bridg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717600" y="56847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66568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6980400" y="3386160"/>
            <a:ext cx="628560" cy="717480"/>
            <a:chOff x="6980400" y="3386160"/>
            <a:chExt cx="628560" cy="717480"/>
          </a:xfrm>
        </p:grpSpPr>
        <p:sp>
          <p:nvSpPr>
            <p:cNvPr id="221" name="Line 14"/>
            <p:cNvSpPr/>
            <p:nvPr/>
          </p:nvSpPr>
          <p:spPr>
            <a:xfrm>
              <a:off x="698040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76089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770472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299280" y="4130640"/>
            <a:ext cx="202392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616800" y="431784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ODBC Driv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6980400" y="4834080"/>
            <a:ext cx="628560" cy="717480"/>
            <a:chOff x="6980400" y="4834080"/>
            <a:chExt cx="628560" cy="717480"/>
          </a:xfrm>
        </p:grpSpPr>
        <p:sp>
          <p:nvSpPr>
            <p:cNvPr id="227" name="Line 20"/>
            <p:cNvSpPr/>
            <p:nvPr/>
          </p:nvSpPr>
          <p:spPr>
            <a:xfrm>
              <a:off x="698040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>
              <a:off x="7608960" y="483408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29" name="Text Box 22"/>
          <p:cNvSpPr/>
          <p:nvPr/>
        </p:nvSpPr>
        <p:spPr>
          <a:xfrm>
            <a:off x="7679880" y="488952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5200" y="295200"/>
            <a:ext cx="8524800" cy="73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Type 2: Native-API, Partly Java Driver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390680"/>
            <a:ext cx="388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ve-API driver converts JDBC commands into DBMS-specific native cal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e restrictions as Type1 – must have some binary code loaded on its mach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ectly interfaces with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234120" y="533556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560" y="1389240"/>
            <a:ext cx="3094200" cy="20793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745240" y="1976400"/>
            <a:ext cx="229536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745240" y="2838600"/>
            <a:ext cx="2295360" cy="4442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841720" y="14922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5992560" y="211284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5819400" y="285264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Type 2 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33672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5284800" y="351324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1" name="Group 13"/>
          <p:cNvGrpSpPr/>
          <p:nvPr/>
        </p:nvGrpSpPr>
        <p:grpSpPr>
          <a:xfrm>
            <a:off x="6599160" y="3309840"/>
            <a:ext cx="628560" cy="717480"/>
            <a:chOff x="6599160" y="3309840"/>
            <a:chExt cx="628560" cy="717480"/>
          </a:xfrm>
        </p:grpSpPr>
        <p:sp>
          <p:nvSpPr>
            <p:cNvPr id="242" name="Line 14"/>
            <p:cNvSpPr/>
            <p:nvPr/>
          </p:nvSpPr>
          <p:spPr>
            <a:xfrm>
              <a:off x="6599160" y="330984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227720" y="330984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44" name="Text Box 16"/>
          <p:cNvSpPr/>
          <p:nvPr/>
        </p:nvSpPr>
        <p:spPr>
          <a:xfrm>
            <a:off x="7323840" y="351324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918040" y="4054320"/>
            <a:ext cx="2024280" cy="7002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6066000" y="408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Native Databas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Libra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7" name="Group 19"/>
          <p:cNvGrpSpPr/>
          <p:nvPr/>
        </p:nvGrpSpPr>
        <p:grpSpPr>
          <a:xfrm>
            <a:off x="6599160" y="4757760"/>
            <a:ext cx="628560" cy="717480"/>
            <a:chOff x="6599160" y="4757760"/>
            <a:chExt cx="628560" cy="717480"/>
          </a:xfrm>
        </p:grpSpPr>
        <p:sp>
          <p:nvSpPr>
            <p:cNvPr id="248" name="Line 20"/>
            <p:cNvSpPr/>
            <p:nvPr/>
          </p:nvSpPr>
          <p:spPr>
            <a:xfrm>
              <a:off x="6599160" y="47577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7227720" y="47577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50" name="Text Box 22"/>
          <p:cNvSpPr/>
          <p:nvPr/>
        </p:nvSpPr>
        <p:spPr>
          <a:xfrm>
            <a:off x="7298640" y="481320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94960" y="196560"/>
            <a:ext cx="80773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Type 3: JDBC-Net, Pure Java Driver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4960" y="1333440"/>
            <a:ext cx="458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lates JDBC calls into a database-independent network protocol and sent to a middleware server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his server translates this DBMS-independent protocol into a DBMS-specific protocol and sent to the databas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Results sent back to the middleware and routed to the cli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6558120" y="560232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659560" y="1465200"/>
            <a:ext cx="3093840" cy="20797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068880" y="2052720"/>
            <a:ext cx="2295720" cy="6746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68880" y="2914560"/>
            <a:ext cx="2295720" cy="4446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165720" y="1568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316560" y="21891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143400" y="294804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Type 3 JDBC Driv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6660360" y="58752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5608800" y="3589200"/>
            <a:ext cx="1203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6923160" y="3386160"/>
            <a:ext cx="628560" cy="717480"/>
            <a:chOff x="6923160" y="3386160"/>
            <a:chExt cx="628560" cy="717480"/>
          </a:xfrm>
        </p:grpSpPr>
        <p:sp>
          <p:nvSpPr>
            <p:cNvPr id="263" name="Line 14"/>
            <p:cNvSpPr/>
            <p:nvPr/>
          </p:nvSpPr>
          <p:spPr>
            <a:xfrm>
              <a:off x="692316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7551720" y="338616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65" name="Text Box 16"/>
          <p:cNvSpPr/>
          <p:nvPr/>
        </p:nvSpPr>
        <p:spPr>
          <a:xfrm>
            <a:off x="7647480" y="3589200"/>
            <a:ext cx="8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6008760" y="4130640"/>
            <a:ext cx="2471760" cy="8938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6364080" y="41641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 Narrow"/>
              </a:rPr>
              <a:t>Middleware Spac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6923160" y="5024520"/>
            <a:ext cx="628560" cy="717480"/>
            <a:chOff x="6923160" y="5024520"/>
            <a:chExt cx="628560" cy="717480"/>
          </a:xfrm>
        </p:grpSpPr>
        <p:sp>
          <p:nvSpPr>
            <p:cNvPr id="269" name="Line 20"/>
            <p:cNvSpPr/>
            <p:nvPr/>
          </p:nvSpPr>
          <p:spPr>
            <a:xfrm>
              <a:off x="6923160" y="502452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7551720" y="5024520"/>
              <a:ext cx="0" cy="71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71" name="Text Box 22"/>
          <p:cNvSpPr/>
          <p:nvPr/>
        </p:nvSpPr>
        <p:spPr>
          <a:xfrm>
            <a:off x="7622640" y="5079960"/>
            <a:ext cx="1293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prietary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6342120" y="4532400"/>
            <a:ext cx="1809720" cy="3888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6636240" y="4537080"/>
            <a:ext cx="122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17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Type 4: Native-</a:t>
            </a: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Protocol</a:t>
            </a: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, Pure Java Driver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33120" y="1638360"/>
            <a:ext cx="4368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Pure Java drivers that communicate directly with the vendor’s databas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JDBC commands converted to database engine’s native protocol directl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Advantage: no additional translation or middleware laye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mproves performan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506920" y="1465200"/>
            <a:ext cx="3094200" cy="28209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916600" y="2262240"/>
            <a:ext cx="22953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916600" y="3432240"/>
            <a:ext cx="2295360" cy="60156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6405480" y="5335560"/>
            <a:ext cx="140040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904720" y="1587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79600" y="2481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918400" y="3535200"/>
            <a:ext cx="231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Type 4 JDBC Driver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50808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677052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5049360" y="437040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SQL Command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sing Propriet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739944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7394040" y="436716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Result S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sing Propriet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Protocol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2538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iver Manag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085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DriverManager class is responsible for establishing connections to the data sources, accessed through the JDBC driver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DBC database drivers are defined by classes that implement the “Driver” interface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e “Properties” class defined in java.util package defines/stores the property (key) and the corresponding value (object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You can use the “setProperty” method to set the value of any of the propertie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.g:  System.setProperty(“jdbc.drivers”,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                               “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sun.jdbc.odbc.JdbcOdbcDriver”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e first is the key (or name) for the property to be set and the second argument is the value to be se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14904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iver Manager (contd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68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a security manager is in effect, may not be able to set the System property – then setProperty() will throw an exception of type “Security Exceptio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not able to set System property, the driver can be loaded explicitly by calling the static method “forName” in the “Class” class and pass the driver argu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g:    </a:t>
            </a:r>
            <a:r>
              <a:rPr b="1" lang="en-US" sz="2000" spc="-1" strike="noStrike">
                <a:solidFill>
                  <a:srgbClr val="fcab40"/>
                </a:solidFill>
                <a:latin typeface="Arial"/>
              </a:rPr>
              <a:t>Class.forName(“sun.jdbc.odbc.JdbcOdbcDriver”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“forName()” method can throw a “ClassNotFoundException” if the driver class is not found.  Hence, this function call should be in a try-catch blo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above statement loads the JDBC driver and takes care of any initialization that needs to be d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124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nection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5880" y="1041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ing a connection to a data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 object represents an established connection to a particular data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connection object can also be used to query the data source (data and meta dat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 versions of getConnection() method contained in the DriverManager class that returns a connection obje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Connection myconn = DriverManager.getConnection(source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Connection myconn = DriverManager.getConnection(source, 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ab40"/>
                </a:solidFill>
                <a:latin typeface="Arial"/>
              </a:rPr>
              <a:t>         username, password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788480" y="5902200"/>
            <a:ext cx="598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String mysource = “jdbc:odbc:technical_library”;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Connection myconn = DriverManager.getConnection(mysource);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800240" y="5473800"/>
            <a:ext cx="247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aea"/>
                </a:solidFill>
                <a:latin typeface="Arial Narrow"/>
              </a:rPr>
              <a:t>System DSN name – ODBC data sourc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4936680" y="5737320"/>
            <a:ext cx="615960" cy="214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181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SN-less Conne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109160"/>
            <a:ext cx="77724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king a connection to the database without having to specify the DSN variable at the system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licitly specify a connection str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uld be exactly the same as shown below except the name of the database and its p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85920" y="4167360"/>
            <a:ext cx="88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String source =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"jdbc:odbc:Driver={Microsoft Access Driver (*.mdb)};DBQ=movies_vj.mdb"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cab40"/>
                </a:solidFill>
                <a:latin typeface="Times New Roman"/>
              </a:rPr>
              <a:t>con = DriverManager.getConnection(source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502640" y="5562720"/>
            <a:ext cx="70336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Database name, should be in the same directory as the cla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 Narrow"/>
              </a:rPr>
              <a:t>Can also specify absolute path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1" name="Line 7"/>
          <p:cNvSpPr/>
          <p:nvPr/>
        </p:nvSpPr>
        <p:spPr>
          <a:xfrm flipV="1">
            <a:off x="5311800" y="4833720"/>
            <a:ext cx="2438280" cy="7254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d189"/>
                </a:solidFill>
                <a:latin typeface="Arial"/>
              </a:rPr>
              <a:t>Java Database Connectivity (JDBC)</a:t>
            </a:r>
            <a:endParaRPr b="0" lang="en-US" sz="3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– provides an interface to Relational Data Sour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library provides the means for executing SQL statements to access and operate on a relational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 library is implemented in the java.sql pack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t of classes and interfaces that provide a uniform API for access to broad range of datab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163080"/>
            <a:ext cx="777240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tement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041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rovides workspace for creating an SQL query, execute it, and retrieve the results that are returne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atement objects are created by calling the createStatement() method of a valid connection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d to execute an SQL query by calling the executeQuery() method of Statement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SQL query string is passed as argument to the executeQuery() method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result of executing the query is returned as on object of type “ResultSet”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JDBC Provides two other kinds of objects to execute SQL statement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eparedStatement  -&gt;  extends Statement clas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allableStatement    -&gt;  extends PreparedStatement clas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62200" y="4386240"/>
            <a:ext cx="71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Arial Narrow"/>
              </a:rPr>
              <a:t>Statement  mystatement = myconn.createStatement(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Arial Narrow"/>
              </a:rPr>
              <a:t>ResultSet  myresults = mystatement.executeQuery(“select * from authors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2364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et Ob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1440" y="1168560"/>
            <a:ext cx="824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results of executing an SQL query are returned in the form of an object that implements the ResultSet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ultSet object contains a “cursor” that points to a particular record (called the current recor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the ResultSet object is created, the cursor points to the position immediately preceeding the first reco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8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ral methods available to navigate the ResultSet by moving the curs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first(), last(), beforeFirst(), afterLast(), next(), previous(),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tc.  //returns true if the move is success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First()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//whether you reached the beginning of the ResultS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Last()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// whether you reached the end of the ResultS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216000"/>
            <a:ext cx="77724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cessing Data in a ResultS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7920" y="91440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e can retrieve the value of any column for the current row (specified by the cursor) by name or positio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Name:  </a:t>
            </a:r>
            <a:r>
              <a:rPr b="1" lang="en-US" sz="2200" spc="-1" strike="noStrike">
                <a:solidFill>
                  <a:srgbClr val="ebd189"/>
                </a:solidFill>
                <a:latin typeface="Arial"/>
              </a:rPr>
              <a:t>authorNames.getString(“lastname”);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Position: </a:t>
            </a:r>
            <a:r>
              <a:rPr b="1" lang="en-US" sz="2200" spc="-1" strike="noStrike">
                <a:solidFill>
                  <a:srgbClr val="ebd189"/>
                </a:solidFill>
                <a:latin typeface="Arial"/>
              </a:rPr>
              <a:t>authorNames.getString(2);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ing the column position is a little bit faster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ethods for Retrieving Column Dat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getString(), getInt(), getShort(), getFloat(), getDouble(), getTime() etc.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e can always use getString() method for numerical values if we are not going to do some computation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lumn names are NOT case sensitive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sultSetMetaData object has metadata information about records, I.e., column names, data types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7320" y="20970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Name of th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ResultSet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949280" y="20970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Method that return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the value of String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17920" y="2097000"/>
            <a:ext cx="155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Name of the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column or attribut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2" name="Line 7"/>
          <p:cNvSpPr/>
          <p:nvPr/>
        </p:nvSpPr>
        <p:spPr>
          <a:xfrm flipV="1">
            <a:off x="3863880" y="1911240"/>
            <a:ext cx="373320" cy="247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Line 8"/>
          <p:cNvSpPr/>
          <p:nvPr/>
        </p:nvSpPr>
        <p:spPr>
          <a:xfrm flipV="1">
            <a:off x="5659560" y="1899720"/>
            <a:ext cx="161640" cy="241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Line 9"/>
          <p:cNvSpPr/>
          <p:nvPr/>
        </p:nvSpPr>
        <p:spPr>
          <a:xfrm flipH="1" flipV="1">
            <a:off x="7488000" y="1909440"/>
            <a:ext cx="399960" cy="282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5775480" y="3106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Arial Narrow"/>
              </a:rPr>
              <a:t>Second column in the row or tuple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Line 11"/>
          <p:cNvSpPr/>
          <p:nvPr/>
        </p:nvSpPr>
        <p:spPr>
          <a:xfrm flipV="1">
            <a:off x="6934320" y="2968560"/>
            <a:ext cx="198360" cy="233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77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Getting MetaData for a ResultSet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5840" y="111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ResultSetMetaData object encapsulates the metadata for a ResultSet object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getMetaData() method of ResultSet object to get the metadata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ome of the methods of ResultSetMetaData object: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Name()   // returns column nam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Type()    // returns column data typ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Count()  // # of columns in the ro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TableName()      //returns the name of the ta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getColumnLabel()  //suggested label for a column 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 for use in printou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he Types class in java.sql package contains the field types used in SQ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g: CHAR, VARCHAR, DOUBLE, INT, TIME etc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nce we know the SQL data type, then we can call the appropriate getXXX() function for getting the value of that column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5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rollable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1231560"/>
            <a:ext cx="77724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JDBC1.0, result sets could be navigated in only one direction (forward) and starting at only one point (first ro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JDBC 2.0, the cursor can be manipulated as if it were a array inde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hods exist for reading both forward and backward, for starting from any row, and for testing the current cursor lo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DBC 2.0 Navigation Methods for Scrollable Result Set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51040" y="1398600"/>
            <a:ext cx="829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next ( )        </a:t>
            </a:r>
            <a:r>
              <a:rPr b="1" lang="en-US" sz="2300" spc="-1" strike="noStrike">
                <a:solidFill>
                  <a:srgbClr val="eaeaea"/>
                </a:solidFill>
                <a:latin typeface="Arial"/>
              </a:rPr>
              <a:t>Advances the cursor to the next row.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previous ( )    Moves the cursor back one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first ( )         Moves the cursor to the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last ( )         Moves the cursor to the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void beforeFirst ( )   Moves the cursor before the fir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ow, usually in anticipation o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lling next (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void afterLast ( )      Moves the cursor after the last row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usually in anticipation of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calling previous (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 Moves the cursor to the specifi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bsolute (int row)    row. Specifying a negative numb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oves the cursor  relative to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nd of the result se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68320" y="671400"/>
            <a:ext cx="827568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DBC 2.0 Navigation Methods for Scrollable Result Sets (contd.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29960" y="1220400"/>
            <a:ext cx="8272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Moves the cursor forward 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lative (int row)     backward the number of row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pecifi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                   True if the cursor is before th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isBeforeFirst ( )       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                   True if the cursor is after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AfterLast ( )          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boolean isFirst ( )    True if the cursor is positioned 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ebd189"/>
                </a:solidFill>
                <a:latin typeface="Arial"/>
              </a:rPr>
              <a:t>the first row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oolean isLast ( )    True if the cursor is positioned 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last row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6120" y="193320"/>
            <a:ext cx="807696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eating Scrollable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200" y="123192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tement object created with parameters to indicate specific capab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.createStatement() method can have up to three parameter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Type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 of scrolling to be u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Concurrency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icates whether the result set can be upd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ultSetHoldability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cifies whether to close cursors when a commit is do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stmt = con.createStatement(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               ResultSet.TYPE_SCROLL_INSENSITIVE,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                ResultSet.CONCUR_READ_ONLY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2800" y="25560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stants in Result Se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680" y="1018800"/>
            <a:ext cx="77724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sor Related Con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FORWARD_ON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DBC 1.0-style navigation in which the cursor starts at  the first row and can only  move forwa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SCROLL_INSENSI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cursor positioning methods are enabled; the result set doesn’t reflect changes made by others in the underlying t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YPE_SCROLL_SENSI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cursor positioning methods are enabled the result set reflects changes made by others in the underlying table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7280" y="290520"/>
            <a:ext cx="82263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stants in Result Sets 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(contd.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127160"/>
            <a:ext cx="77724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dating Record 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ONCUR_READ_ON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results set won’t  be upda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ONCUR_UPDA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ows can be added and deleted, and columns can be updat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ur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HOLD_CURSORS_OVER_COMM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 not close cursors after a commit is done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CLOSE_COURSORS_AT_COMM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ose cursors when a commit is do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lking to Databa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JDBC based application is insulated from the characteristics of specific database 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200400" y="3124080"/>
            <a:ext cx="2971800" cy="6098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30080" y="32004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200400" y="4267080"/>
            <a:ext cx="2971800" cy="60984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093200" y="43434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DBC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133720" y="5334120"/>
            <a:ext cx="152388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3962520" y="5334120"/>
            <a:ext cx="152388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5867280" y="5334120"/>
            <a:ext cx="1524240" cy="10666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648320" y="37339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895480" y="4876560"/>
            <a:ext cx="106704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724280" y="487692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5562720" y="4876920"/>
            <a:ext cx="1143000" cy="60948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23128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11552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Orac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023880" y="55627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y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ncep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DBC’s design is very similar to the design of ODB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ver Mana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s database drivers, and manages the connection between the application and the dri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nslates API calls into operations for a specific data sou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session between an application and a datab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ncepts (contd.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SQL Statement to perform a query or update ope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about returned data, the database and the dr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S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gical set of columns and rows returned by executing an SQL statement (resulting tuple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during exec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following steps are executed when running a JDBC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ort the necessary cla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ad the JDBC dri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the database sou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cate a “connection” object (crea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cate a “Statement” object (crea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e a query using the “Statemen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ieve data from the returned “ResultSe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ResultSe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Statement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se the “Connection” objec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DBC Component Intera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3808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93240" y="209232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975040" y="2046240"/>
            <a:ext cx="14475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937960" y="22748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onn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16888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213160" y="22748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tate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381800" y="2046240"/>
            <a:ext cx="144792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436880" y="22748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Result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234040" y="3594240"/>
            <a:ext cx="3558960" cy="5443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483960" y="36511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5253120" y="4705200"/>
            <a:ext cx="3502080" cy="1108080"/>
          </a:xfrm>
          <a:prstGeom prst="can">
            <a:avLst>
              <a:gd name="adj" fmla="val 25000"/>
            </a:avLst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306480" y="51735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229536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447048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6669000" y="2503440"/>
            <a:ext cx="6811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5892840" y="2957400"/>
            <a:ext cx="0" cy="660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5892840" y="4179960"/>
            <a:ext cx="0" cy="6602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8083440" y="2957400"/>
            <a:ext cx="0" cy="66060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8083440" y="4179960"/>
            <a:ext cx="0" cy="66024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222372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437616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6586200" y="2198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reat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5118840" y="3110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QL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7295400" y="41227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sult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(tuples)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Freeform 30"/>
          <p:cNvSpPr/>
          <p:nvPr/>
        </p:nvSpPr>
        <p:spPr>
          <a:xfrm>
            <a:off x="3618000" y="2976480"/>
            <a:ext cx="1616040" cy="874800"/>
          </a:xfrm>
          <a:custGeom>
            <a:avLst/>
            <a:gdLst/>
            <a:ahLst/>
            <a:rect l="l" t="t" r="r" b="b"/>
            <a:pathLst>
              <a:path w="1018" h="588">
                <a:moveTo>
                  <a:pt x="0" y="0"/>
                </a:moveTo>
                <a:lnTo>
                  <a:pt x="0" y="588"/>
                </a:lnTo>
                <a:lnTo>
                  <a:pt x="1018" y="588"/>
                </a:lnTo>
              </a:path>
            </a:pathLst>
          </a:custGeom>
          <a:noFill/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3738960" y="38275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Establish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ink to DB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Involved in Basic JDBC Oper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15040" y="895320"/>
            <a:ext cx="2576520" cy="144612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754600" y="174780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49800" y="1719360"/>
            <a:ext cx="11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419800" y="10177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river Manag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54600" y="3024360"/>
            <a:ext cx="1695600" cy="44892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726160" y="29955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5754600" y="417996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726160" y="41511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5754600" y="5862600"/>
            <a:ext cx="1695600" cy="449280"/>
          </a:xfrm>
          <a:prstGeom prst="rect">
            <a:avLst/>
          </a:prstGeom>
          <a:solidFill>
            <a:srgbClr val="dc005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6160" y="583416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sult 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7827840" y="2752560"/>
            <a:ext cx="1065240" cy="9478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6600960" y="2346480"/>
            <a:ext cx="1440" cy="68724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602400" y="3494160"/>
            <a:ext cx="0" cy="6825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6602400" y="4657680"/>
            <a:ext cx="3240" cy="11890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7459560" y="3254400"/>
            <a:ext cx="3654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50960" y="1641600"/>
            <a:ext cx="65516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1. Load the JDBC driver class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lass.forName(“driverNam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2. Open a database connection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riverManager.getConnection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“jdbc:xxx:datasourc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3. Issue SQL statements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mt = con.createStatement(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mt.executeQuery (“Select * from myTabl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bd189"/>
                </a:solidFill>
                <a:latin typeface="Times New Roman"/>
              </a:rPr>
              <a:t>4. Process result set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while (rs.next()) {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name = rs.getString(“name”);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mount = rs.getInt(“amt”); }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7819920" y="31003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Databas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77840"/>
            <a:ext cx="8026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Two-Tier Database Access Mode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va Application talks directly to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omplished through the JDBC driver which sends commands directly to the data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ults sent back directly to the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583240" y="1465200"/>
            <a:ext cx="3094200" cy="282096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92920" y="2262240"/>
            <a:ext cx="2295360" cy="91440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992920" y="3432240"/>
            <a:ext cx="2295360" cy="601560"/>
          </a:xfrm>
          <a:prstGeom prst="rect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481800" y="5335560"/>
            <a:ext cx="1400040" cy="933480"/>
          </a:xfrm>
          <a:prstGeom prst="can">
            <a:avLst>
              <a:gd name="adj" fmla="val 2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980680" y="1587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Application Spa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55560" y="2481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ava Appl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300720" y="3510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JDBC Dri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584040" y="5608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Databas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684684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433480" y="442908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Q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mand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475400" y="4033800"/>
            <a:ext cx="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509960" y="442908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sul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e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2:13:05Z</dcterms:created>
  <dc:creator>Santhi Vijayan</dc:creator>
  <dc:description/>
  <dc:language>en-US</dc:language>
  <cp:lastModifiedBy>Eng.Vincent Adul</cp:lastModifiedBy>
  <dcterms:modified xsi:type="dcterms:W3CDTF">2012-04-14T11:08:00Z</dcterms:modified>
  <cp:revision>50</cp:revision>
  <dc:subject/>
  <dc:title>Java Database Connectivity</dc:title>
</cp:coreProperties>
</file>