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885-1908-42EC-B398-92BF33C9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541-CA21-4CFD-BC34-559D5813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EC4-0DE9-4C92-A3C5-D39B488E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7A2-A262-4148-8A11-18F0B60A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EEB3-165E-4A22-8872-08A1DCC4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7944-AC20-491F-888C-C753E83E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5313-903C-465C-912A-1201DEE0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B3FF-A797-4B9F-A68E-C5B26C37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EAE1-5771-4117-8F7F-3748AD18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0115-4796-404A-BC00-C131AFAF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DDA6-CDB6-4110-8359-103007B4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BBB4-D74B-4EBF-AA2A-3A237A60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D5F8-1426-4AE4-BC40-F4A7B1AB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4EA1-293F-40DF-9047-7C017B6D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E391-DFDC-42C7-BB56-6D325DDA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0C0C-3EC6-43D1-94B5-9B242F96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4E84-1379-47E7-BD3F-CD34A1AF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985-E247-4106-AAC8-FF1E7063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6DF-DF97-4185-BED9-AF7D4D72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8FB-BBD8-4F67-B219-9FDA1724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ADB-A0F0-4384-BEE5-54A3006C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3D2-0183-4B4C-9B41-82C2AEFF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B388-8D96-4AA6-AEC5-DE5E3AF8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D62-EF99-4B9C-B35E-93A5C234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5AA3-21FA-4A4F-B5E5-4DB089C37B9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D2E2-7B10-451C-BA25-813144527F6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ava Database Connectivit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23880" y="775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EE 32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640" y="255240"/>
            <a:ext cx="807696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bd189"/>
                </a:solidFill>
                <a:latin typeface="Arial"/>
              </a:rPr>
              <a:t>Three-Tier Database Access Model</a:t>
            </a:r>
            <a:endParaRPr b="0" lang="en-US" sz="39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57160" y="1504800"/>
            <a:ext cx="36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JDBC driver sends commands to a middle tier, which in turn sends commands to database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Results are sent back to the middle tier, which communicates them back to the application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6062760" y="5411880"/>
            <a:ext cx="1400040" cy="933480"/>
          </a:xfrm>
          <a:prstGeom prst="can">
            <a:avLst>
              <a:gd name="adj" fmla="val 2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5164200" y="1465200"/>
            <a:ext cx="3093840" cy="20797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573880" y="2052720"/>
            <a:ext cx="2295360" cy="67464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5573880" y="2914560"/>
            <a:ext cx="2295360" cy="44460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5670360" y="156852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 Narrow"/>
              </a:rPr>
              <a:t>Application Spac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821200" y="2189160"/>
            <a:ext cx="18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Java Application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5992200" y="2967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JDBC Driver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165000" y="56847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 Narrow"/>
              </a:rPr>
              <a:t>Databas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5113440" y="3589200"/>
            <a:ext cx="1203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SQ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Command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97" name="Group 17"/>
          <p:cNvGrpSpPr/>
          <p:nvPr/>
        </p:nvGrpSpPr>
        <p:grpSpPr>
          <a:xfrm>
            <a:off x="6427800" y="3386160"/>
            <a:ext cx="628560" cy="717480"/>
            <a:chOff x="6427800" y="3386160"/>
            <a:chExt cx="628560" cy="717480"/>
          </a:xfrm>
        </p:grpSpPr>
        <p:sp>
          <p:nvSpPr>
            <p:cNvPr id="198" name="Line 12"/>
            <p:cNvSpPr/>
            <p:nvPr/>
          </p:nvSpPr>
          <p:spPr>
            <a:xfrm>
              <a:off x="6427800" y="338616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7056360" y="338616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00" name="Text Box 15"/>
          <p:cNvSpPr/>
          <p:nvPr/>
        </p:nvSpPr>
        <p:spPr>
          <a:xfrm>
            <a:off x="7152480" y="3589200"/>
            <a:ext cx="819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Result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Set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5746680" y="4130640"/>
            <a:ext cx="2024280" cy="70020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5807520" y="418464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Application Server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(middle-tier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203" name="Group 23"/>
          <p:cNvGrpSpPr/>
          <p:nvPr/>
        </p:nvGrpSpPr>
        <p:grpSpPr>
          <a:xfrm>
            <a:off x="6427800" y="4834080"/>
            <a:ext cx="628560" cy="717480"/>
            <a:chOff x="6427800" y="4834080"/>
            <a:chExt cx="628560" cy="717480"/>
          </a:xfrm>
        </p:grpSpPr>
        <p:sp>
          <p:nvSpPr>
            <p:cNvPr id="204" name="Line 24"/>
            <p:cNvSpPr/>
            <p:nvPr/>
          </p:nvSpPr>
          <p:spPr>
            <a:xfrm>
              <a:off x="6427800" y="483408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05" name="Line 25"/>
            <p:cNvSpPr/>
            <p:nvPr/>
          </p:nvSpPr>
          <p:spPr>
            <a:xfrm>
              <a:off x="7056360" y="483408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06" name="Text Box 26"/>
          <p:cNvSpPr/>
          <p:nvPr/>
        </p:nvSpPr>
        <p:spPr>
          <a:xfrm>
            <a:off x="5108040" y="4870440"/>
            <a:ext cx="1293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roprietary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rotoco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15840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DBC Driver Typ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200" y="1123920"/>
            <a:ext cx="827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DBC-ODBC Bridge, plus ODBC driver (Type 1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mpl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DBC methods -&gt; Translate JDBC methods to ODBC methods -&gt; ODBC to native methods -&gt; Native methods AP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tive-API, partly Java driver (Type 2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DBC methods -&gt; Map JDBC methods to native methods (calls to vendor library) -&gt; Native methods API (vendor library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DBC-net, pure Java driver (Type 3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DBC methods -&gt; Translate to Native API methods through TCP/IP network -&gt; Native API metho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tive-protocol, pure Java driver (Type 4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ava methods -&gt; Native methods in Jav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Type 1: JDBC-ODBC Bridge, Plus ODBC Driv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71280" y="1638360"/>
            <a:ext cx="448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s driver type is provided by Sun with JD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vides JDBC access to databases through ODBC driv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DBC driver must be configured for the bridge to wo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nly solution if no JDBC driver available for the DBM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6615000" y="5411880"/>
            <a:ext cx="1400400" cy="933480"/>
          </a:xfrm>
          <a:prstGeom prst="can">
            <a:avLst>
              <a:gd name="adj" fmla="val 2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716440" y="1465200"/>
            <a:ext cx="3094200" cy="20797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126120" y="2052720"/>
            <a:ext cx="2295720" cy="67464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6126120" y="2914560"/>
            <a:ext cx="2295720" cy="44460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6222960" y="156852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 Narrow"/>
              </a:rPr>
              <a:t>Application Spac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373440" y="2189160"/>
            <a:ext cx="18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Java Application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6142320" y="294804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JDBC – ODBC Bridg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717600" y="56847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 Narrow"/>
              </a:rPr>
              <a:t>Databas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5665680" y="3589200"/>
            <a:ext cx="1203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SQ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Command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220" name="Group 13"/>
          <p:cNvGrpSpPr/>
          <p:nvPr/>
        </p:nvGrpSpPr>
        <p:grpSpPr>
          <a:xfrm>
            <a:off x="6980400" y="3386160"/>
            <a:ext cx="628560" cy="717480"/>
            <a:chOff x="6980400" y="3386160"/>
            <a:chExt cx="628560" cy="717480"/>
          </a:xfrm>
        </p:grpSpPr>
        <p:sp>
          <p:nvSpPr>
            <p:cNvPr id="221" name="Line 14"/>
            <p:cNvSpPr/>
            <p:nvPr/>
          </p:nvSpPr>
          <p:spPr>
            <a:xfrm>
              <a:off x="6980400" y="338616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>
              <a:off x="7608960" y="338616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23" name="Text Box 16"/>
          <p:cNvSpPr/>
          <p:nvPr/>
        </p:nvSpPr>
        <p:spPr>
          <a:xfrm>
            <a:off x="7704720" y="3589200"/>
            <a:ext cx="819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Result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Set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6299280" y="4130640"/>
            <a:ext cx="2023920" cy="70020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6616800" y="431784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ODBC Driver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226" name="Group 19"/>
          <p:cNvGrpSpPr/>
          <p:nvPr/>
        </p:nvGrpSpPr>
        <p:grpSpPr>
          <a:xfrm>
            <a:off x="6980400" y="4834080"/>
            <a:ext cx="628560" cy="717480"/>
            <a:chOff x="6980400" y="4834080"/>
            <a:chExt cx="628560" cy="717480"/>
          </a:xfrm>
        </p:grpSpPr>
        <p:sp>
          <p:nvSpPr>
            <p:cNvPr id="227" name="Line 20"/>
            <p:cNvSpPr/>
            <p:nvPr/>
          </p:nvSpPr>
          <p:spPr>
            <a:xfrm>
              <a:off x="6980400" y="483408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8" name="Line 21"/>
            <p:cNvSpPr/>
            <p:nvPr/>
          </p:nvSpPr>
          <p:spPr>
            <a:xfrm>
              <a:off x="7608960" y="483408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29" name="Text Box 22"/>
          <p:cNvSpPr/>
          <p:nvPr/>
        </p:nvSpPr>
        <p:spPr>
          <a:xfrm>
            <a:off x="7679880" y="4889520"/>
            <a:ext cx="1293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roprietary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rotoco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5200" y="295200"/>
            <a:ext cx="8524800" cy="73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d189"/>
                </a:solidFill>
                <a:latin typeface="Arial"/>
              </a:rPr>
              <a:t>Type 2: Native-API, Partly Java Driver</a:t>
            </a:r>
            <a:endParaRPr b="0" lang="en-US" sz="3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76240" y="1390680"/>
            <a:ext cx="388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tive-API driver converts JDBC commands into DBMS-specific native cal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e restrictions as Type1 – must have some binary code loaded on its mach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rectly interfaces with the datab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6234120" y="5335560"/>
            <a:ext cx="1400040" cy="933480"/>
          </a:xfrm>
          <a:prstGeom prst="can">
            <a:avLst>
              <a:gd name="adj" fmla="val 2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335560" y="1389240"/>
            <a:ext cx="3094200" cy="207936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5745240" y="1976400"/>
            <a:ext cx="2295360" cy="67464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745240" y="2838600"/>
            <a:ext cx="2295360" cy="44424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5841720" y="14922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 Narrow"/>
              </a:rPr>
              <a:t>Application Spac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5992560" y="2112840"/>
            <a:ext cx="18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Java Application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5819400" y="285264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Type 2 JDBC Driver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6336720" y="560880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 Narrow"/>
              </a:rPr>
              <a:t>Databas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5284800" y="3513240"/>
            <a:ext cx="1203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SQ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Command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241" name="Group 13"/>
          <p:cNvGrpSpPr/>
          <p:nvPr/>
        </p:nvGrpSpPr>
        <p:grpSpPr>
          <a:xfrm>
            <a:off x="6599160" y="3309840"/>
            <a:ext cx="628560" cy="717480"/>
            <a:chOff x="6599160" y="3309840"/>
            <a:chExt cx="628560" cy="717480"/>
          </a:xfrm>
        </p:grpSpPr>
        <p:sp>
          <p:nvSpPr>
            <p:cNvPr id="242" name="Line 14"/>
            <p:cNvSpPr/>
            <p:nvPr/>
          </p:nvSpPr>
          <p:spPr>
            <a:xfrm>
              <a:off x="6599160" y="330984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>
              <a:off x="7227720" y="330984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44" name="Text Box 16"/>
          <p:cNvSpPr/>
          <p:nvPr/>
        </p:nvSpPr>
        <p:spPr>
          <a:xfrm>
            <a:off x="7323840" y="3513240"/>
            <a:ext cx="819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Result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Set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5" name="Rectangle 17"/>
          <p:cNvSpPr/>
          <p:nvPr/>
        </p:nvSpPr>
        <p:spPr>
          <a:xfrm>
            <a:off x="5918040" y="4054320"/>
            <a:ext cx="2024280" cy="70020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6066000" y="4089240"/>
            <a:ext cx="17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Native Databas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Librar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247" name="Group 19"/>
          <p:cNvGrpSpPr/>
          <p:nvPr/>
        </p:nvGrpSpPr>
        <p:grpSpPr>
          <a:xfrm>
            <a:off x="6599160" y="4757760"/>
            <a:ext cx="628560" cy="717480"/>
            <a:chOff x="6599160" y="4757760"/>
            <a:chExt cx="628560" cy="717480"/>
          </a:xfrm>
        </p:grpSpPr>
        <p:sp>
          <p:nvSpPr>
            <p:cNvPr id="248" name="Line 20"/>
            <p:cNvSpPr/>
            <p:nvPr/>
          </p:nvSpPr>
          <p:spPr>
            <a:xfrm>
              <a:off x="6599160" y="475776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9" name="Line 21"/>
            <p:cNvSpPr/>
            <p:nvPr/>
          </p:nvSpPr>
          <p:spPr>
            <a:xfrm>
              <a:off x="7227720" y="475776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50" name="Text Box 22"/>
          <p:cNvSpPr/>
          <p:nvPr/>
        </p:nvSpPr>
        <p:spPr>
          <a:xfrm>
            <a:off x="7298640" y="4813200"/>
            <a:ext cx="1293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roprietary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rotoco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94960" y="196560"/>
            <a:ext cx="807732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d189"/>
                </a:solidFill>
                <a:latin typeface="Arial"/>
              </a:rPr>
              <a:t>Type 3: JDBC-Net, Pure Java Driver</a:t>
            </a:r>
            <a:endParaRPr b="0" lang="en-US" sz="3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94960" y="1333440"/>
            <a:ext cx="4583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Translates JDBC calls into a database-independent network protocol and sent to a middleware server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This server translates this DBMS-independent protocol into a DBMS-specific protocol and sent to the databas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Results sent back to the middleware and routed to the clien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6558120" y="5602320"/>
            <a:ext cx="1400040" cy="933480"/>
          </a:xfrm>
          <a:prstGeom prst="can">
            <a:avLst>
              <a:gd name="adj" fmla="val 2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5659560" y="1465200"/>
            <a:ext cx="3093840" cy="20797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6068880" y="2052720"/>
            <a:ext cx="2295720" cy="67464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6068880" y="2914560"/>
            <a:ext cx="2295720" cy="44460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6165720" y="156852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 Narrow"/>
              </a:rPr>
              <a:t>Application Spac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6316560" y="2189160"/>
            <a:ext cx="18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Java Application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6143400" y="294804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Type 3 JDBC Driver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6660360" y="587520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 Narrow"/>
              </a:rPr>
              <a:t>Databas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5608800" y="3589200"/>
            <a:ext cx="1203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SQ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Command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262" name="Group 13"/>
          <p:cNvGrpSpPr/>
          <p:nvPr/>
        </p:nvGrpSpPr>
        <p:grpSpPr>
          <a:xfrm>
            <a:off x="6923160" y="3386160"/>
            <a:ext cx="628560" cy="717480"/>
            <a:chOff x="6923160" y="3386160"/>
            <a:chExt cx="628560" cy="717480"/>
          </a:xfrm>
        </p:grpSpPr>
        <p:sp>
          <p:nvSpPr>
            <p:cNvPr id="263" name="Line 14"/>
            <p:cNvSpPr/>
            <p:nvPr/>
          </p:nvSpPr>
          <p:spPr>
            <a:xfrm>
              <a:off x="6923160" y="338616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64" name="Line 15"/>
            <p:cNvSpPr/>
            <p:nvPr/>
          </p:nvSpPr>
          <p:spPr>
            <a:xfrm>
              <a:off x="7551720" y="338616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65" name="Text Box 16"/>
          <p:cNvSpPr/>
          <p:nvPr/>
        </p:nvSpPr>
        <p:spPr>
          <a:xfrm>
            <a:off x="7647480" y="3589200"/>
            <a:ext cx="819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Result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Set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6" name="Rectangle 17"/>
          <p:cNvSpPr/>
          <p:nvPr/>
        </p:nvSpPr>
        <p:spPr>
          <a:xfrm>
            <a:off x="6008760" y="4130640"/>
            <a:ext cx="2471760" cy="8938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6364080" y="416412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 Narrow"/>
              </a:rPr>
              <a:t>Middleware Spac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268" name="Group 19"/>
          <p:cNvGrpSpPr/>
          <p:nvPr/>
        </p:nvGrpSpPr>
        <p:grpSpPr>
          <a:xfrm>
            <a:off x="6923160" y="5024520"/>
            <a:ext cx="628560" cy="717480"/>
            <a:chOff x="6923160" y="5024520"/>
            <a:chExt cx="628560" cy="717480"/>
          </a:xfrm>
        </p:grpSpPr>
        <p:sp>
          <p:nvSpPr>
            <p:cNvPr id="269" name="Line 20"/>
            <p:cNvSpPr/>
            <p:nvPr/>
          </p:nvSpPr>
          <p:spPr>
            <a:xfrm>
              <a:off x="6923160" y="502452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7551720" y="502452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71" name="Text Box 22"/>
          <p:cNvSpPr/>
          <p:nvPr/>
        </p:nvSpPr>
        <p:spPr>
          <a:xfrm>
            <a:off x="7622640" y="5079960"/>
            <a:ext cx="1293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roprietary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rotoco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2" name="Rectangle 23"/>
          <p:cNvSpPr/>
          <p:nvPr/>
        </p:nvSpPr>
        <p:spPr>
          <a:xfrm>
            <a:off x="6342120" y="4532400"/>
            <a:ext cx="1809720" cy="38880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3" name="Text Box 24"/>
          <p:cNvSpPr/>
          <p:nvPr/>
        </p:nvSpPr>
        <p:spPr>
          <a:xfrm>
            <a:off x="6636240" y="4537080"/>
            <a:ext cx="1224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 Narrow"/>
              </a:rPr>
              <a:t>JDBC Driver</a:t>
            </a:r>
            <a:endParaRPr b="0" lang="en-US" sz="17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ype 4: Native-</a:t>
            </a:r>
            <a:r>
              <a:rPr b="0" lang="en-US" sz="3800" spc="-1" strike="noStrike">
                <a:solidFill>
                  <a:srgbClr val="ebd189"/>
                </a:solidFill>
                <a:latin typeface="Arial"/>
              </a:rPr>
              <a:t>Protocol</a:t>
            </a: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, Pure Java Driver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33120" y="1638360"/>
            <a:ext cx="4368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Pure Java drivers that communicate directly with the vendor’s databas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JDBC commands converted to database engine’s native protocol directly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Advantage: no additional translation or middleware laye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Improves performanc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5506920" y="1465200"/>
            <a:ext cx="3094200" cy="282096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5916600" y="2262240"/>
            <a:ext cx="2295360" cy="91440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5916600" y="3432240"/>
            <a:ext cx="2295360" cy="60156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9" name="AutoShape 8"/>
          <p:cNvSpPr/>
          <p:nvPr/>
        </p:nvSpPr>
        <p:spPr>
          <a:xfrm>
            <a:off x="6405480" y="5335560"/>
            <a:ext cx="1400400" cy="933480"/>
          </a:xfrm>
          <a:prstGeom prst="can">
            <a:avLst>
              <a:gd name="adj" fmla="val 2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5904720" y="158760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 Narrow"/>
              </a:rPr>
              <a:t>Application Spac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5979600" y="248112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Java Applic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5918400" y="3535200"/>
            <a:ext cx="231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Narrow"/>
              </a:rPr>
              <a:t>Type 4 JDBC Driver</a:t>
            </a:r>
            <a:endParaRPr b="0" lang="en-US" sz="2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508080" y="560880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 Narrow"/>
              </a:rPr>
              <a:t>Databas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4" name="Line 13"/>
          <p:cNvSpPr/>
          <p:nvPr/>
        </p:nvSpPr>
        <p:spPr>
          <a:xfrm>
            <a:off x="6770520" y="4033800"/>
            <a:ext cx="0" cy="14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5049360" y="4370400"/>
            <a:ext cx="175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SQL Command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Using Proprietar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Protocol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7399440" y="4033800"/>
            <a:ext cx="0" cy="1476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7394040" y="4367160"/>
            <a:ext cx="175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Result S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Using Proprietar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Protocol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2538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river Manag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085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The DriverManager class is responsible for establishing connections to the data sources, accessed through the JDBC driver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DBC database drivers are defined by classes that implement the “Driver” interfac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The “Properties” class defined in java.util package defines/stores the property (key) and the corresponding value (object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You can use the “setProperty” method to set the value of any of the propertie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E.g:  System.setProperty(“jdbc.drivers”,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72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                              “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sun.jdbc.odbc.JdbcOdbcDriver”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72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The first is the key (or name) for the property to be set and the second argument is the value to be set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14904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river Manager (contd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6680" y="1009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f a security manager is in effect, may not be able to set the System property – then setProperty() will throw an exception of type “Security Exception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f not able to set System property, the driver can be loaded explicitly by calling the static method “forName” in the “Class” class and pass the driver argu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g:    </a:t>
            </a:r>
            <a:r>
              <a:rPr b="1" lang="en-US" sz="2000" spc="-1" strike="noStrike">
                <a:solidFill>
                  <a:srgbClr val="fcab40"/>
                </a:solidFill>
                <a:latin typeface="Arial"/>
              </a:rPr>
              <a:t>Class.forName(“sun.jdbc.odbc.JdbcOdbcDriver”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“forName()” method can throw a “ClassNotFoundException” if the driver class is not found.  Hence, this function call should be in a try-catch blo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above statement loads the JDBC driver and takes care of any initialization that needs to be do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21240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nection Obje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75880" y="1041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ating a connection to a data sour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nection object represents an established connection to a particular data sour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connection object can also be used to query the data source (data and meta data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ent versions of getConnection() method contained in the DriverManager class that returns a connection objec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"/>
              </a:rPr>
              <a:t>Connection myconn = DriverManager.getConnection(source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"/>
              </a:rPr>
              <a:t>Connection myconn = DriverManager.getConnection(source, </a:t>
            </a:r>
            <a:r>
              <a:rPr b="1" lang="en-US" sz="1800" spc="-1" strike="noStrike">
                <a:solidFill>
                  <a:srgbClr val="fcab4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ab4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ab4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ab4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ab4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ab40"/>
                </a:solidFill>
                <a:latin typeface="Arial"/>
              </a:rPr>
              <a:t>         username, password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788480" y="5902200"/>
            <a:ext cx="598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String mysource = “jdbc:odbc:technical_library”;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Connection myconn = DriverManager.getConnection(mysource); 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800240" y="5473800"/>
            <a:ext cx="247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aea"/>
                </a:solidFill>
                <a:latin typeface="Arial Narrow"/>
              </a:rPr>
              <a:t>System DSN name – ODBC data source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6" name="Line 6"/>
          <p:cNvSpPr/>
          <p:nvPr/>
        </p:nvSpPr>
        <p:spPr>
          <a:xfrm flipH="1">
            <a:off x="4936680" y="5737320"/>
            <a:ext cx="615960" cy="214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181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SN-less Connec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1109160"/>
            <a:ext cx="7772400" cy="29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king a connection to the database without having to specify the DSN variable at the system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licitly specify a connection str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ould be exactly the same as shown below except the name of the database and its pa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385920" y="4167360"/>
            <a:ext cx="881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ab40"/>
                </a:solidFill>
                <a:latin typeface="Times New Roman"/>
              </a:rPr>
              <a:t>String source =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ab40"/>
                </a:solidFill>
                <a:latin typeface="Times New Roman"/>
              </a:rPr>
              <a:t>"jdbc:odbc:Driver={Microsoft Access Driver (*.mdb)};DBQ=movies_vj.mdb";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ab4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cab40"/>
                </a:solidFill>
                <a:latin typeface="Times New Roman"/>
              </a:rPr>
              <a:t>con = DriverManager.getConnection(source);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502640" y="5562720"/>
            <a:ext cx="703368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 Narrow"/>
              </a:rPr>
              <a:t>Database name, should be in the same directory as the clas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 Narrow"/>
              </a:rPr>
              <a:t>Can also specify absolute path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1" name="Line 7"/>
          <p:cNvSpPr/>
          <p:nvPr/>
        </p:nvSpPr>
        <p:spPr>
          <a:xfrm flipV="1">
            <a:off x="5311800" y="4833720"/>
            <a:ext cx="2438280" cy="7254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d189"/>
                </a:solidFill>
                <a:latin typeface="Arial"/>
              </a:rPr>
              <a:t>Java Database Connectivity (JDBC)</a:t>
            </a:r>
            <a:endParaRPr b="0" lang="en-US" sz="3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DBC – provides an interface to Relational Data Sour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DBC library provides the means for executing SQL statements to access and operate on a relational datab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DBC library is implemented in the java.sql packa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t of classes and interfaces that provide a uniform API for access to broad range of databa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163080"/>
            <a:ext cx="777240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atement Obje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041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rovides workspace for creating an SQL query, execute it, and retrieve the results that are returned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Statement objects are created by calling the createStatement() method of a valid connection object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Used to execute an SQL query by calling the executeQuery() method of Statement object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The SQL query string is passed as argument to the executeQuery() method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The result of executing the query is returned as on object of type “ResultSet”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JDBC Provides two other kinds of objects to execute SQL statement: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reparedStatement  -&gt;  extends Statement clas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allableStatement    -&gt;  extends PreparedStatement clas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62200" y="4386240"/>
            <a:ext cx="712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189"/>
                </a:solidFill>
                <a:latin typeface="Arial Narrow"/>
              </a:rPr>
              <a:t>Statement  mystatement = myconn.createStatement();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189"/>
                </a:solidFill>
                <a:latin typeface="Arial Narrow"/>
              </a:rPr>
              <a:t>ResultSet  myresults = mystatement.executeQuery(“select * from authors”);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2364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sultSet Obje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01440" y="1168560"/>
            <a:ext cx="82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8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results of executing an SQL query are returned in the form of an object that implements the ResultSet interfa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8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ultSet object contains a “cursor” that points to a particular record (called the current record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8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the ResultSet object is created, the cursor points to the position immediately preceeding the first recor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8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ral methods available to navigate the ResultSet by moving the curs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first(), last(), beforeFirst(), afterLast(), next(), previous(),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etc.  //returns true if the move is successfu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First()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//whether you reached the beginning of the ResultS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Last()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// whether you reached the end of the ResultS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680" y="216000"/>
            <a:ext cx="7772400" cy="64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cessing Data in a ResultS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07920" y="914400"/>
            <a:ext cx="823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We can retrieve the value of any column for the current row (specified by the cursor) by name or position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Using Name:  </a:t>
            </a:r>
            <a:r>
              <a:rPr b="1" lang="en-US" sz="2200" spc="-1" strike="noStrike">
                <a:solidFill>
                  <a:srgbClr val="ebd189"/>
                </a:solidFill>
                <a:latin typeface="Arial"/>
              </a:rPr>
              <a:t>authorNames.getString(“lastname”);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Using Position: </a:t>
            </a:r>
            <a:r>
              <a:rPr b="1" lang="en-US" sz="2200" spc="-1" strike="noStrike">
                <a:solidFill>
                  <a:srgbClr val="ebd189"/>
                </a:solidFill>
                <a:latin typeface="Arial"/>
              </a:rPr>
              <a:t>authorNames.getString(2);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Using the column position is a little bit faster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Methods for Retrieving Column Data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getString(), getInt(), getShort(), getFloat(), getDouble(), getTime() etc.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We can always use getString() method for numerical values if we are not going to do some computation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olumn names are NOT case sensitive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ResultSetMetaData object has metadata information about records, I.e., column names, data types etc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3397320" y="209700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Arial Narrow"/>
              </a:rPr>
              <a:t>Name of the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Arial Narrow"/>
              </a:rPr>
              <a:t>ResultSet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949280" y="209700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Arial Narrow"/>
              </a:rPr>
              <a:t>Method that returns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Arial Narrow"/>
              </a:rPr>
              <a:t>the value of String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7117920" y="2097000"/>
            <a:ext cx="155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Arial Narrow"/>
              </a:rPr>
              <a:t>Name of the 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Arial Narrow"/>
              </a:rPr>
              <a:t>column or attribute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2" name="Line 7"/>
          <p:cNvSpPr/>
          <p:nvPr/>
        </p:nvSpPr>
        <p:spPr>
          <a:xfrm flipV="1">
            <a:off x="3863880" y="1911240"/>
            <a:ext cx="373320" cy="247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3" name="Line 8"/>
          <p:cNvSpPr/>
          <p:nvPr/>
        </p:nvSpPr>
        <p:spPr>
          <a:xfrm flipV="1">
            <a:off x="5659560" y="1899720"/>
            <a:ext cx="161640" cy="241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4" name="Line 9"/>
          <p:cNvSpPr/>
          <p:nvPr/>
        </p:nvSpPr>
        <p:spPr>
          <a:xfrm flipH="1" flipV="1">
            <a:off x="7488000" y="1909440"/>
            <a:ext cx="399960" cy="282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5775480" y="3106800"/>
            <a:ext cx="269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Arial Narrow"/>
              </a:rPr>
              <a:t>Second column in the row or tuple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6" name="Line 11"/>
          <p:cNvSpPr/>
          <p:nvPr/>
        </p:nvSpPr>
        <p:spPr>
          <a:xfrm flipV="1">
            <a:off x="6934320" y="2968560"/>
            <a:ext cx="198360" cy="233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27756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Getting MetaData for a ResultSet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5840" y="1111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The ResultSetMetaData object encapsulates the metadata for a ResultSet object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Use getMetaData() method of ResultSet object to get the metadata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Some of the methods of ResultSetMetaData object: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getColumnName()   // returns column nam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getColumnType()    // returns column data typ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getColumnCount()  // # of columns in the ro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getTableName()      //returns the name of the tabl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getColumnLabel()  //suggested label for a column           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           for use in printou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The Types class in java.sql package contains the field types used in SQL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Eg: CHAR, VARCHAR, DOUBLE, INT, TIME etc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Once we know the SQL data type, then we can call the appropriate getXXX() function for getting the value of that column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2552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crollable Result Se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680" y="1231560"/>
            <a:ext cx="77724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JDBC1.0, result sets could be navigated in only one direction (forward) and starting at only one point (first row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nce JDBC 2.0, the cursor can be manipulated as if it were a array inde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thods exist for reading both forward and backward, for starting from any row, and for testing the current cursor loca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JDBC 2.0 Navigation Methods for Scrollable Result Set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51040" y="1398600"/>
            <a:ext cx="8292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oolean next ( )        </a:t>
            </a:r>
            <a:r>
              <a:rPr b="1" lang="en-US" sz="2300" spc="-1" strike="noStrike">
                <a:solidFill>
                  <a:srgbClr val="eaeaea"/>
                </a:solidFill>
                <a:latin typeface="Arial"/>
              </a:rPr>
              <a:t>Advances the cursor to the next row.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boolean previous ( )    Moves the cursor back one row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oolean first ( )         Moves the cursor to the first row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boolean last ( )         Moves the cursor to the last row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void beforeFirst ( )   Moves the cursor before the fir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row, usually in anticipation of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alling next ( 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void afterLast ( )      Moves the cursor after the last row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usually in anticipation of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calling previous ( 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oolean                    Moves the cursor to the specifi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bsolute (int row)    row. Specifying a negative numbe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moves the cursor  relative to th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nd of the result se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68320" y="671400"/>
            <a:ext cx="827568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JDBC 2.0 Navigation Methods for Scrollable Result Sets (contd.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29960" y="1220400"/>
            <a:ext cx="82724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oolean                   Moves the cursor forward 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relative (int row)     backward the number of row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pecified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boolean                    True if the cursor is before th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isBeforeFirst ( )        first row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oolean                    True if the cursor is after th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sAfterLast ( )           last row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boolean isFirst ( )    True if the cursor is positioned o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the first row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oolean isLast ( )    True if the cursor is positioned 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he last row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16120" y="193320"/>
            <a:ext cx="807696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reating Scrollable Result Se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17200" y="1231920"/>
            <a:ext cx="832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tement object created with parameters to indicate specific capabil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nection.createStatement() method can have up to three parameter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resultSetType –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e of scrolling to be us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resultSetConcurrency –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dicates whether the result set can be upda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resultSetHoldability –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pecifies whether to close cursors when a commit is do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stmt = con.createStatement(</a:t>
            </a:r>
            <a:br>
              <a:rPr sz="24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                ResultSet.TYPE_SCROLL_INSENSITIVE, </a:t>
            </a:r>
            <a:br>
              <a:rPr sz="24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                ResultSet.CONCUR_READ_ONLY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82800" y="255600"/>
            <a:ext cx="7772400" cy="76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stants in Result Se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680" y="1018800"/>
            <a:ext cx="77724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ursor Related Consta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TYPE_FORWARD_ON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DBC 1.0-style navigation in which the cursor starts at  the first row and can only  move forwar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TYPE_SCROLL_INSENSITIV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 cursor positioning methods are enabled; the result set doesn’t reflect changes made by others in the underlying tabl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TYPE_SCROLL_SENSITIV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 cursor positioning methods are enabled the result set reflects changes made by others in the underlying table.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7280" y="290520"/>
            <a:ext cx="8226360" cy="76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stants in Result Sets 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(contd.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680" y="1127160"/>
            <a:ext cx="77724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pdating Record Se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CONCUR_READ_ON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he results set won’t  be updatab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CONCUR_UPDATAB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Rows can be added and deleted, and columns can be updat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os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Curs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HOLD_CURSORS_OVER_COMM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o not close cursors after a commit is done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CLOSE_COURSORS_AT_COMM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lose cursors when a commit is don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lking to Databas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JDBC based application is insulated from the characteristics of specific database engi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200400" y="3124080"/>
            <a:ext cx="2971800" cy="60984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430080" y="320040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Java Applic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200400" y="4267080"/>
            <a:ext cx="2971800" cy="60984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4093200" y="43434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JDBC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2133720" y="5334120"/>
            <a:ext cx="1523880" cy="1066680"/>
          </a:xfrm>
          <a:prstGeom prst="can">
            <a:avLst>
              <a:gd name="adj" fmla="val 25000"/>
            </a:avLst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3962520" y="5334120"/>
            <a:ext cx="1523880" cy="1066680"/>
          </a:xfrm>
          <a:prstGeom prst="can">
            <a:avLst>
              <a:gd name="adj" fmla="val 25000"/>
            </a:avLst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5867280" y="5334120"/>
            <a:ext cx="1524240" cy="1066680"/>
          </a:xfrm>
          <a:prstGeom prst="can">
            <a:avLst>
              <a:gd name="adj" fmla="val 25000"/>
            </a:avLst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4648320" y="3733920"/>
            <a:ext cx="0" cy="53316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5" name="Line 13"/>
          <p:cNvSpPr/>
          <p:nvPr/>
        </p:nvSpPr>
        <p:spPr>
          <a:xfrm flipV="1">
            <a:off x="2895480" y="4876560"/>
            <a:ext cx="1067040" cy="60948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4724280" y="487692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5562720" y="4876920"/>
            <a:ext cx="1143000" cy="60948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2231280" y="5562720"/>
            <a:ext cx="129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cces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Databas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4115520" y="5562720"/>
            <a:ext cx="129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Oracl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Databas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6023880" y="5562720"/>
            <a:ext cx="129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Sybas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Databas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DBC Concep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DBC’s design is very similar to the design of ODB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ver Manag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ads database drivers, and manages the connection between the application and the driv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v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nslates API calls into operations for a specific data sour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n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session between an application and a databa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DBC Concepts (contd.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SQL Statement to perform a query or update oper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tada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tion about returned data, the database and the driv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sultS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ogical set of columns and rows returned by executing an SQL statement (resulting tuple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eps during execu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following steps are executed when running a JDBC appli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mport the necessary clas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ad the JDBC driv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dentify the database sour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ocate a “connection” object (creat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ocate a “Statement” object (creat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ecute a query using the “Statement” objec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trieve data from the returned “ResultSet” objec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ose the “ResultSet” objec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ose the “Statement” objec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ose the “Connection” objec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DBC Component Interac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838080" y="2046240"/>
            <a:ext cx="1447920" cy="91440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93240" y="209232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Dri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975040" y="2046240"/>
            <a:ext cx="1447560" cy="91440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937960" y="227484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Connec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168880" y="2046240"/>
            <a:ext cx="1447920" cy="91440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213160" y="227484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Statem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7381800" y="2046240"/>
            <a:ext cx="1447920" cy="91440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7436880" y="22748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ResultSe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5234040" y="3594240"/>
            <a:ext cx="3558960" cy="54432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6483960" y="365112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Dri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AutoShape 14"/>
          <p:cNvSpPr/>
          <p:nvPr/>
        </p:nvSpPr>
        <p:spPr>
          <a:xfrm>
            <a:off x="5253120" y="4705200"/>
            <a:ext cx="3502080" cy="1108080"/>
          </a:xfrm>
          <a:prstGeom prst="can">
            <a:avLst>
              <a:gd name="adj" fmla="val 25000"/>
            </a:avLst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6306480" y="51735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Databas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2295360" y="2503440"/>
            <a:ext cx="6811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Line 18"/>
          <p:cNvSpPr/>
          <p:nvPr/>
        </p:nvSpPr>
        <p:spPr>
          <a:xfrm>
            <a:off x="4470480" y="2503440"/>
            <a:ext cx="6811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Line 19"/>
          <p:cNvSpPr/>
          <p:nvPr/>
        </p:nvSpPr>
        <p:spPr>
          <a:xfrm>
            <a:off x="6669000" y="2503440"/>
            <a:ext cx="6811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Line 20"/>
          <p:cNvSpPr/>
          <p:nvPr/>
        </p:nvSpPr>
        <p:spPr>
          <a:xfrm>
            <a:off x="5892840" y="2957400"/>
            <a:ext cx="0" cy="660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Line 22"/>
          <p:cNvSpPr/>
          <p:nvPr/>
        </p:nvSpPr>
        <p:spPr>
          <a:xfrm>
            <a:off x="5892840" y="4179960"/>
            <a:ext cx="0" cy="6602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Line 23"/>
          <p:cNvSpPr/>
          <p:nvPr/>
        </p:nvSpPr>
        <p:spPr>
          <a:xfrm>
            <a:off x="8083440" y="2957400"/>
            <a:ext cx="0" cy="66060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6" name="Line 24"/>
          <p:cNvSpPr/>
          <p:nvPr/>
        </p:nvSpPr>
        <p:spPr>
          <a:xfrm>
            <a:off x="8083440" y="4179960"/>
            <a:ext cx="0" cy="66024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2223720" y="21985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reates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4376160" y="21985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reates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9" name="Text Box 27"/>
          <p:cNvSpPr/>
          <p:nvPr/>
        </p:nvSpPr>
        <p:spPr>
          <a:xfrm>
            <a:off x="6586200" y="21985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reates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Text Box 28"/>
          <p:cNvSpPr/>
          <p:nvPr/>
        </p:nvSpPr>
        <p:spPr>
          <a:xfrm>
            <a:off x="5118840" y="31100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QL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1" name="Text Box 29"/>
          <p:cNvSpPr/>
          <p:nvPr/>
        </p:nvSpPr>
        <p:spPr>
          <a:xfrm>
            <a:off x="7295400" y="412272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sult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(tuples)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2" name="Freeform 30"/>
          <p:cNvSpPr/>
          <p:nvPr/>
        </p:nvSpPr>
        <p:spPr>
          <a:xfrm>
            <a:off x="3618000" y="2976480"/>
            <a:ext cx="1616040" cy="874800"/>
          </a:xfrm>
          <a:custGeom>
            <a:avLst/>
            <a:gdLst/>
            <a:ahLst/>
            <a:rect l="l" t="t" r="r" b="b"/>
            <a:pathLst>
              <a:path w="1018" h="588">
                <a:moveTo>
                  <a:pt x="0" y="0"/>
                </a:moveTo>
                <a:lnTo>
                  <a:pt x="0" y="588"/>
                </a:lnTo>
                <a:lnTo>
                  <a:pt x="1018" y="588"/>
                </a:lnTo>
              </a:path>
            </a:pathLst>
          </a:custGeom>
          <a:noFill/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3" name="Text Box 31"/>
          <p:cNvSpPr/>
          <p:nvPr/>
        </p:nvSpPr>
        <p:spPr>
          <a:xfrm>
            <a:off x="3738960" y="3827520"/>
            <a:ext cx="114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Establish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Link to DB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eps Involved in Basic JDBC Opera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5315040" y="895320"/>
            <a:ext cx="2576520" cy="144612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5754600" y="1747800"/>
            <a:ext cx="1695600" cy="449280"/>
          </a:xfrm>
          <a:prstGeom prst="rect">
            <a:avLst/>
          </a:prstGeom>
          <a:solidFill>
            <a:srgbClr val="dc005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049800" y="1719360"/>
            <a:ext cx="11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5419800" y="101772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river Manag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754600" y="3024360"/>
            <a:ext cx="1695600" cy="448920"/>
          </a:xfrm>
          <a:prstGeom prst="rect">
            <a:avLst/>
          </a:prstGeom>
          <a:solidFill>
            <a:srgbClr val="dc005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726160" y="2995560"/>
            <a:ext cx="17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nec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5754600" y="4179960"/>
            <a:ext cx="1695600" cy="449280"/>
          </a:xfrm>
          <a:prstGeom prst="rect">
            <a:avLst/>
          </a:prstGeom>
          <a:solidFill>
            <a:srgbClr val="dc005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5726160" y="4151160"/>
            <a:ext cx="17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tatem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5754600" y="5862600"/>
            <a:ext cx="1695600" cy="449280"/>
          </a:xfrm>
          <a:prstGeom prst="rect">
            <a:avLst/>
          </a:prstGeom>
          <a:solidFill>
            <a:srgbClr val="dc005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726160" y="5834160"/>
            <a:ext cx="17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esult Se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5" name="AutoShape 15"/>
          <p:cNvSpPr/>
          <p:nvPr/>
        </p:nvSpPr>
        <p:spPr>
          <a:xfrm>
            <a:off x="7827840" y="2752560"/>
            <a:ext cx="1065240" cy="947880"/>
          </a:xfrm>
          <a:prstGeom prst="can">
            <a:avLst>
              <a:gd name="adj" fmla="val 2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Line 16"/>
          <p:cNvSpPr/>
          <p:nvPr/>
        </p:nvSpPr>
        <p:spPr>
          <a:xfrm flipH="1">
            <a:off x="6600960" y="2346480"/>
            <a:ext cx="1440" cy="68724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Line 17"/>
          <p:cNvSpPr/>
          <p:nvPr/>
        </p:nvSpPr>
        <p:spPr>
          <a:xfrm>
            <a:off x="6602400" y="3494160"/>
            <a:ext cx="0" cy="68256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6602400" y="4657680"/>
            <a:ext cx="3240" cy="118908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7459560" y="3254400"/>
            <a:ext cx="36540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750960" y="1641600"/>
            <a:ext cx="655164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bd189"/>
                </a:solidFill>
                <a:latin typeface="Times New Roman"/>
              </a:rPr>
              <a:t>1. Load the JDBC driver class: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Class.forName(“driverName”);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bd189"/>
                </a:solidFill>
                <a:latin typeface="Times New Roman"/>
              </a:rPr>
              <a:t>2. Open a database connection: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DriverManager.getConnection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(“jdbc:xxx:datasource”);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bd189"/>
                </a:solidFill>
                <a:latin typeface="Times New Roman"/>
              </a:rPr>
              <a:t>3. Issue SQL statements: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stmt = con.createStatement();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stmt.executeQuery (“Select * from myTable”);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bd189"/>
                </a:solidFill>
                <a:latin typeface="Times New Roman"/>
              </a:rPr>
              <a:t>4. Process result set: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while (rs.next()) {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name = rs.getString(“name”);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amount = rs.getInt(“amt”); }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7819920" y="31003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177840"/>
            <a:ext cx="802656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Two-Tier Database Access Model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va Application talks directly to the datab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ccomplished through the JDBC driver which sends commands directly to the datab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sults sent back directly to the appli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5583240" y="1465200"/>
            <a:ext cx="3094200" cy="282096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992920" y="2262240"/>
            <a:ext cx="2295360" cy="91440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5992920" y="3432240"/>
            <a:ext cx="2295360" cy="60156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6481800" y="5335560"/>
            <a:ext cx="1400040" cy="933480"/>
          </a:xfrm>
          <a:prstGeom prst="can">
            <a:avLst>
              <a:gd name="adj" fmla="val 2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980680" y="158760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 Narrow"/>
              </a:rPr>
              <a:t>Application Spac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6055560" y="248112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Java Applic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300720" y="351000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JDBC Dri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584040" y="560880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 Narrow"/>
              </a:rPr>
              <a:t>Databas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6846840" y="4033800"/>
            <a:ext cx="0" cy="14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5433480" y="4429080"/>
            <a:ext cx="140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Q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omma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7475400" y="4033800"/>
            <a:ext cx="0" cy="1476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7509960" y="4429080"/>
            <a:ext cx="94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Resul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e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02:13:05Z</dcterms:created>
  <dc:creator>Santhi Vijayan</dc:creator>
  <dc:description/>
  <dc:language>en-US</dc:language>
  <cp:lastModifiedBy>Eng.Vincent Adul</cp:lastModifiedBy>
  <dcterms:modified xsi:type="dcterms:W3CDTF">2012-04-14T11:08:00Z</dcterms:modified>
  <cp:revision>50</cp:revision>
  <dc:subject/>
  <dc:title>Java Database Connectivity</dc:title>
</cp:coreProperties>
</file>