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960-D9F9-45DF-896F-2A072AA8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93C-C8FF-4198-82AF-177E4447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453-7EA5-40A1-8731-30E2E70D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D76-09AC-41C6-B13E-BC7A79FA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4ACD-5B95-4915-AF34-4ED3215B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502-26A6-4E47-8EDE-0822A7FD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510C-E1B4-4758-825D-C7FE233C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E67E-081B-41BF-8818-DB65ADBC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04AF-20B1-4E13-A8B2-D29C126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5389-35FE-4EEC-B6DA-ED01C2F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DC60-3ADA-440E-8B24-EFB7FCA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740-8010-4475-9E8B-52564715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21A6-3B77-4FDF-84E1-18A8926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0296-767F-412C-9018-337F22A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9BA6-33FE-4CBE-B309-7C15F55D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825E-A9F1-4E33-8B3F-29159112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43EB-1DB1-4833-AF22-30692ABE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313-270E-4DC6-B629-EBAB5F4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141-ED4D-4E9D-B2E8-A0FBEC8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1A2-7D04-455E-9FC6-C9144B90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497-B0FC-49D2-96ED-3CCD089C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61F-EAD3-4FC9-B405-54356B25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B47-0DA4-4A4C-9712-7AC7C74F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6C59-E311-48BE-A5D7-EE5896A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3FE9-CB0A-47F6-ADAD-46F914F3D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212E-3E4C-4866-A353-A5B2F43E3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395280" y="33336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Warga Nega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292720" y="551016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Bambang Tri Purwa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3927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2205000"/>
            <a:ext cx="8280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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SAMAAN KEDUDUKAN DALAM HUKUM &amp; P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ASAL 27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A KESEIMBANGAN ANTARA HAK &amp; KEWAJIBAN, TIDAK AD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KRIMINASI ANTAR 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0920" y="2133720"/>
            <a:ext cx="856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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K ATAS PEKERJAAN &amp; PENGHIDUPAN YANG LAYAK BAG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MANUSI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7 (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MEMANCARKAN ASAS KEADILAN SOSIAL &amp; KERAKY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ERBAGAI ATURAN &amp; UU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MENCIPTAKAN LAPANGAN KERJA &amp; MEMPEROLEH PENGHIDUPAN YANG LAY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U AGRARIA, KOPERASI, PENANAMAN MODAL, SISTEM PE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ASIONAL, JAM SOS TEK., DL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9640" y="1989000"/>
            <a:ext cx="80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MERDEKAAN BERSERIKAT &amp; BERKUMP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MENCERMINKAN NEGARA INDONESIA DEMOKRAT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95280" y="378936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K MENGELUARKAN PIKIRAN DENGAN LISAN &amp; TULISAN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DS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ERUTAMA BERKAITAN DENGAN MEDIA P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TULISAN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Arial"/>
              </a:rPr>
              <a:t> DSB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DENGAN CARA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1989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MERDEKAAN MEMELUK 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2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EGARA MENJAMIN KEMERDEKAAN TIAP-TIAP PENDUDUK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NTUK UNTUK MEMELUK AGAMA &amp; BERIBADAT MEN. 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amp; KEPERCAYAAN (HAM. KEBEBASAN BERAGAMA LANGSU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ERSUMBER PADA MARTABAT MAN SEBAGAI MAHLU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CIPTAAN TUHAN YME, BUKAN PEMBERIAN NEGARA /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GOLO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K &amp; KEWAJIBAN PEMBELA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U NO. 20 / 198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UUD’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468360" y="2060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K MENDAPATKAN PENGAJAR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AL 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STEM PENDIDIKAN NASIONAL (UU NO. 2 / 1989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NDIDIKAN 2 JAL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ENDIDIKAN S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ENDIDIKAN LUAR S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1620720"/>
            <a:ext cx="8820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EBUDAYA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ASAL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RUMUSAN TENTANG KEBUDAYAAN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EBUDAYAAN YANG TIMBUL SEBAGAI BUAH USAHA BU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NYA SELURUH RAKYAT INDONESIA. TERMASUK KEBUDA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YAAN LAMA &amp; ASLI YANG TERDAPAT SEBAGAI PUNCAK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PUNCAK KEBUDAYAAN DI DAERAH-DAERAH S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INDONESIA (PENJELASAN UUD’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EBUDAYAAN HARUS DIUSAHAKAN MENUJU KEARA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EMAJUAN ADAB BUDAYA &amp;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BUDAYA ASING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UNSUR BUDAYA PENTING, YANG TETAP DIHORMATI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DIPELIHAR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Arial"/>
              </a:rPr>
              <a:t>BAHASA DAERA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24000" y="2349360"/>
            <a:ext cx="83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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SEJAHTERAAN SOS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AL 33 &amp; 3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MAKMURAN MASYARAKAT YANG UT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4360" y="47628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BUNGAN WN &amp;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41418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wajiban W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alu siap melindungi segenap tanah tumpah darah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ncintai tanah air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alu siap berjuang mempertahankan negara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kerja sebaik baik nya dan bertanggung jawab sesuai dengan bidang nya masing mas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lunya membangun rasa Nasionalisme pada generasi pener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alu terjadi kehidupan yang berkesinambung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si penerus perlu mengetahui sejarah nasionalisme Indone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si penerus akan menggantikan pendahuluny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si penerus yang akan meneruskan rasa nasionalisme berikutny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Identitas Nasiona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410080" y="5791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4807"/>
                </a:solidFill>
                <a:latin typeface="Verdana"/>
              </a:rPr>
              <a:t>Bambang Tri Purwa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6448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b0f0"/>
                </a:solidFill>
                <a:latin typeface="Calibri"/>
              </a:rPr>
              <a:t>Konsepsi warga negara dan kewarganegaraan Indones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380880" y="1612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Pengertian Warga Negar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gota dari suatu negara yang didirikan atas kekuatan bersama, dilaksanakan atas tanggung jawab bersama, dan ditujukan untuk kepentingan bers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24000" y="328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52280" y="3809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pat disebut sebagai masyarakat hukum suatu negara                            sistem hubungan yang teratur antara masyarakat dengan hukum suatu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2" name="Straight Arrow Connector 7"/>
          <p:cNvCxnSpPr/>
          <p:nvPr/>
        </p:nvCxnSpPr>
        <p:spPr>
          <a:xfrm>
            <a:off x="5660640" y="4038120"/>
            <a:ext cx="11437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" name="TextBox 9"/>
          <p:cNvSpPr/>
          <p:nvPr/>
        </p:nvSpPr>
        <p:spPr>
          <a:xfrm>
            <a:off x="380880" y="5257800"/>
            <a:ext cx="205740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3657600" y="4800600"/>
            <a:ext cx="47242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DUDUK : WN &amp; org Asing dlm 1 wilay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657600" y="5734080"/>
            <a:ext cx="205740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 PENDUDU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6" name="Straight Arrow Connector 13"/>
          <p:cNvCxnSpPr/>
          <p:nvPr/>
        </p:nvCxnSpPr>
        <p:spPr>
          <a:xfrm flipV="1">
            <a:off x="2437920" y="5071320"/>
            <a:ext cx="1143720" cy="2293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7" name="Straight Arrow Connector 15"/>
          <p:cNvCxnSpPr/>
          <p:nvPr/>
        </p:nvCxnSpPr>
        <p:spPr>
          <a:xfrm>
            <a:off x="2437920" y="5516640"/>
            <a:ext cx="1143720" cy="38160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5270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Verdana"/>
              </a:rPr>
              <a:t>Identitas Nas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609480" y="2286000"/>
            <a:ext cx="239076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tas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3581280" y="1900080"/>
            <a:ext cx="127656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3505320" y="3048120"/>
            <a:ext cx="228096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ional (n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791320" y="1900080"/>
            <a:ext cx="3138480" cy="64260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ri/tanda/jati diri/sifat kh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934320" y="3048120"/>
            <a:ext cx="106668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3809880" y="4648320"/>
            <a:ext cx="358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ti diri bangsa/ kepribadian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3857760" y="5357880"/>
            <a:ext cx="5486400" cy="368280"/>
          </a:xfrm>
          <a:prstGeom prst="rect">
            <a:avLst/>
          </a:prstGeom>
          <a:noFill/>
          <a:ln w="9360">
            <a:solidFill>
              <a:srgbClr val="8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ktor Objektif (geografi, ekologi, demograf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108000" y="5373720"/>
            <a:ext cx="3249720" cy="916920"/>
          </a:xfrm>
          <a:prstGeom prst="rect">
            <a:avLst/>
          </a:prstGeom>
          <a:noFill/>
          <a:ln w="9360">
            <a:solidFill>
              <a:srgbClr val="8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ktor subyektif (sejarah, sosial, politik dan kebudaya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Bent Arrow 11"/>
          <p:cNvSpPr/>
          <p:nvPr/>
        </p:nvSpPr>
        <p:spPr>
          <a:xfrm>
            <a:off x="2270160" y="1987560"/>
            <a:ext cx="1222200" cy="289080"/>
          </a:xfrm>
          <a:custGeom>
            <a:avLst/>
            <a:gdLst/>
            <a:ahLst/>
            <a:rect l="l" t="t" r="r" b="b"/>
            <a:pathLst>
              <a:path w="1222375" h="288925">
                <a:moveTo>
                  <a:pt x="0" y="288925"/>
                </a:moveTo>
                <a:lnTo>
                  <a:pt x="0" y="162520"/>
                </a:lnTo>
                <a:lnTo>
                  <a:pt x="0" y="162520"/>
                </a:lnTo>
                <a:arcTo wR="126405" hR="126405" stAng="10800000" swAng="5400000"/>
                <a:lnTo>
                  <a:pt x="1150144" y="36116"/>
                </a:lnTo>
                <a:lnTo>
                  <a:pt x="1150144" y="0"/>
                </a:lnTo>
                <a:lnTo>
                  <a:pt x="1222375" y="72231"/>
                </a:lnTo>
                <a:lnTo>
                  <a:pt x="1150144" y="144463"/>
                </a:lnTo>
                <a:lnTo>
                  <a:pt x="1150144" y="108347"/>
                </a:lnTo>
                <a:lnTo>
                  <a:pt x="126405" y="108347"/>
                </a:lnTo>
                <a:lnTo>
                  <a:pt x="126405" y="108347"/>
                </a:lnTo>
                <a:arcTo wR="54173" hR="54173" stAng="-5400000" swAng="-5400000"/>
                <a:lnTo>
                  <a:pt x="72231" y="288925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Bent Arrow 12"/>
          <p:cNvSpPr/>
          <p:nvPr/>
        </p:nvSpPr>
        <p:spPr>
          <a:xfrm flipV="1">
            <a:off x="1981080" y="2742480"/>
            <a:ext cx="1295640" cy="685800"/>
          </a:xfrm>
          <a:custGeom>
            <a:avLst/>
            <a:gdLst/>
            <a:ahLst/>
            <a:rect l="l" t="t" r="r" b="b"/>
            <a:pathLst>
              <a:path w="1295400" h="685800">
                <a:moveTo>
                  <a:pt x="0" y="685800"/>
                </a:moveTo>
                <a:lnTo>
                  <a:pt x="0" y="385763"/>
                </a:lnTo>
                <a:lnTo>
                  <a:pt x="0" y="385763"/>
                </a:lnTo>
                <a:arcTo wR="300038" hR="300038" stAng="10800000" swAng="5400011"/>
                <a:lnTo>
                  <a:pt x="1123950" y="85725"/>
                </a:lnTo>
                <a:lnTo>
                  <a:pt x="1123950" y="0"/>
                </a:lnTo>
                <a:lnTo>
                  <a:pt x="1295400" y="171450"/>
                </a:lnTo>
                <a:lnTo>
                  <a:pt x="1123950" y="342900"/>
                </a:lnTo>
                <a:lnTo>
                  <a:pt x="1123950" y="257175"/>
                </a:lnTo>
                <a:lnTo>
                  <a:pt x="300038" y="257175"/>
                </a:lnTo>
                <a:lnTo>
                  <a:pt x="300038" y="257175"/>
                </a:lnTo>
                <a:arcTo wR="128588" hR="128588" stAng="-5400000" swAng="-5400000"/>
                <a:lnTo>
                  <a:pt x="171450" y="6858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ight Arrow 13"/>
          <p:cNvSpPr/>
          <p:nvPr/>
        </p:nvSpPr>
        <p:spPr>
          <a:xfrm>
            <a:off x="4876920" y="1981080"/>
            <a:ext cx="6858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ight Arrow 14"/>
          <p:cNvSpPr/>
          <p:nvPr/>
        </p:nvSpPr>
        <p:spPr>
          <a:xfrm>
            <a:off x="5867280" y="3124080"/>
            <a:ext cx="83844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Down Arrow 16"/>
          <p:cNvSpPr/>
          <p:nvPr/>
        </p:nvSpPr>
        <p:spPr>
          <a:xfrm>
            <a:off x="4876920" y="3581280"/>
            <a:ext cx="1447560" cy="91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Down Arrow 17"/>
          <p:cNvSpPr/>
          <p:nvPr/>
        </p:nvSpPr>
        <p:spPr>
          <a:xfrm>
            <a:off x="609480" y="2819520"/>
            <a:ext cx="290520" cy="24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2" name="Straight Arrow Connector 21"/>
          <p:cNvCxnSpPr/>
          <p:nvPr/>
        </p:nvCxnSpPr>
        <p:spPr>
          <a:xfrm>
            <a:off x="1213200" y="2714400"/>
            <a:ext cx="2591640" cy="2819880"/>
          </a:xfrm>
          <a:prstGeom prst="straightConnector1">
            <a:avLst/>
          </a:prstGeom>
          <a:ln w="76320">
            <a:solidFill>
              <a:srgbClr val="9fae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380880" y="152280"/>
            <a:ext cx="7620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Identitas Nasional Indone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214200" y="1447920"/>
            <a:ext cx="25005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tas fundamen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6400800" y="2057400"/>
            <a:ext cx="2362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tas Instrument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04920" y="1981080"/>
            <a:ext cx="198108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alibri"/>
              </a:rPr>
              <a:t>Pancasila</a:t>
            </a:r>
            <a:r>
              <a:rPr b="0" lang="en-US" sz="18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safat Bangsa, Hukum dasar, pandangan hidup, etika politik, dan paradigma pembangun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4419720" y="2895480"/>
            <a:ext cx="28954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UD’45, konstitusi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4419720" y="3429000"/>
            <a:ext cx="35812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hasa Indonesia, Bahasa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4419720" y="3962520"/>
            <a:ext cx="34290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uda Pancasila, lambang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4419720" y="4572000"/>
            <a:ext cx="41148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ng Saka Merah Putih, bender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4419720" y="5181480"/>
            <a:ext cx="38862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hineka Tunggal Ika, semboy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419720" y="5791320"/>
            <a:ext cx="34290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onesia Raya, lagu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Bent Arrow 13"/>
          <p:cNvSpPr/>
          <p:nvPr/>
        </p:nvSpPr>
        <p:spPr>
          <a:xfrm rot="10800000">
            <a:off x="2819160" y="1066680"/>
            <a:ext cx="533160" cy="749520"/>
          </a:xfrm>
          <a:custGeom>
            <a:avLst/>
            <a:gdLst/>
            <a:ahLst/>
            <a:rect l="l" t="t" r="r" b="b"/>
            <a:pathLst>
              <a:path w="533400" h="749300">
                <a:moveTo>
                  <a:pt x="0" y="749300"/>
                </a:moveTo>
                <a:lnTo>
                  <a:pt x="0" y="300038"/>
                </a:lnTo>
                <a:lnTo>
                  <a:pt x="0" y="300038"/>
                </a:lnTo>
                <a:arcTo wR="233363" hR="233363" stAng="10800000" swAng="5400000"/>
                <a:lnTo>
                  <a:pt x="400050" y="66675"/>
                </a:lnTo>
                <a:lnTo>
                  <a:pt x="400050" y="0"/>
                </a:lnTo>
                <a:lnTo>
                  <a:pt x="533400" y="133350"/>
                </a:lnTo>
                <a:lnTo>
                  <a:pt x="400050" y="266700"/>
                </a:lnTo>
                <a:lnTo>
                  <a:pt x="400050" y="200025"/>
                </a:lnTo>
                <a:lnTo>
                  <a:pt x="233363" y="200025"/>
                </a:lnTo>
                <a:lnTo>
                  <a:pt x="233363" y="200025"/>
                </a:lnTo>
                <a:arcTo wR="100013" hR="100013" stAng="-5400000" swAng="-5400000"/>
                <a:lnTo>
                  <a:pt x="133350" y="7493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Bent Arrow 15"/>
          <p:cNvSpPr/>
          <p:nvPr/>
        </p:nvSpPr>
        <p:spPr>
          <a:xfrm rot="5400000">
            <a:off x="7696080" y="838080"/>
            <a:ext cx="685800" cy="990720"/>
          </a:xfrm>
          <a:custGeom>
            <a:avLst/>
            <a:gdLst/>
            <a:ahLst/>
            <a:rect l="l" t="t" r="r" b="b"/>
            <a:pathLst>
              <a:path w="685800" h="990600">
                <a:moveTo>
                  <a:pt x="0" y="990600"/>
                </a:moveTo>
                <a:lnTo>
                  <a:pt x="0" y="385763"/>
                </a:lnTo>
                <a:lnTo>
                  <a:pt x="0" y="385763"/>
                </a:lnTo>
                <a:arcTo wR="300038" hR="300038" stAng="10800000" swAng="5400011"/>
                <a:lnTo>
                  <a:pt x="514350" y="85725"/>
                </a:lnTo>
                <a:lnTo>
                  <a:pt x="514350" y="0"/>
                </a:lnTo>
                <a:lnTo>
                  <a:pt x="685800" y="171450"/>
                </a:lnTo>
                <a:lnTo>
                  <a:pt x="514350" y="342900"/>
                </a:lnTo>
                <a:lnTo>
                  <a:pt x="514350" y="257175"/>
                </a:lnTo>
                <a:lnTo>
                  <a:pt x="300038" y="257175"/>
                </a:lnTo>
                <a:lnTo>
                  <a:pt x="300038" y="257175"/>
                </a:lnTo>
                <a:arcTo wR="128588" hR="128588" stAng="-5400000" swAng="-5400000"/>
                <a:lnTo>
                  <a:pt x="171450" y="9906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304920" y="4343400"/>
            <a:ext cx="20574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tas alamia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304920" y="4815000"/>
            <a:ext cx="23619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egara kepula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Box 19"/>
          <p:cNvSpPr/>
          <p:nvPr/>
        </p:nvSpPr>
        <p:spPr>
          <a:xfrm>
            <a:off x="304920" y="5327640"/>
            <a:ext cx="23619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majemukan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304920" y="5799240"/>
            <a:ext cx="2361960" cy="3682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majemukan 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9" name="Straight Arrow Connector 22"/>
          <p:cNvCxnSpPr/>
          <p:nvPr/>
        </p:nvCxnSpPr>
        <p:spPr>
          <a:xfrm flipH="1">
            <a:off x="2437920" y="1143000"/>
            <a:ext cx="2057760" cy="327744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5653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030a0"/>
                </a:solidFill>
                <a:latin typeface="Verdana"/>
              </a:rPr>
              <a:t>Integrasi nas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1066680" y="1981080"/>
            <a:ext cx="20574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si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3505320" y="1716120"/>
            <a:ext cx="11430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3505320" y="2438280"/>
            <a:ext cx="198108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sional (n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6248520" y="1757520"/>
            <a:ext cx="106668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k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553080" y="2438280"/>
            <a:ext cx="99072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6" name="Straight Arrow Connector 8"/>
          <p:cNvCxnSpPr/>
          <p:nvPr/>
        </p:nvCxnSpPr>
        <p:spPr>
          <a:xfrm>
            <a:off x="4876920" y="1914120"/>
            <a:ext cx="1219680" cy="2520"/>
          </a:xfrm>
          <a:prstGeom prst="straightConnector1">
            <a:avLst/>
          </a:prstGeom>
          <a:ln w="38160">
            <a:solidFill>
              <a:srgbClr val="9faebd"/>
            </a:solidFill>
            <a:miter/>
            <a:tailEnd len="med" type="triangle" w="med"/>
          </a:ln>
        </p:spPr>
      </p:cxnSp>
      <p:cxnSp>
        <p:nvCxnSpPr>
          <p:cNvPr id="197" name="Straight Arrow Connector 10"/>
          <p:cNvCxnSpPr/>
          <p:nvPr/>
        </p:nvCxnSpPr>
        <p:spPr>
          <a:xfrm>
            <a:off x="5638320" y="2590920"/>
            <a:ext cx="839160" cy="2160"/>
          </a:xfrm>
          <a:prstGeom prst="straightConnector1">
            <a:avLst/>
          </a:prstGeom>
          <a:ln w="28440">
            <a:solidFill>
              <a:srgbClr val="9faebd"/>
            </a:solidFill>
            <a:miter/>
            <a:tailEnd len="med" type="arrow" w="med"/>
          </a:ln>
        </p:spPr>
      </p:cxnSp>
      <p:sp>
        <p:nvSpPr>
          <p:cNvPr id="198" name="Bent Arrow 11"/>
          <p:cNvSpPr/>
          <p:nvPr/>
        </p:nvSpPr>
        <p:spPr>
          <a:xfrm>
            <a:off x="2590920" y="1773360"/>
            <a:ext cx="685800" cy="207720"/>
          </a:xfrm>
          <a:custGeom>
            <a:avLst/>
            <a:gdLst/>
            <a:ahLst/>
            <a:rect l="l" t="t" r="r" b="b"/>
            <a:pathLst>
              <a:path w="685800" h="207962">
                <a:moveTo>
                  <a:pt x="0" y="207962"/>
                </a:moveTo>
                <a:lnTo>
                  <a:pt x="0" y="116979"/>
                </a:lnTo>
                <a:lnTo>
                  <a:pt x="0" y="116979"/>
                </a:lnTo>
                <a:arcTo wR="90983" hR="90983" stAng="10800000" swAng="5400000"/>
                <a:lnTo>
                  <a:pt x="633810" y="25995"/>
                </a:lnTo>
                <a:lnTo>
                  <a:pt x="633810" y="0"/>
                </a:lnTo>
                <a:lnTo>
                  <a:pt x="685800" y="51991"/>
                </a:lnTo>
                <a:lnTo>
                  <a:pt x="633810" y="103981"/>
                </a:lnTo>
                <a:lnTo>
                  <a:pt x="633810" y="77986"/>
                </a:lnTo>
                <a:lnTo>
                  <a:pt x="90983" y="77986"/>
                </a:lnTo>
                <a:lnTo>
                  <a:pt x="90983" y="77986"/>
                </a:lnTo>
                <a:arcTo wR="38993" hR="38993" stAng="-5400000" swAng="-5400000"/>
                <a:lnTo>
                  <a:pt x="51991" y="207962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Bent Arrow 12"/>
          <p:cNvSpPr/>
          <p:nvPr/>
        </p:nvSpPr>
        <p:spPr>
          <a:xfrm flipV="1">
            <a:off x="2438280" y="2362320"/>
            <a:ext cx="914400" cy="304560"/>
          </a:xfrm>
          <a:custGeom>
            <a:avLst/>
            <a:gdLst/>
            <a:ahLst/>
            <a:rect l="l" t="t" r="r" b="b"/>
            <a:pathLst>
              <a:path w="914400" h="304800">
                <a:moveTo>
                  <a:pt x="0" y="304800"/>
                </a:moveTo>
                <a:lnTo>
                  <a:pt x="0" y="171450"/>
                </a:lnTo>
                <a:lnTo>
                  <a:pt x="0" y="171450"/>
                </a:lnTo>
                <a:arcTo wR="133350" hR="133350" stAng="10800000" swAng="5400000"/>
                <a:lnTo>
                  <a:pt x="838200" y="38100"/>
                </a:lnTo>
                <a:lnTo>
                  <a:pt x="838200" y="0"/>
                </a:lnTo>
                <a:lnTo>
                  <a:pt x="914400" y="76200"/>
                </a:lnTo>
                <a:lnTo>
                  <a:pt x="838200" y="152400"/>
                </a:lnTo>
                <a:lnTo>
                  <a:pt x="838200" y="114300"/>
                </a:lnTo>
                <a:lnTo>
                  <a:pt x="133350" y="114300"/>
                </a:lnTo>
                <a:lnTo>
                  <a:pt x="133350" y="114300"/>
                </a:lnTo>
                <a:arcTo wR="57150" hR="57150" stAng="-5400000" swAng="-5400000"/>
                <a:lnTo>
                  <a:pt x="76200" y="3048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Curved Left Arrow 14"/>
          <p:cNvSpPr/>
          <p:nvPr/>
        </p:nvSpPr>
        <p:spPr>
          <a:xfrm>
            <a:off x="7620120" y="1774800"/>
            <a:ext cx="1066680" cy="25909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47560 h 2590920"/>
              <a:gd name="textAreaBottom" fmla="*/ 19098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3515289"/>
                <a:lnTo>
                  <a:pt x="5400" y="21310"/>
                </a:lnTo>
                <a:lnTo>
                  <a:pt x="0" y="19377"/>
                </a:lnTo>
                <a:lnTo>
                  <a:pt x="5400" y="16863"/>
                </a:lnTo>
                <a:lnTo>
                  <a:pt x="5400" y="17975"/>
                </a:lnTo>
                <a:arcTo wR="21600" hR="9133" stAng="3515289" swAng="-3337222"/>
                <a:lnTo>
                  <a:pt x="21439" y="10244"/>
                </a:lnTo>
                <a:arcTo wR="21600" hR="9133" stAng="-178066" swAng="-5221934"/>
                <a:close/>
              </a:path>
              <a:path fill="darkenLess" w="21600" h="21600">
                <a:moveTo>
                  <a:pt x="0" y="0"/>
                </a:moveTo>
                <a:arcTo wR="21600" hR="9133" stAng="-5400000" swAng="5400000"/>
                <a:lnTo>
                  <a:pt x="21600" y="11356"/>
                </a:lnTo>
                <a:arcTo wR="21600" hR="9133" stAng="0" swAng="-178066"/>
                <a:lnTo>
                  <a:pt x="21439" y="10244"/>
                </a:lnTo>
                <a:arcTo wR="21600" hR="9133" stAng="-178066" swAng="-5221934"/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Curved Left Arrow 15"/>
          <p:cNvSpPr/>
          <p:nvPr/>
        </p:nvSpPr>
        <p:spPr>
          <a:xfrm>
            <a:off x="7696080" y="2590920"/>
            <a:ext cx="914400" cy="2133360"/>
          </a:xfrm>
          <a:custGeom>
            <a:avLst/>
            <a:gdLst>
              <a:gd name="textAreaLeft" fmla="*/ 122400 w 914400"/>
              <a:gd name="textAreaRight" fmla="*/ 792000 w 914400"/>
              <a:gd name="textAreaTop" fmla="*/ 447480 h 2133360"/>
              <a:gd name="textAreaBottom" fmla="*/ 157140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3503756"/>
                <a:lnTo>
                  <a:pt x="5400" y="21312"/>
                </a:lnTo>
                <a:lnTo>
                  <a:pt x="0" y="19286"/>
                </a:lnTo>
                <a:lnTo>
                  <a:pt x="5400" y="16683"/>
                </a:lnTo>
                <a:lnTo>
                  <a:pt x="5400" y="17840"/>
                </a:lnTo>
                <a:arcTo wR="21600" hR="9064" stAng="3503756" swAng="-3318194"/>
                <a:lnTo>
                  <a:pt x="21423" y="10222"/>
                </a:lnTo>
                <a:arcTo wR="21600" hR="9064" stAng="-185562" swAng="-5214438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-185562"/>
                <a:lnTo>
                  <a:pt x="21423" y="10222"/>
                </a:lnTo>
                <a:arcTo wR="21600" hR="9064" stAng="-185562" swAng="-5214438"/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5486400" y="3429000"/>
            <a:ext cx="2057400" cy="119124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ksi secara UTUH semua suku-suku bangsa di wilayah Nu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1676520" y="3581280"/>
            <a:ext cx="25146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nyatuan secara UTUH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04920" y="4343400"/>
            <a:ext cx="25146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krar SUMPAH PEMU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895480" y="4800600"/>
            <a:ext cx="25146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ncak Kemerdekaan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4800600" y="5486400"/>
            <a:ext cx="2057400" cy="36828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nyataan DU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152280" y="6019920"/>
            <a:ext cx="3505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DONESIA ADALAH SATU / UT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08" name="Straight Arrow Connector 23"/>
          <p:cNvCxnSpPr/>
          <p:nvPr/>
        </p:nvCxnSpPr>
        <p:spPr>
          <a:xfrm flipH="1" flipV="1">
            <a:off x="4419360" y="3809160"/>
            <a:ext cx="838800" cy="2520"/>
          </a:xfrm>
          <a:prstGeom prst="straightConnector1">
            <a:avLst/>
          </a:prstGeom>
          <a:ln w="28440">
            <a:solidFill>
              <a:srgbClr val="9faebd"/>
            </a:solidFill>
            <a:miter/>
            <a:tailEnd len="med" type="arrow" w="med"/>
          </a:ln>
        </p:spPr>
      </p:cxnSp>
      <p:cxnSp>
        <p:nvCxnSpPr>
          <p:cNvPr id="209" name="Straight Arrow Connector 26"/>
          <p:cNvCxnSpPr/>
          <p:nvPr/>
        </p:nvCxnSpPr>
        <p:spPr>
          <a:xfrm flipH="1">
            <a:off x="2131200" y="4039920"/>
            <a:ext cx="3960" cy="229320"/>
          </a:xfrm>
          <a:prstGeom prst="straightConnector1">
            <a:avLst/>
          </a:prstGeom>
          <a:ln w="28440">
            <a:solidFill>
              <a:srgbClr val="9faebd"/>
            </a:solidFill>
            <a:miter/>
            <a:tailEnd len="med" type="arrow" w="med"/>
          </a:ln>
        </p:spPr>
      </p:cxnSp>
      <p:sp>
        <p:nvSpPr>
          <p:cNvPr id="210" name="Bent Arrow 32"/>
          <p:cNvSpPr/>
          <p:nvPr/>
        </p:nvSpPr>
        <p:spPr>
          <a:xfrm rot="5400000">
            <a:off x="2816280" y="4498920"/>
            <a:ext cx="388800" cy="230400"/>
          </a:xfrm>
          <a:custGeom>
            <a:avLst/>
            <a:gdLst/>
            <a:ahLst/>
            <a:rect l="l" t="t" r="r" b="b"/>
            <a:pathLst>
              <a:path w="388938" h="230188">
                <a:moveTo>
                  <a:pt x="0" y="230188"/>
                </a:moveTo>
                <a:lnTo>
                  <a:pt x="0" y="129481"/>
                </a:lnTo>
                <a:lnTo>
                  <a:pt x="0" y="129481"/>
                </a:lnTo>
                <a:arcTo wR="100707" hR="100707" stAng="10800000" swAng="5400000"/>
                <a:lnTo>
                  <a:pt x="331391" y="28774"/>
                </a:lnTo>
                <a:lnTo>
                  <a:pt x="331391" y="0"/>
                </a:lnTo>
                <a:lnTo>
                  <a:pt x="388938" y="57547"/>
                </a:lnTo>
                <a:lnTo>
                  <a:pt x="331391" y="115094"/>
                </a:lnTo>
                <a:lnTo>
                  <a:pt x="331391" y="86321"/>
                </a:lnTo>
                <a:lnTo>
                  <a:pt x="100707" y="86321"/>
                </a:lnTo>
                <a:lnTo>
                  <a:pt x="100707" y="86321"/>
                </a:lnTo>
                <a:arcTo wR="43160" hR="43160" stAng="-5400000" swAng="-5400000"/>
                <a:lnTo>
                  <a:pt x="57547" y="230188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Bent Arrow 33"/>
          <p:cNvSpPr/>
          <p:nvPr/>
        </p:nvSpPr>
        <p:spPr>
          <a:xfrm rot="5400000">
            <a:off x="5406480" y="5108400"/>
            <a:ext cx="388800" cy="230040"/>
          </a:xfrm>
          <a:custGeom>
            <a:avLst/>
            <a:gdLst/>
            <a:ahLst/>
            <a:rect l="l" t="t" r="r" b="b"/>
            <a:pathLst>
              <a:path w="388938" h="230188">
                <a:moveTo>
                  <a:pt x="0" y="230188"/>
                </a:moveTo>
                <a:lnTo>
                  <a:pt x="0" y="129481"/>
                </a:lnTo>
                <a:lnTo>
                  <a:pt x="0" y="129481"/>
                </a:lnTo>
                <a:arcTo wR="100707" hR="100707" stAng="10800000" swAng="5400000"/>
                <a:lnTo>
                  <a:pt x="331391" y="28774"/>
                </a:lnTo>
                <a:lnTo>
                  <a:pt x="331391" y="0"/>
                </a:lnTo>
                <a:lnTo>
                  <a:pt x="388938" y="57547"/>
                </a:lnTo>
                <a:lnTo>
                  <a:pt x="331391" y="115094"/>
                </a:lnTo>
                <a:lnTo>
                  <a:pt x="331391" y="86321"/>
                </a:lnTo>
                <a:lnTo>
                  <a:pt x="100707" y="86321"/>
                </a:lnTo>
                <a:lnTo>
                  <a:pt x="100707" y="86321"/>
                </a:lnTo>
                <a:arcTo wR="43160" hR="43160" stAng="-5400000" swAng="-5400000"/>
                <a:lnTo>
                  <a:pt x="57547" y="230188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778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Bent Arrow 34"/>
          <p:cNvSpPr/>
          <p:nvPr/>
        </p:nvSpPr>
        <p:spPr>
          <a:xfrm rot="10800000">
            <a:off x="3886200" y="6019920"/>
            <a:ext cx="2362320" cy="23328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2362200" h="233363">
                <a:moveTo>
                  <a:pt x="0" y="233363"/>
                </a:moveTo>
                <a:lnTo>
                  <a:pt x="0" y="131267"/>
                </a:lnTo>
                <a:cubicBezTo>
                  <a:pt x="0" y="74880"/>
                  <a:pt x="45709" y="29171"/>
                  <a:pt x="102095" y="29171"/>
                </a:cubicBezTo>
                <a:lnTo>
                  <a:pt x="2303859" y="29170"/>
                </a:lnTo>
                <a:lnTo>
                  <a:pt x="2303859" y="0"/>
                </a:lnTo>
                <a:lnTo>
                  <a:pt x="2362200" y="58341"/>
                </a:lnTo>
                <a:lnTo>
                  <a:pt x="2303859" y="116682"/>
                </a:lnTo>
                <a:lnTo>
                  <a:pt x="2303859" y="87511"/>
                </a:lnTo>
                <a:lnTo>
                  <a:pt x="102096" y="87511"/>
                </a:lnTo>
                <a:lnTo>
                  <a:pt x="102095" y="87511"/>
                </a:lnTo>
                <a:cubicBezTo>
                  <a:pt x="77930" y="87511"/>
                  <a:pt x="58340" y="107101"/>
                  <a:pt x="58340" y="131266"/>
                </a:cubicBezTo>
                <a:lnTo>
                  <a:pt x="58341" y="233363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55818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030a0"/>
                </a:solidFill>
                <a:latin typeface="Verdana"/>
              </a:rPr>
              <a:t>Integrasi nasio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219320" y="1676520"/>
            <a:ext cx="20574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si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6019920" y="1600200"/>
            <a:ext cx="1752480" cy="91692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merlukan PEREKAT (unsur pemersat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276720" y="3048120"/>
            <a:ext cx="20574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ntitas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57200" y="3809880"/>
            <a:ext cx="11430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ncas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1447920" y="4572000"/>
            <a:ext cx="99036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UD’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209680" y="5562720"/>
            <a:ext cx="190512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hasa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6172200" y="3962520"/>
            <a:ext cx="182880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uda Pancas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4952880" y="4876920"/>
            <a:ext cx="2362320" cy="368280"/>
          </a:xfrm>
          <a:prstGeom prst="rect">
            <a:avLst/>
          </a:prstGeom>
          <a:noFill/>
          <a:ln w="381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ng Saka Merah Puti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2" name="Straight Arrow Connector 13"/>
          <p:cNvCxnSpPr/>
          <p:nvPr/>
        </p:nvCxnSpPr>
        <p:spPr>
          <a:xfrm>
            <a:off x="3580920" y="1905120"/>
            <a:ext cx="2210760" cy="216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3" name="Straight Arrow Connector 18"/>
          <p:cNvCxnSpPr/>
          <p:nvPr/>
        </p:nvCxnSpPr>
        <p:spPr>
          <a:xfrm flipH="1">
            <a:off x="5333400" y="2361960"/>
            <a:ext cx="610200" cy="61020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4" name="Straight Arrow Connector 20"/>
          <p:cNvCxnSpPr/>
          <p:nvPr/>
        </p:nvCxnSpPr>
        <p:spPr>
          <a:xfrm flipH="1">
            <a:off x="1675800" y="3199320"/>
            <a:ext cx="1524600" cy="68652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5" name="Straight Arrow Connector 22"/>
          <p:cNvCxnSpPr/>
          <p:nvPr/>
        </p:nvCxnSpPr>
        <p:spPr>
          <a:xfrm flipH="1">
            <a:off x="2514240" y="3504960"/>
            <a:ext cx="915120" cy="106740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6" name="Straight Arrow Connector 24"/>
          <p:cNvCxnSpPr/>
          <p:nvPr/>
        </p:nvCxnSpPr>
        <p:spPr>
          <a:xfrm flipH="1">
            <a:off x="3886200" y="3580920"/>
            <a:ext cx="76680" cy="175356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7" name="Straight Arrow Connector 27"/>
          <p:cNvCxnSpPr/>
          <p:nvPr/>
        </p:nvCxnSpPr>
        <p:spPr>
          <a:xfrm>
            <a:off x="4799520" y="3505320"/>
            <a:ext cx="610200" cy="121968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  <p:cxnSp>
        <p:nvCxnSpPr>
          <p:cNvPr id="228" name="Straight Arrow Connector 30"/>
          <p:cNvCxnSpPr/>
          <p:nvPr/>
        </p:nvCxnSpPr>
        <p:spPr>
          <a:xfrm>
            <a:off x="5486400" y="3276360"/>
            <a:ext cx="915120" cy="533880"/>
          </a:xfrm>
          <a:prstGeom prst="straightConnector1">
            <a:avLst/>
          </a:prstGeom>
          <a:ln w="38160">
            <a:solidFill>
              <a:srgbClr val="a3b2c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31852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Verdana"/>
              </a:rPr>
              <a:t>Identitas Nasional sebagai PEREK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762120" y="1770120"/>
            <a:ext cx="220968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kuatan Integrasi SOS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5410080" y="1676520"/>
            <a:ext cx="221004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kuatan Integrasi KEBUDAY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2" name="Straight Arrow Connector 6"/>
          <p:cNvCxnSpPr/>
          <p:nvPr/>
        </p:nvCxnSpPr>
        <p:spPr>
          <a:xfrm flipH="1">
            <a:off x="2284200" y="988920"/>
            <a:ext cx="2160" cy="5356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3" name="Straight Arrow Connector 9"/>
          <p:cNvCxnSpPr/>
          <p:nvPr/>
        </p:nvCxnSpPr>
        <p:spPr>
          <a:xfrm flipH="1">
            <a:off x="6399000" y="991800"/>
            <a:ext cx="3600" cy="6102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34" name="TextBox 10"/>
          <p:cNvSpPr/>
          <p:nvPr/>
        </p:nvSpPr>
        <p:spPr>
          <a:xfrm>
            <a:off x="2819520" y="2666880"/>
            <a:ext cx="28191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HINEKA TUNGGAL IKA (semboyan nega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80880" y="3809880"/>
            <a:ext cx="2590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ing-masing individu MANUSIA INDONES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12"/>
          <p:cNvSpPr/>
          <p:nvPr/>
        </p:nvSpPr>
        <p:spPr>
          <a:xfrm>
            <a:off x="4495680" y="3581280"/>
            <a:ext cx="2719440" cy="838440"/>
          </a:xfrm>
          <a:prstGeom prst="ellipse">
            <a:avLst/>
          </a:prstGeom>
          <a:solidFill>
            <a:srgbClr val="a3b2c1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AD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172200" y="4952880"/>
            <a:ext cx="205740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352680" y="6095880"/>
            <a:ext cx="259092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kasi Kebuday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609480" y="5410080"/>
            <a:ext cx="2590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a KEBANGSAAN (pengabdi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Box 16"/>
          <p:cNvSpPr/>
          <p:nvPr/>
        </p:nvSpPr>
        <p:spPr>
          <a:xfrm>
            <a:off x="6324480" y="5791320"/>
            <a:ext cx="259092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ktifitas terhadap globalis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eft-Right-Up Arrow 17"/>
          <p:cNvSpPr/>
          <p:nvPr/>
        </p:nvSpPr>
        <p:spPr>
          <a:xfrm rot="10800000">
            <a:off x="3352680" y="1828440"/>
            <a:ext cx="1828800" cy="609480"/>
          </a:xfrm>
          <a:custGeom>
            <a:avLst/>
            <a:gdLst>
              <a:gd name="textAreaLeft" fmla="*/ 75960 w 1828800"/>
              <a:gd name="textAreaRight" fmla="*/ 1752840 w 1828800"/>
              <a:gd name="textAreaTop" fmla="*/ 380880 h 609480"/>
              <a:gd name="textAreaBottom" fmla="*/ 533520 h 609480"/>
            </a:gdLst>
            <a:ahLst/>
            <a:rect l="textAreaLeft" t="textAreaTop" r="textAreaRight" b="textAreaBottom"/>
            <a:pathLst>
              <a:path w="1828800" h="609600">
                <a:moveTo>
                  <a:pt x="0" y="457200"/>
                </a:moveTo>
                <a:lnTo>
                  <a:pt x="152400" y="304800"/>
                </a:lnTo>
                <a:lnTo>
                  <a:pt x="152400" y="381000"/>
                </a:lnTo>
                <a:lnTo>
                  <a:pt x="838200" y="381000"/>
                </a:lnTo>
                <a:lnTo>
                  <a:pt x="838200" y="152400"/>
                </a:lnTo>
                <a:lnTo>
                  <a:pt x="762000" y="152400"/>
                </a:lnTo>
                <a:lnTo>
                  <a:pt x="914400" y="0"/>
                </a:lnTo>
                <a:lnTo>
                  <a:pt x="1066800" y="152400"/>
                </a:lnTo>
                <a:lnTo>
                  <a:pt x="990600" y="152400"/>
                </a:lnTo>
                <a:lnTo>
                  <a:pt x="990600" y="381000"/>
                </a:lnTo>
                <a:lnTo>
                  <a:pt x="1676400" y="381000"/>
                </a:lnTo>
                <a:lnTo>
                  <a:pt x="1676400" y="304800"/>
                </a:lnTo>
                <a:lnTo>
                  <a:pt x="1828800" y="457200"/>
                </a:lnTo>
                <a:lnTo>
                  <a:pt x="1676400" y="609600"/>
                </a:lnTo>
                <a:lnTo>
                  <a:pt x="1676400" y="533400"/>
                </a:lnTo>
                <a:lnTo>
                  <a:pt x="152400" y="533400"/>
                </a:lnTo>
                <a:lnTo>
                  <a:pt x="152400" y="609600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Bent-Up Arrow 18"/>
          <p:cNvSpPr/>
          <p:nvPr/>
        </p:nvSpPr>
        <p:spPr>
          <a:xfrm rot="10800000">
            <a:off x="1541160" y="2858760"/>
            <a:ext cx="850680" cy="731880"/>
          </a:xfrm>
          <a:custGeom>
            <a:avLst/>
            <a:gdLst>
              <a:gd name="textAreaLeft" fmla="*/ 0 w 850680"/>
              <a:gd name="textAreaRight" fmla="*/ 759240 w 850680"/>
              <a:gd name="textAreaTop" fmla="*/ 549000 h 731880"/>
              <a:gd name="textAreaBottom" fmla="*/ 732240 h 731880"/>
            </a:gdLst>
            <a:ahLst/>
            <a:rect l="textAreaLeft" t="textAreaTop" r="textAreaRight" b="textAreaBottom"/>
            <a:pathLst>
              <a:path w="850900" h="731837">
                <a:moveTo>
                  <a:pt x="0" y="548878"/>
                </a:moveTo>
                <a:lnTo>
                  <a:pt x="576461" y="548878"/>
                </a:lnTo>
                <a:lnTo>
                  <a:pt x="576461" y="182959"/>
                </a:lnTo>
                <a:lnTo>
                  <a:pt x="484982" y="182959"/>
                </a:lnTo>
                <a:lnTo>
                  <a:pt x="667941" y="0"/>
                </a:lnTo>
                <a:lnTo>
                  <a:pt x="850900" y="182959"/>
                </a:lnTo>
                <a:lnTo>
                  <a:pt x="759420" y="182959"/>
                </a:lnTo>
                <a:lnTo>
                  <a:pt x="759420" y="731837"/>
                </a:lnTo>
                <a:lnTo>
                  <a:pt x="0" y="731837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ight Arrow 19"/>
          <p:cNvSpPr/>
          <p:nvPr/>
        </p:nvSpPr>
        <p:spPr>
          <a:xfrm>
            <a:off x="3124080" y="3886200"/>
            <a:ext cx="11430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a3b2c1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Bent-Up Arrow 21"/>
          <p:cNvSpPr/>
          <p:nvPr/>
        </p:nvSpPr>
        <p:spPr>
          <a:xfrm rot="5400000">
            <a:off x="5556960" y="4696560"/>
            <a:ext cx="654120" cy="271440"/>
          </a:xfrm>
          <a:custGeom>
            <a:avLst/>
            <a:gdLst>
              <a:gd name="textAreaLeft" fmla="*/ 0 w 654120"/>
              <a:gd name="textAreaRight" fmla="*/ 620280 w 654120"/>
              <a:gd name="textAreaTop" fmla="*/ 203760 h 271440"/>
              <a:gd name="textAreaBottom" fmla="*/ 271800 h 271440"/>
            </a:gdLst>
            <a:ahLst/>
            <a:rect l="textAreaLeft" t="textAreaTop" r="textAreaRight" b="textAreaBottom"/>
            <a:pathLst>
              <a:path w="654050" h="271462">
                <a:moveTo>
                  <a:pt x="0" y="203597"/>
                </a:moveTo>
                <a:lnTo>
                  <a:pt x="552252" y="203597"/>
                </a:lnTo>
                <a:lnTo>
                  <a:pt x="552252" y="67866"/>
                </a:lnTo>
                <a:lnTo>
                  <a:pt x="518319" y="67866"/>
                </a:lnTo>
                <a:lnTo>
                  <a:pt x="586185" y="0"/>
                </a:lnTo>
                <a:lnTo>
                  <a:pt x="654050" y="67866"/>
                </a:lnTo>
                <a:lnTo>
                  <a:pt x="620117" y="67866"/>
                </a:lnTo>
                <a:lnTo>
                  <a:pt x="620117" y="271462"/>
                </a:lnTo>
                <a:lnTo>
                  <a:pt x="0" y="271462"/>
                </a:lnTo>
                <a:close/>
              </a:path>
            </a:pathLst>
          </a:custGeom>
          <a:solidFill>
            <a:srgbClr val="a3b2c1"/>
          </a:solidFill>
          <a:ln w="255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5" name="Straight Arrow Connector 23"/>
          <p:cNvCxnSpPr/>
          <p:nvPr/>
        </p:nvCxnSpPr>
        <p:spPr>
          <a:xfrm flipH="1">
            <a:off x="3504600" y="5333040"/>
            <a:ext cx="2515320" cy="2293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46" name="Straight Arrow Connector 25"/>
          <p:cNvCxnSpPr/>
          <p:nvPr/>
        </p:nvCxnSpPr>
        <p:spPr>
          <a:xfrm flipH="1">
            <a:off x="5714640" y="5486400"/>
            <a:ext cx="457920" cy="457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47" name="Straight Arrow Connector 27"/>
          <p:cNvCxnSpPr/>
          <p:nvPr/>
        </p:nvCxnSpPr>
        <p:spPr>
          <a:xfrm flipH="1">
            <a:off x="7617600" y="5411880"/>
            <a:ext cx="3960" cy="3052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880" y="2895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8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WAWASAN NUSANTA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89080" y="316080"/>
            <a:ext cx="838656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WASAN NU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WAWASAN NASIONAL (SECARA UNIVERS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KEBENARAN YANG HAKIKI (DATANG DARI TUHAN YM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NUSIA X MANUSIA LA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BEDAAN-PERBED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NDAP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KEHIDU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KEPERCAY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HUBU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NEKA RAG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REKAT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UNTUK KEUTUH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NTUK JATI DIRI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UNTUK KELANGSUNGAN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ANGSA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PEMERINTAHAN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ERLU KONSE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AWASAN NASIONAL (PEREKA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3"/>
          <p:cNvSpPr/>
          <p:nvPr/>
        </p:nvSpPr>
        <p:spPr>
          <a:xfrm>
            <a:off x="1523880" y="32004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Line 4"/>
          <p:cNvSpPr/>
          <p:nvPr/>
        </p:nvSpPr>
        <p:spPr>
          <a:xfrm>
            <a:off x="2438280" y="46483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Oval 5"/>
          <p:cNvSpPr/>
          <p:nvPr/>
        </p:nvSpPr>
        <p:spPr>
          <a:xfrm>
            <a:off x="1828800" y="228600"/>
            <a:ext cx="380988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517680" y="264960"/>
            <a:ext cx="816912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DUP :  - PERKEMBANGAN LINKUNGAN STRATEG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ISI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A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T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GG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JUANGAN, 3 FAKTOR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BUMI / RUANG DIMANA BANGSA ITU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JIWA, TEKAD &amp; SEMANGAT MANUSIA / RAKY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LINGKUNGAN SEKITAR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WASAN NA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 PANDANG SU BANGSA YANG TELAH MENEGARA TT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I DAN LINGKUNGAN DALAM EKSISTENSINYA YANG SERB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HUBUNG SERTA PEMBANGUNAN DI DALAM BERNEGA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TENGAH-TENGAH LINGKUNGAN, BAIK NASIONAL (LOKAL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INSIONAL), REGIONAL MAUPUN GLOB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57200" y="304920"/>
            <a:ext cx="1295280" cy="1143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1752480" y="990720"/>
            <a:ext cx="609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2666880" y="1219320"/>
            <a:ext cx="0" cy="1752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294120" y="316080"/>
            <a:ext cx="850464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WASAN NA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BENTUK &amp; DIJIWAI OLEH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HAM KEKUA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POLI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HAN-PAHAM KEKUASAAN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ASIONAL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AH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AN TE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 OPERASIONAL DAPAT DILAKUKAN 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DUKU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WUJUDKAN &amp; DIPERTANGGUNGJAWAB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PAHAM MACHIAVELLI (ABAD XVI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AVELL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KAR ILMU POLITIK REP. FLORENC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IA U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AKAN BERTAHA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DALAM MEREBUT &amp; MEMPERTAHANKAN KEKUASAAN SEG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 DIHALAL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UNTUK MENJAGA KEKUASAAN RESIM. ADU DOMBA S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YANG KUAT YANG MENANG &amp; DAPAT BERTAH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2895480" y="2819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905120" y="4572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136440" y="264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33280" y="417600"/>
            <a:ext cx="843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PAHAM NAPOLEON BONAPAR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KOH REVOLUSIONER TENTANG CARA PANDA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OH PELAKU PAHAM MACHIAVEL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TAN LOGISTIK &amp; EKONO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DUKUNG OLEH IPTEK &amp;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ENTUK KEKUATAN HAN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ENDUDUKI &amp; MENJAJA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PAHAM CLAUSEWIT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M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) PAHAM FEURBACK &amp; HEG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EMBANGAN :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APITAL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UN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KSPANSI BERDASARKAN     EM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4343400" y="533412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6805800" cy="84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b0f0"/>
                </a:solidFill>
                <a:latin typeface="Verdana"/>
              </a:rPr>
              <a:t>Implikasi WN dengan hukum yang berlak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57200" y="1665360"/>
            <a:ext cx="49068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DUDUK : WN &amp; org Asing dlm 1 wilay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533520" y="2673360"/>
            <a:ext cx="39672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kum yang berlaku di negara 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685800" y="4495680"/>
            <a:ext cx="3962520" cy="6426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dang agraria : hak milik, hak guna bangunan dan hak guna usah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2" name="Straight Arrow Connector 7"/>
          <p:cNvCxnSpPr/>
          <p:nvPr/>
        </p:nvCxnSpPr>
        <p:spPr>
          <a:xfrm flipH="1">
            <a:off x="3121920" y="2108160"/>
            <a:ext cx="396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03" name="TextBox 8"/>
          <p:cNvSpPr/>
          <p:nvPr/>
        </p:nvSpPr>
        <p:spPr>
          <a:xfrm>
            <a:off x="5181480" y="3733920"/>
            <a:ext cx="17668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5181480" y="5638680"/>
            <a:ext cx="1676520" cy="368280"/>
          </a:xfrm>
          <a:prstGeom prst="rect">
            <a:avLst/>
          </a:prstGeom>
          <a:solidFill>
            <a:srgbClr val="e46c0a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ng 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8001000" y="3733920"/>
            <a:ext cx="6094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7696080" y="5638680"/>
            <a:ext cx="1219320" cy="36828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Straight Arrow Connector 13"/>
          <p:cNvCxnSpPr/>
          <p:nvPr/>
        </p:nvCxnSpPr>
        <p:spPr>
          <a:xfrm flipV="1">
            <a:off x="4266720" y="3962160"/>
            <a:ext cx="686520" cy="381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8" name="Straight Arrow Connector 15"/>
          <p:cNvCxnSpPr/>
          <p:nvPr/>
        </p:nvCxnSpPr>
        <p:spPr>
          <a:xfrm>
            <a:off x="4266720" y="5334120"/>
            <a:ext cx="686520" cy="457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9" name="Straight Arrow Connector 17"/>
          <p:cNvCxnSpPr/>
          <p:nvPr/>
        </p:nvCxnSpPr>
        <p:spPr>
          <a:xfrm>
            <a:off x="7009920" y="3886200"/>
            <a:ext cx="83916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0" name="Straight Arrow Connector 19"/>
          <p:cNvCxnSpPr/>
          <p:nvPr/>
        </p:nvCxnSpPr>
        <p:spPr>
          <a:xfrm>
            <a:off x="7010280" y="5791320"/>
            <a:ext cx="534240" cy="21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1" name="Straight Arrow Connector 21"/>
          <p:cNvCxnSpPr/>
          <p:nvPr/>
        </p:nvCxnSpPr>
        <p:spPr>
          <a:xfrm flipH="1">
            <a:off x="912600" y="3141720"/>
            <a:ext cx="3600" cy="1296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58040" y="316080"/>
            <a:ext cx="8910000" cy="59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HAM LENIN (ABAD XIX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KASI PAHAM CLAUSEWIT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NG : KELANJUTAN POLITIK DENGAN CARA KEKERAS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 ZHEDONG : …………… CARA PERTUMPAHAN DAR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NG / PERTUMPAHAN DARAH / REVOLUSI DI MANAPU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 30 S/PK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ODUK KOMODITI EKSPOR RRC (196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ORI GEOPOLIT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: BUM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TIK  : KEKUATAN YANG DIDASARKAN PADA PERTIMBANGAN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TIMBANGAN DALAM MENENTUKAN ALTERNATI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IJAKSANAAN DASAR NASIONALUNTUK MEWUJUD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NAS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FREDERICH RATZEL. (ABAD 1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MUSAN : ILMU BUMI POLITIK SECARA ILMIAH &amp; UNIVERS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8520" y="239760"/>
            <a:ext cx="7783920" cy="62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SIR H. MACKIN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BENUA ( = KEKUATAN DI DARAT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ANG SIAPA DAPAT MENGUASAU “DAERAH JANTUNG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URASIA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NGUASAI “PULAU DUNIA”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SIR W. RALEIGH &amp; ALFRED T. MA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BAHARI ( = KEKUATAN BAHARI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ANG SIAPA MENGUASAI LAUT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DAGANG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AYAAN DUNI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UN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W. MITCHEL, A. SAVERSKY, g. DOUHET &amp; JOHN 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 DAERAH BATA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WASAN KOMBIN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NICOLAS SPYK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BENTUK DAN DIJIW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HAM KEKUASAAN BANGSA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POLITIK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291240" y="254160"/>
            <a:ext cx="8625240" cy="64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HAM KEKUASAAN BANGSA INDONES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 INDONESIA CINTA DAMAI, TETAPI LEBIH CINTA KEMERDEKAAN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 KEKUASA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ORI ADU KEKU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EOPOLITIK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T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NG &amp; DAMAI YANG SESUAI KONDISI-KONDI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SA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TELASI GEOGRAF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TANG NEGARA / STAT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KEPULA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RCHIPELAGO CONCEP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A DENGAN NEGARA BARA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ANAN LA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SAR PEMIKIRAN PEMBINAAN DAN PENGEMBANGAN WA. NAS.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AR BELAKANG FILOSOFI (WASANTA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MIKIRAN BERDASARKAN FALSAFAH PANCASILA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ASIONAL/WAWASAN KEBANGSAAN MENGHENDAK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UTUHAN DAN KEBERSAMAAN AKAN TETAPI MASIH TETAP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HORMATI &amp; MEMBERIKAN KEBEBASAN DALAM MENGAN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MENGAMALKAN AGAMANYA MASING-M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4876920" y="1143000"/>
            <a:ext cx="38088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4191120" y="1143000"/>
            <a:ext cx="533160" cy="533520"/>
          </a:xfrm>
          <a:custGeom>
            <a:avLst/>
            <a:gdLst>
              <a:gd name="textAreaLeft" fmla="*/ 0 w 533160"/>
              <a:gd name="textAreaRight" fmla="*/ 533520 w 5331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2286000" y="228600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1676520" y="34290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289080" y="264960"/>
            <a:ext cx="8550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NASIONAL YG DIANUT DAN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KAN BANGSA INDONESIA MEMBERIKAN KEBEBASAN DL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EKSPRESIKAN HAM-NYA, NAMUN DMKHRS MENGING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A &amp; MENGHORMATI HAK ORANG LAIN, SHG MENIMBULK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KAP TOLERANSI &amp; KERJASAMA AGAR TDK TJD BENTU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II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YG DIANUT &amp;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S IND MENGUTAMAKAN KEUTUHAN BGS &amp; NEGTETAPI H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PERHATIKAN, MENGHORMATI &amp; MENAMPUNGKEPENTING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ONGAN SK BGS &amp; PEROR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IV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YG DIANUT &amp;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S IND. MEMERLUKAN MUSYAWARAH UNTUK MENCAPA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FAKAT TETAPI TETAP MENGHARGAI &amp; MENGHORMA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BEDAAN PENDAP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A V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YG DIANUT &amp; DIKEMB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S IND. MEMBERIKAN KEBEBASAN UNTUK MENCAP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EJAHTERAAN ORANG PER ORANG SE-TINGGI-TINGGINY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AN TETAPI HARUS MEMPERTAHANKAN KEADILAN BAG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ERAH PENGHASIL, DAERAH LAIN, MAUPUN ORANG P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 SEHINGGA TERCAPAI KEMAKMURAN YANG MEMENUH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UTUHAN MINIM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12760" y="264960"/>
            <a:ext cx="8397720" cy="59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. NASIONAL MERUPAKAN PANC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 SEBAGAI FALSAFAH HIDUP BANGSA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A YANG DIKEHENDAKI 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CIPTANYA PERSATUAN &amp; KESATUAN DGN TDK MENGHILANGK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I, SIFAT DAN KARAKTER DARI KEBINEKAAN UNSUR-UNSUR PBT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 . (SK BGS ETNIS &amp; GOL SERTA DAERAH TERSEB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MIKIRAN BERDASARKAN ASPEK KEWILAYAHAN NUSANTARA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KEWILAYAHAN NUSANTAR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SPEK GEOGRAF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GEOGRAFIS JADI PENTING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FI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LAYAH YANG TERSE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BENTUK SECARA ALAM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DI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MODAL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MBENTUKAN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ANG/WADAH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UANG GRK HDP &amp; KHDPN B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AMBILAN KEPUTUSAN / KEBIJ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KAP &amp; TATA LAKU NEGARA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ARU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BALIK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AutoShape 3"/>
          <p:cNvSpPr/>
          <p:nvPr/>
        </p:nvSpPr>
        <p:spPr>
          <a:xfrm rot="5467200">
            <a:off x="647280" y="914400"/>
            <a:ext cx="533520" cy="457200"/>
          </a:xfrm>
          <a:custGeom>
            <a:avLst/>
            <a:gdLst>
              <a:gd name="textAreaLeft" fmla="*/ 0 w 533520"/>
              <a:gd name="textAreaRight" fmla="*/ 457560 w 533520"/>
              <a:gd name="textAreaTop" fmla="*/ 30492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3124080" y="6019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914400" y="4419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67560" y="228600"/>
            <a:ext cx="815436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AK GEOGRAFIS INDONESIA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SISI SILANG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ATEG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AKTERISTIK B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AK BE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/ 8 / 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ITORIALE ZEE EN MARITIEME KRINGEN ORDONANTIE TH ‘3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BAR WILAYAH IND. 3 MIL DIUKUR DARI GARIS TERENDAH AIR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ING-MASING PANTA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DAK MENJAMIN KE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KLARASI DJUANDA - 13 DESEMBER 19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ALA PEAIRAN YANG MENGHUBUNGKAN PULAU-PUL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INDONESIA TERMASUK DALAM NEGER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NTUAN BATAS LAUTAN TERITORIAL 12 MIL DIUKUR D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IS YANG MENGHUBUNGKAN TITIK-TITIK UJUNG TERLU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A PULAU-PULAU DI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 YANG TERJADI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INDONESI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GARA KEPULA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UAS WILAYAH BERUBAH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2 JUTA KM²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762120" y="6094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365040" y="2017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41360" y="1905120"/>
            <a:ext cx="862956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3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12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DA TH 1982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CLOS ‘8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ONVENSI PBB TTG HKM LAU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. DIAKUI &amp; DICANTUM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ATIFIKASI MELALUI UU NO. 17/85 TGL. 31/12/85 &amp; 16/11/93, DIRATIFIK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MBALI OLEH GO NEGA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UKUM POSIT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TINGNYA UNCLOS ‘82 ??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M UPAYA PEMANFAATAN LAUT BAGI KEPENTINGAN KESEJAHTE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TAMBAHNYA ZE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 KONTINEN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AIRAN LU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ERMASUK KEKAYAAN ALAM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SARANA TRANSPORTASI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SARANA WISAT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GKAT KERAWANAN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2" descr="peta_indonesia"/>
          <p:cNvPicPr/>
          <p:nvPr/>
        </p:nvPicPr>
        <p:blipFill>
          <a:blip r:embed="rId1"/>
          <a:stretch/>
        </p:blipFill>
        <p:spPr>
          <a:xfrm>
            <a:off x="395280" y="0"/>
            <a:ext cx="82090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90880" y="417600"/>
            <a:ext cx="880344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POLITIK INDONESIA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GRAFI IND. SCR KONTEKSTUAL MENGANDUNG KEUNGGUL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 KELEMAHAN, SHG DLM MRMSK KEBIJAKAN POLITIK HAR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ERMATI SECARA UTUH MENY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IAP PRMS KEBIJAKAN NASIONAL HARUS MEMILIKI WAWAS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WILAYAHAN / RUANG HDP BGS YG DIATUR POLITIK KETATANEGA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MIKIRAN BERDASARKAN ASPEK SOSIAL BUDA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AYA / KEBUDAYAA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KUATAN BU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 BUDI + FANTASI (PERASAAN) + KEHENDA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TA, RASA, KAR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SIAL BUDAY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LAH SATU ASPEK KEHIDUP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KTOR DINAMIK MASYARAK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TK SCR ALAMIAH DARI POLA TINGKAH LA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T BFGS SBG PENGHUBUNG (JALUR SOSI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BEDAAN : CIRI ALAMIAH; RUANG HDP / ASAL US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AMAAN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RELIGI &amp; UPACARA AGAMA; SISTEM MASYARAKA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. PENGETAHUAN; BAHASA; KESERASIAN; SI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A PENCARIAN; SIST. TEKNOLOGI &amp; PERAL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3"/>
          <p:cNvSpPr/>
          <p:nvPr/>
        </p:nvSpPr>
        <p:spPr>
          <a:xfrm>
            <a:off x="1219320" y="46483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0280" y="76320"/>
            <a:ext cx="89773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FAT BUDAY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ISAN YANG MEMAK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KATAN KEDALAM (SECARA BATINIAH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E N S I T I 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NTIMEN KELOMP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JADIKAN PERISAI / PELINDUNG UNTUK MENUT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TIDAK MAMPUAN MENGHADAPI TANTANGAN LING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G DIANGGAP MENGANCAM EKSISTEN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SI KONFLIK &gt;&gt;&gt;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DARAN NASIONAL MASYARAKAT YANG RELAT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IH RENDAH KRN TERBATAS JUMLAH MASY. TERDID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KTOR DINAM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KEHENDAK BERSAT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TETAP MENGAKUI &amp; MENERIMA EKSISTENSI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LAI PERSATUAN &amp; KESATUAN BGS IND. TDK AKAN TERWUJUD SC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KAP &amp; SEMPURNA, HANYA DENGAN SEKALI USAHA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KRAR SUMPAH PEMUDA) ATAU SCR POLITIK (17 AGS ‘45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3"/>
          <p:cNvSpPr/>
          <p:nvPr/>
        </p:nvSpPr>
        <p:spPr>
          <a:xfrm flipH="1" rot="16188000">
            <a:off x="4148280" y="-993600"/>
            <a:ext cx="236880" cy="4725720"/>
          </a:xfrm>
          <a:custGeom>
            <a:avLst/>
            <a:gdLst>
              <a:gd name="textAreaLeft" fmla="*/ 360 w 236880"/>
              <a:gd name="textAreaRight" fmla="*/ 85680 w 236880"/>
              <a:gd name="textAreaTop" fmla="*/ 123120 h 4725720"/>
              <a:gd name="textAreaBottom" fmla="*/ 4602600 h 47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Freeform 4"/>
          <p:cNvSpPr/>
          <p:nvPr/>
        </p:nvSpPr>
        <p:spPr>
          <a:xfrm>
            <a:off x="1346040" y="2286000"/>
            <a:ext cx="1092240" cy="5335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688" h="336">
                <a:moveTo>
                  <a:pt x="688" y="0"/>
                </a:moveTo>
                <a:cubicBezTo>
                  <a:pt x="408" y="44"/>
                  <a:pt x="128" y="88"/>
                  <a:pt x="64" y="144"/>
                </a:cubicBezTo>
                <a:cubicBezTo>
                  <a:pt x="0" y="200"/>
                  <a:pt x="264" y="304"/>
                  <a:pt x="3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Freeform 5"/>
          <p:cNvSpPr/>
          <p:nvPr/>
        </p:nvSpPr>
        <p:spPr>
          <a:xfrm>
            <a:off x="330120" y="2120760"/>
            <a:ext cx="2032200" cy="1536840"/>
          </a:xfrm>
          <a:custGeom>
            <a:avLst/>
            <a:gdLst>
              <a:gd name="textAreaLeft" fmla="*/ 0 w 2032200"/>
              <a:gd name="textAreaRight" fmla="*/ 2032560 w 2032200"/>
              <a:gd name="textAreaTop" fmla="*/ 0 h 1536840"/>
              <a:gd name="textAreaBottom" fmla="*/ 1537200 h 1536840"/>
            </a:gdLst>
            <a:ahLst/>
            <a:rect l="textAreaLeft" t="textAreaTop" r="textAreaRight" b="textAreaBottom"/>
            <a:pathLst>
              <a:path w="1280" h="968">
                <a:moveTo>
                  <a:pt x="1280" y="56"/>
                </a:moveTo>
                <a:cubicBezTo>
                  <a:pt x="768" y="28"/>
                  <a:pt x="256" y="0"/>
                  <a:pt x="128" y="152"/>
                </a:cubicBezTo>
                <a:cubicBezTo>
                  <a:pt x="0" y="304"/>
                  <a:pt x="256" y="636"/>
                  <a:pt x="512" y="9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533520" y="51814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05640" y="279360"/>
            <a:ext cx="867852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A YANG HARUS DILAKUKAN : !!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ENJAGA &amp; MEMELIHARA NILAI PERSATUAN &amp; KESATU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S MENERUS BERKESINAMBUNGAN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JALAN DENGAN DINAMIKA LINGKU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K M’HINDARI POTENSI KONFLI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SES SOSIAL YG AKOMODAT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ING MEMBUKA 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AHAMI EKSISTENSI BUDAYA MASING-M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PAT MENERIMA &amp; MEMBE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ES SOSIAL DALAM KESELURUHAN UPAYA MENJAGA PERSATU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IONAL SANGAT MEMBUTUHKA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MAAN PERSEPS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NTARA MASY. TTG EKSISTEN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TUAN CARA PANDA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AYA YANG BERAG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API MEMILIKI SEMANGAT UNTUK MEMBINA KEHIDUPAN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RA HARMON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MIKIRAN BERDASARKAN ASPEK KESEJARAH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4114800" y="4267080"/>
            <a:ext cx="533520" cy="53352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Verdana"/>
              </a:rPr>
              <a:t>Azas-azas kewarganegara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57200" y="1600200"/>
            <a:ext cx="51814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sip – prinsip umum penentuan warga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380880" y="2514600"/>
            <a:ext cx="3353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as keturunan : ius sanguin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1447920" y="3200400"/>
            <a:ext cx="3429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as tempat kelahiran : ius s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886200" y="3886200"/>
            <a:ext cx="472428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as campuran : ius sanguinis dan ius s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7" name="Straight Arrow Connector 9"/>
          <p:cNvCxnSpPr/>
          <p:nvPr/>
        </p:nvCxnSpPr>
        <p:spPr>
          <a:xfrm flipH="1">
            <a:off x="2970000" y="2058480"/>
            <a:ext cx="3600" cy="3819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8" name="Straight Arrow Connector 11"/>
          <p:cNvCxnSpPr/>
          <p:nvPr/>
        </p:nvCxnSpPr>
        <p:spPr>
          <a:xfrm flipH="1">
            <a:off x="4417200" y="2135160"/>
            <a:ext cx="3960" cy="9151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9" name="Straight Arrow Connector 13"/>
          <p:cNvCxnSpPr/>
          <p:nvPr/>
        </p:nvCxnSpPr>
        <p:spPr>
          <a:xfrm flipH="1">
            <a:off x="5484600" y="2134800"/>
            <a:ext cx="3600" cy="16009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0" name="TextBox 14"/>
          <p:cNvSpPr/>
          <p:nvPr/>
        </p:nvSpPr>
        <p:spPr>
          <a:xfrm>
            <a:off x="228600" y="4952880"/>
            <a:ext cx="57913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alian darah keluarga, kewarganegaraan orang t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Box 15"/>
          <p:cNvSpPr/>
          <p:nvPr/>
        </p:nvSpPr>
        <p:spPr>
          <a:xfrm>
            <a:off x="76320" y="5589720"/>
            <a:ext cx="73753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erah atw tempat dimana dilahirkan : USA, KANADA, AUSTRA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2" name="Straight Arrow Connector 17"/>
          <p:cNvCxnSpPr/>
          <p:nvPr/>
        </p:nvCxnSpPr>
        <p:spPr>
          <a:xfrm flipH="1">
            <a:off x="607320" y="2973240"/>
            <a:ext cx="3960" cy="1829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 flipH="1">
            <a:off x="2970000" y="3735000"/>
            <a:ext cx="3600" cy="1981800"/>
          </a:xfrm>
          <a:prstGeom prst="straightConnector1">
            <a:avLst/>
          </a:prstGeom>
          <a:ln w="28440">
            <a:solidFill>
              <a:srgbClr val="0000ff"/>
            </a:solidFill>
            <a:prstDash val="dashDot"/>
            <a:miter/>
            <a:tailEnd len="med" type="arrow" w="med"/>
          </a:ln>
        </p:spPr>
      </p:cxnSp>
      <p:sp>
        <p:nvSpPr>
          <p:cNvPr id="124" name="TextBox 20"/>
          <p:cNvSpPr/>
          <p:nvPr/>
        </p:nvSpPr>
        <p:spPr>
          <a:xfrm>
            <a:off x="3200400" y="6324480"/>
            <a:ext cx="571500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sip keuntungan bagi negara nya : Pakistan, Ind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5" name="Straight Arrow Connector 22"/>
          <p:cNvCxnSpPr/>
          <p:nvPr/>
        </p:nvCxnSpPr>
        <p:spPr>
          <a:xfrm>
            <a:off x="7924680" y="4343400"/>
            <a:ext cx="76680" cy="18295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16720" y="264960"/>
            <a:ext cx="86724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DAULATAN SRIWIJAY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AN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AJAAN MAJAPAH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WUJUDKAN KESATUAN WILAY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AN FALSAFAH NE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UM AD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 CR PANDA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GAT BER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GAN : BHINEKA TUNGGAL IKA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SUDAH 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HANNA DHARM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GR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TUH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NGAPA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HUN 19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ULAI ADA NUANSA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HIR KONSEP BARU &amp; MODER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UJUDNYA LAHIRNYA PROKLAMASI KEMERDEKAAN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KLAMASI PENEGAKAN NEGARA MERDE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OEDI OETOMO ( 20 MEI 1908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L LAHIRNYA SEMANGAT KEBANGSAAN (KEBANGKITAN NAS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3657600" y="3049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Freeform 4"/>
          <p:cNvSpPr/>
          <p:nvPr/>
        </p:nvSpPr>
        <p:spPr>
          <a:xfrm>
            <a:off x="4952880" y="16765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Freeform 5"/>
          <p:cNvSpPr/>
          <p:nvPr/>
        </p:nvSpPr>
        <p:spPr>
          <a:xfrm>
            <a:off x="6095880" y="2819520"/>
            <a:ext cx="533520" cy="533160"/>
          </a:xfrm>
          <a:custGeom>
            <a:avLst/>
            <a:gdLst>
              <a:gd name="textAreaLeft" fmla="*/ 0 w 533520"/>
              <a:gd name="textAreaRight" fmla="*/ 533880 w 5335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336" h="336">
                <a:moveTo>
                  <a:pt x="0" y="0"/>
                </a:moveTo>
                <a:lnTo>
                  <a:pt x="336" y="96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rc 6"/>
          <p:cNvSpPr/>
          <p:nvPr/>
        </p:nvSpPr>
        <p:spPr>
          <a:xfrm flipH="1">
            <a:off x="1599480" y="4952880"/>
            <a:ext cx="609480" cy="30492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990720" y="9144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69000" y="76320"/>
            <a:ext cx="7872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GAT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AL DR KONSEPSI / CARA PANDANG KEBANGS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IND. YANG DICETUSKAN DALAM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EMPAH PEMUDA (20 OKTOBER 192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U NUSA, SATU BANGSA, SATU BAHA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 RAYA DIKUMANDANG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KLAMASI 17 AGUSTUS 19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SI SEMANGAT KEBANGSAA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PERTAHANKAN PERSATUAN BANGSA IND. D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JAGA KESATUAN WILAYAH NK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. RI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RISAN KOLONIAL HINDIA BL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. PERAIR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 M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MIL. (DEKI. DJUAN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WUJUD WIL YANG UTUH (SATU KESATUAN NK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SI NU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1676520" y="1600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14920" y="341280"/>
            <a:ext cx="84729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EPS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GEMBANGAN WAWASAN MASING-MAS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SANT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KATAN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AWASAN BENUA AD.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L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AWASAN BAHARI AL.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U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WAWASAN DIRGANTARA AU. 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HANKAMNAS ( TERPADU &amp; TERINTEGRASI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MINAR HANKAM I (‘66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WAWASAN NUSANTARA B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ANTARA MRUPAKAN KONSEPSI DALAM MEMANFAAT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STELASI GEOGRAFI IND. DIMANA DIPERLUKAN KESERASI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ARA KE-3 WAWASAN TSB SBG HASIL PENGEJAWANTAH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L DORONGAN (MOTIVASI) &amp; RANGSANGAN DALAM USAH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CAPAI ASPIRASI BANGSA &amp; TUJUAN NEGARA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WASAN BAHARI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UPAKAN SU PANDANGAN, SATU ASPEK FALSAFAH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GSA DIMANA PENGGUNAAN &amp; PENGUASAAN LAUT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LAH MUTLAK UNTUK PERKEMBANGAN KESEJAHTE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SERTA BANGSA DIMASA MENDATA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2133720" y="380880"/>
            <a:ext cx="75960" cy="457200"/>
          </a:xfrm>
          <a:custGeom>
            <a:avLst/>
            <a:gdLst>
              <a:gd name="textAreaLeft" fmla="*/ 0 w 75960"/>
              <a:gd name="textAreaRight" fmla="*/ 53280 w 75960"/>
              <a:gd name="textAreaTop" fmla="*/ 18720 h 457200"/>
              <a:gd name="textAreaBottom" fmla="*/ 4384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4"/>
          <p:cNvSpPr/>
          <p:nvPr/>
        </p:nvSpPr>
        <p:spPr>
          <a:xfrm>
            <a:off x="2362320" y="60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5"/>
          <p:cNvSpPr/>
          <p:nvPr/>
        </p:nvSpPr>
        <p:spPr>
          <a:xfrm flipH="1" rot="16188000">
            <a:off x="5216400" y="-185760"/>
            <a:ext cx="236520" cy="4726080"/>
          </a:xfrm>
          <a:custGeom>
            <a:avLst/>
            <a:gdLst>
              <a:gd name="textAreaLeft" fmla="*/ 0 w 236520"/>
              <a:gd name="textAreaRight" fmla="*/ 85320 w 236520"/>
              <a:gd name="textAreaTop" fmla="*/ 123120 h 4726080"/>
              <a:gd name="textAreaBottom" fmla="*/ 4602960 h 472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rc 6"/>
          <p:cNvSpPr/>
          <p:nvPr/>
        </p:nvSpPr>
        <p:spPr>
          <a:xfrm flipH="1">
            <a:off x="457200" y="2438280"/>
            <a:ext cx="1447920" cy="38124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216360" y="264960"/>
            <a:ext cx="8736480" cy="63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KER HANKAM 19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HANKAMNAS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KAJI &amp; DITELIT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MHANNA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AP. MPR : IV/MPR / 7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KEBANGSAAN / WA.NAS.IND. DIWARNAI ILEH PENGALA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JARAH YG MENGINGINKAN TDK TERULANGNYA LAGI PERPECAH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M LINGK. BANGSA &amp; NEGARA IND. YG AKAN MLMHKAN PERJU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AM MENGISI KEMERDEKAAN UNTUK MEWUJUDKAN CITA-CITA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NASIONAL SBG HASIL KESEPAKATAN BERSAMA AGAR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. SETARA DENGAN BANGSA LAI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EMENTASI WASANTARA DALAM KEHIDUPAM NAS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ANTA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LAI YANG MENJIWAI SEGENAP PERATURAN PER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ANG-UNDANGAN YANG BERLAKU DI SETIAP STR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SELURUH WILAYAH NK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PA DEMIKIAN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APA ?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2438280" y="18288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4"/>
          <p:cNvSpPr/>
          <p:nvPr/>
        </p:nvSpPr>
        <p:spPr>
          <a:xfrm flipH="1">
            <a:off x="1294920" y="1143000"/>
            <a:ext cx="31244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152280" y="163440"/>
            <a:ext cx="88552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NGERTIAN WA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MUSAN-RUMUSAN PENGERTIAN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DASARKAN TAP MPR ‘93 &amp; ‘98 (GBH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NUSANTARA YG MRPK WAWASAN NASIONAL Y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SUMBER PADA PANCASILA &amp; BDSRK UUD’45 YAITU CAR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DANG &amp; SIKAP BGS IND. MENGENAI DIRI &amp; LINGK DG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UTAMAKAN PERSATUAN &amp; KESATUAN BGS SER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ATUAN WILAYAH DLM MENYELENGGARAKAN KHDP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MASYARAKAT, BBGS, BNEG UTK MENCAPAI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. PROF. DR. WAN USM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KAKARYA WASANTARA &amp; TANNAS, 200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WASAN ADALAH CARA PANDANG BGS IND. MENGENAI DIRI D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AH AIRNYA SBG NEG KEPULAUAN DGN SEMUA ASPE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HIDUPAN YANG BERAG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AMBAHA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ANTARA ADALAH GEOPOLITIK INDONES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. POKJA WASANTARA, LEMHANNAS 19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USULKAN MENJADI TAP MP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PANDANG &amp; SKP BGS IND. MENGENAI DIRI &amp; LINGK. YG SERB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AGAM &amp; BERNILAI STRATEGIS DGN MENGUTAMAK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ATUAN &amp; KESATUAN BGS SERTA KES. WILAYAH DL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YELENGGARAKAN KHDP BERMASY. BBGS &amp; BNEG.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CAPAI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212760" y="76320"/>
            <a:ext cx="893124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JARAN DASAR WA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UAN POKOK AJARAN DASAR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POLITIK INDONESI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 PANDANG &amp; SKP BGS IND. MENGENAI DIRI &amp; LINGK. YG SERBA BERAGAM &amp; BERNILAI STRATEGIS DGN MENGUTAMAKAN PERS &amp; KESATUAN WILAYAH &amp; TETAP MENGHARGAI, MENGHORMATI KEBHINEKAAN DLM SETIAP ASPEK KHDPN NASIONAL UNTUK MENCAPAI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ASAN IDIIL : PANCASI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PA PANCASILA MENJADI LANDASAN IDIIL WASANTARA ?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MBUKAAN UUD’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KUI SEBAGA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IOLOGI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SAR NEG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AFAH HDP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CERMINKAN NILAI-NILAI KESEIMBANGAN, KESERASIAN, KESELARASAN, PERS &amp; KES., KEKELUARGAAN, KEBERSAMAAN &amp; KEARIFAN DLM MEMBINA KHDPN NAS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175248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914400" y="4648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294480" y="189000"/>
            <a:ext cx="86817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BER MOTIVASI BAGI PERJUANGAN BANGSA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ENATA KEHIDUPAN SECARA MAN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ILIKI KEKUATAN HUKUM YANG MENGIKAT PARA PENYELENGGA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, PARA PEMIMPIN PEM. &amp; SELURUH RAKYAT INDONES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LM KHDPN BBGS. BNEG &amp; BMASY. SUMBER INSPIRASI UTK SEGAL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GIATAN UTK MENINGKATKAN RAKYAT &amp; MARTABAT BGS SEC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UH &amp; MENY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AMPU MEMPERTAHANKAN IDENTITAS &amp; JATI DI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AMPU MENINGKATKAN KELANGSUNGAN HIDU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UK MAMPU MERAIH CITA-CITA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CASILA, LAYAK SBG. LANDASAN IDIIL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NDASAN KONSTITUSIONAL : UUD ‘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M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KEKAYAAN ALAM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KUASAI NEGARA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D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UK KEMAKMURAN RAKY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KELOLA BERDASARKAN KEBIJAKAN TERPADU (UUD ‘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2743200" y="5791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990720" y="533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Freeform 5"/>
          <p:cNvSpPr/>
          <p:nvPr/>
        </p:nvSpPr>
        <p:spPr>
          <a:xfrm>
            <a:off x="152280" y="304920"/>
            <a:ext cx="228600" cy="1676160"/>
          </a:xfrm>
          <a:custGeom>
            <a:avLst/>
            <a:gdLst>
              <a:gd name="textAreaLeft" fmla="*/ 0 w 228600"/>
              <a:gd name="textAreaRight" fmla="*/ 228960 w 2286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44" h="1056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35080" y="312840"/>
            <a:ext cx="875628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 IND.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GARA KESATU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ARA MENGATA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TUKK REPUBLI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HAM GOL. KELOMPOK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KUASAAN DI TANGAN RAKY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ORAN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KUI OLEH UUD’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KEPENTINGAN NEGARA DI ATAS SEGALA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UD’45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ONSTITUSI DASAR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JD PEDOMAN POKOK BGS DALA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HIDUPAN, BERBANGSA, BERNEGARA &amp; BERMASYARAK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UD’45 LAYAK MENJADI LANDASAN KONSTITUSI WASANTA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SUR DASAR KONSEPSI WA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DAH (CONTOUR), ISI (CONTENT) &amp; TATA LAKU (CONDUC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DAH (CONT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IPU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WILAY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ASI KENEGAR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ENDUDU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RA STRUKTUR POLITI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S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 STRUKTUR POLI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KELEMBAGAAN NEGA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5562720" y="3808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4"/>
          <p:cNvSpPr/>
          <p:nvPr/>
        </p:nvSpPr>
        <p:spPr>
          <a:xfrm flipH="1">
            <a:off x="2819520" y="1600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553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3809880" y="525780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Line 7"/>
          <p:cNvSpPr/>
          <p:nvPr/>
        </p:nvSpPr>
        <p:spPr>
          <a:xfrm flipV="1">
            <a:off x="3962520" y="5409720"/>
            <a:ext cx="7617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8"/>
          <p:cNvSpPr/>
          <p:nvPr/>
        </p:nvSpPr>
        <p:spPr>
          <a:xfrm>
            <a:off x="3962520" y="58672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452880" y="0"/>
            <a:ext cx="823824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I ( CONTENT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LIPUTI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PIRASI BGS YG BERKEMB. DI MASYARAK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TA-CITA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NAS. (PEMB. UUD’4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MPU MENCIPTAKAN PERSATUAN &amp; KESATUAN KHDPN N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YL. POL. EK. SOS. BUD. &amp; HANKA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HAL YANG ESENSIAL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REALISASI ASPIRASI BGS SEBAGAI KESEPAKATAN BERSAMA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WUJUDANNYA PENCAPAIAN CITA-CITA &amp; TUJU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PERSATUAN &amp; KESATUAN DLM KEBHINEKAAN MELIPUTI SEM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KEHIDUPAN NAS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ATA LAKU ( CONDUCT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IL INTERAKSI ANTARA WADAH &amp; IS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G BERIS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TA LAKU BATIN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A LAKU LAHIR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3"/>
          <p:cNvSpPr/>
          <p:nvPr/>
        </p:nvSpPr>
        <p:spPr>
          <a:xfrm rot="5444400">
            <a:off x="3924360" y="-1941840"/>
            <a:ext cx="609480" cy="7389720"/>
          </a:xfrm>
          <a:custGeom>
            <a:avLst/>
            <a:gdLst>
              <a:gd name="textAreaLeft" fmla="*/ 0 w 609480"/>
              <a:gd name="textAreaRight" fmla="*/ 219960 w 609480"/>
              <a:gd name="textAreaTop" fmla="*/ 192600 h 7389720"/>
              <a:gd name="textAreaBottom" fmla="*/ 7197120 h 738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40400" y="189000"/>
            <a:ext cx="8710560" cy="66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TA LAKU BATIN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IWA, SEMANGAT, M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TAS, JATI DIRI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KAD, BANGSA INDONE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RIBADIAN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TA LAKU LAHIRIA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DAKAN, PERBUATAN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SRKN. KEKELUARG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LAKU BANGSA IND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ERSAM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IMB. RS BANGSA &amp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 CINTA TANAH AI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IONALIS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 SEMUA ASPEK KEHIDUP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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KIKAT WAWASAN NU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UTUHAN NUSANTARA /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NGERTI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 PANDANG YANG SELALU UTUH MENYELURUH DAL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GKUP NUSANTARA &amp; DEMI KEPENTING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TI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AP WARGA BANG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FIKIR, BERSIKAP, BERTINDAK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RATUR NE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UH MENYELURU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 LEMB. NE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ENT. BANGSA &amp; NEGA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6629400" y="1066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Freeform 4"/>
          <p:cNvSpPr/>
          <p:nvPr/>
        </p:nvSpPr>
        <p:spPr>
          <a:xfrm>
            <a:off x="4419720" y="533520"/>
            <a:ext cx="914400" cy="1600200"/>
          </a:xfrm>
          <a:custGeom>
            <a:avLst/>
            <a:gdLst>
              <a:gd name="textAreaLeft" fmla="*/ 0 w 914400"/>
              <a:gd name="textAreaRight" fmla="*/ 914760 w 914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" h="1008">
                <a:moveTo>
                  <a:pt x="144" y="0"/>
                </a:moveTo>
                <a:lnTo>
                  <a:pt x="576" y="240"/>
                </a:lnTo>
                <a:lnTo>
                  <a:pt x="0" y="100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Freeform 5"/>
          <p:cNvSpPr/>
          <p:nvPr/>
        </p:nvSpPr>
        <p:spPr>
          <a:xfrm>
            <a:off x="1854360" y="2819520"/>
            <a:ext cx="2717640" cy="330120"/>
          </a:xfrm>
          <a:custGeom>
            <a:avLst/>
            <a:gdLst>
              <a:gd name="textAreaLeft" fmla="*/ 0 w 2717640"/>
              <a:gd name="textAreaRight" fmla="*/ 2717640 w 271764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712" h="208">
                <a:moveTo>
                  <a:pt x="80" y="96"/>
                </a:moveTo>
                <a:cubicBezTo>
                  <a:pt x="40" y="152"/>
                  <a:pt x="0" y="208"/>
                  <a:pt x="272" y="192"/>
                </a:cubicBezTo>
                <a:cubicBezTo>
                  <a:pt x="544" y="176"/>
                  <a:pt x="1128" y="88"/>
                  <a:pt x="171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3048120" y="2209680"/>
            <a:ext cx="3911400" cy="3812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464" h="240">
                <a:moveTo>
                  <a:pt x="2112" y="0"/>
                </a:moveTo>
                <a:cubicBezTo>
                  <a:pt x="2288" y="28"/>
                  <a:pt x="2464" y="56"/>
                  <a:pt x="2112" y="96"/>
                </a:cubicBezTo>
                <a:cubicBezTo>
                  <a:pt x="1760" y="136"/>
                  <a:pt x="880" y="188"/>
                  <a:pt x="0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7"/>
          <p:cNvSpPr/>
          <p:nvPr/>
        </p:nvSpPr>
        <p:spPr>
          <a:xfrm rot="5444400">
            <a:off x="5105520" y="3579480"/>
            <a:ext cx="303120" cy="5640480"/>
          </a:xfrm>
          <a:custGeom>
            <a:avLst/>
            <a:gdLst>
              <a:gd name="textAreaLeft" fmla="*/ 0 w 303120"/>
              <a:gd name="textAreaRight" fmla="*/ 109440 w 303120"/>
              <a:gd name="textAreaTop" fmla="*/ 146880 h 5640480"/>
              <a:gd name="textAreaBottom" fmla="*/ 5493600 h 564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blem hukum yang berkaitan dengan azas warga nega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280" y="2421000"/>
            <a:ext cx="4392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atr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patr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atr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41840" y="163440"/>
            <a:ext cx="8771400" cy="65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ZAZ WAWASAN NUSANT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TENTUAN-KETENTUAN / KAIDAH-KAIDAH DSR YG HRS DIPATUHI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TAATI, DIPELIHARA &amp; DICIPT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AYA TETAP TAAT &amp; SETIA KOMP / UNSUR PBTK BANGSA IN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HADAP KESEPAKATAN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DIRI DARI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ENTINGAN YANG 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YANG 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ADILAN, KEJUJURAN, SOLIDARI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JASAMA &amp; KESETIAAN THDP IKRAR / KESEPAKATAN BER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JUAN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PELIHARA PERS &amp; KESATUAN DLM KEBHINEK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PENTINGAN YANG SAMA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D WKT MEREBUT &amp; MENEGAKKAN KEMERDEK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D WKT MDPTK. TEK. DR DUNIA INTER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JUAN YANG SAMA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RCAPAINYA KESEJAHTERAAN / KEMAKMURA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RASA AMAN YANG LEBIH BAIK DARI KEADAAN SEBELUMN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JUJURAN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A YANG DILAKUKAN SESUAI REALITA &amp; ATURAN Y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LA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Line 3"/>
          <p:cNvSpPr/>
          <p:nvPr/>
        </p:nvSpPr>
        <p:spPr>
          <a:xfrm>
            <a:off x="609480" y="25909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7120" y="262080"/>
            <a:ext cx="9042840" cy="65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ARI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ERLUKAN RS SETIAKAWANAN, MAU BERKORBAN TANP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INGGALKAN CIRI-CIRI &amp; KARAKTER BUDAY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JAS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ORDINASI, SLG PENGERTIAN SHG DIPEROLEH KERJ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LOMPOK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A SINERGI YANG BA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SETI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AP MEMEGANG TEGUH CITA-CITA BGS IND. (KESEPAKATAN BS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AH PAND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AH PANDANG KE DALAM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JAMIN PERWUJUDAN PERSATUAN &amp; KESATUAN SEGEN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K KEHIDUP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AP, PEKA &amp; TANGGAP SERTA BERUSAHA MENCEGAH &amp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GATASI TIMBULNYA DISINTEGRASI BANG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AH PEND. KELUAR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JAMIN KEPENTINGAN NAS. DLM DUNIA YG SERBA BERUBAH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KUT PERDAMAIAN DUNIA YANG ABAD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TI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LM KHDP INTERNASIONAL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RUSAHA MENGAMANK. KEPENT. N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3"/>
          <p:cNvSpPr/>
          <p:nvPr/>
        </p:nvSpPr>
        <p:spPr>
          <a:xfrm>
            <a:off x="533520" y="5867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5335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17800" y="239760"/>
            <a:ext cx="8416440" cy="62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Arial"/>
              </a:rPr>
              <a:t>KEDUDUKAN, FUNGSI &amp; TUJU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KEDUDU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MERUPAKAN LANDASAN NASIONAL DLM MENYELENGGAR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KEHIDUPAN N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PS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LANDASAN IDII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UUD’45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LANDASAN KONSTITU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WASANTARA      LANDASAN VI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TANNAS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 LANDASAN KONSEP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GBHN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LANDASAN OPERASION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FUNGSI :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PEDOMAN, MOTIVASI, DORONGAN &amp; RAMB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Wingdings"/>
                <a:ea typeface="Wingdings"/>
              </a:rPr>
              <a:t>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SEGALA * KEBIJ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* KEPUTUS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* TINDAK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* PERBUAT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Marlett"/>
                <a:ea typeface="Marlett"/>
              </a:rPr>
              <a:t>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TUJUAN : MEWUJUDKAN RASA NASIONALISME YG TINGGI DI SEG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ASPEK KEHIDUPAN BANGSA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676520" y="1752480"/>
            <a:ext cx="3047760" cy="1981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3200400" y="175248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2819520" y="22860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2514600" y="2666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2209680" y="3048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905120" y="34290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9"/>
          <p:cNvSpPr/>
          <p:nvPr/>
        </p:nvSpPr>
        <p:spPr>
          <a:xfrm>
            <a:off x="4724280" y="37339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Kyoko_Fukada_040009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4"/>
          <p:cNvSpPr/>
          <p:nvPr/>
        </p:nvSpPr>
        <p:spPr>
          <a:xfrm>
            <a:off x="5003640" y="0"/>
            <a:ext cx="41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447920" y="5157720"/>
            <a:ext cx="5368320" cy="90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TIRAHAT SEJENAK DILANJUTK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NGGU DE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ara memperoleh kewarganegaraan di Indones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6093000" cy="34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lahir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mohonan disetuju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warganegara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kawin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ghargaan (berjas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ngangkat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ilang nya kewarganegaraan Indones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22554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warganegaraan Indonesia dapat kah hilang??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gi W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gi orang yg diangk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gi orang yg mengajuk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EMAHANAN HAK DAN KEWAJIBAN W.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81728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WARGA NEGARA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~ PASAL 26 UUD’4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 YG MENJADI WARGA NEGARA  ADALAH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ANG-ORANG INDONESIA  ASLI DAN ORANG-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ANG BANGSA LAIN YANG DISAHKAN DGN U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BAGAI WARGA NEGA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2) SYARAT MENGENAI KWN DITETAPKAN DGN U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ENDUDUK : ?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50920" y="1773360"/>
            <a:ext cx="84582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L 27 (1) DAN (2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AL 2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U No 20 /1982 POKOK-POKOK HAMKAMNEG BAB II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K DAN KEWAJIBAN WN DLM PERBELAAN NEG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18 (1), (2), (3), (4), (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19 (1),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L 20 (1, (2), (3), (4)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436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AK DAN KEWAJIBAN WN : UUD ’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3:10:20Z</dcterms:created>
  <dc:creator>ComputerDiv.</dc:creator>
  <dc:description/>
  <dc:language>en-US</dc:language>
  <cp:lastModifiedBy>qimfar</cp:lastModifiedBy>
  <dcterms:modified xsi:type="dcterms:W3CDTF">2012-04-30T05:21:39Z</dcterms:modified>
  <cp:revision>33</cp:revision>
  <dc:subject/>
  <dc:title>Slide 1</dc:title>
</cp:coreProperties>
</file>