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21D-7C9E-491C-81E8-0CF81D0E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A47-D92B-469C-8C03-AED3644A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B67-EA09-4FE8-AE08-FFAA3EBF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6BE-8E21-4749-B2E8-59B0839A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F775-8021-4425-9C00-6ADF44B8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E01F-CA91-42E8-9D6D-FD89FC7D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5B14-BFDF-4317-8296-D1D970AF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05B5-FFAD-4BD7-96F5-4F12824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7906-2532-4833-8792-54464691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20E7-9E44-4391-95F0-DBFAA4ED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2CDA-3477-4AE8-9C9E-65ED242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320-3F22-4157-B447-D291D94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188-4DD2-459C-8300-C5B71C2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A2A-7529-41E8-9CE3-E988671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8001-A013-4D46-9B18-0F1FE25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654-0255-406E-A8C6-365F794D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C19-11E3-4DE6-9A79-E93DB662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6AB-34C6-41BC-94AF-4813BB0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DDE-4FD7-46AF-AADC-F605839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FD1-A7EF-4932-91C7-66CC6EBC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5BD-50BB-439E-AF55-9CE31DB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955-EEF4-4E3A-8077-E3CF73B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8F0-EB45-4507-875F-38309E5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F82-F86A-47A2-8661-FC666F4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A2D-7DD5-420F-8FA5-8FEA268E7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A1B-2739-45EC-A038-E8D97975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395280" y="33336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Warga Nega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292720" y="55101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Bambang Tri Purwa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9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2205000"/>
            <a:ext cx="8280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SAMAAN KEDUDUKAN DALAM HUKUM &amp; P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ASAL 27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A KESEIMBANGAN ANTARA HAK &amp; KEWAJIBAN, TIDAK AD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KRIMINASI ANTAR 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13372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ATAS PEKERJAAN &amp; PENGHIDUPAN YANG LAYAK BAG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ANUSI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7 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MANCARKAN ASAS KEADILAN SOSIAL &amp; KERAKY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ERBAGAI ATURAN &amp; U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MENCIPTAKAN LAPANGAN KERJA &amp; MEMPEROLEH PENGHIDUPAN YANG LAY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U AGRARIA, KOPERASI, PENANAMAN MODAL, SISTEM P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ASIONAL, JAM SOS TEK., DL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9640" y="198900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ERDEKAAN BERSERIKAT &amp; BERKUMP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NCERMINKAN NEGARA INDONESIA DEMOKRAT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95280" y="3789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MENGELUARKAN PIKIRAN DENGAN LISAN &amp; TULISAN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D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ERUTAMA BERKAITAN DENGAN MEDIA P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ULISAN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Arial"/>
              </a:rPr>
              <a:t> DSB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DENGAN CARA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198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ERDEKAAN MEMELUK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EGARA MENJAMIN KEMERDEKAAN TIAP-TIAP PENDUDUK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NTUK UNTUK MEMELUK AGAMA &amp; BERIBADAT MEN.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amp; KEPERCAYAAN (HAM. KEBEBASAN BERAGAMA LANGSU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ERSUMBER PADA MARTABAT MAN SEBAGAI MAHLU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IPTAAN TUHAN YME, BUKAN PEMBERIAN NEGARA /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GOLO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&amp; KEWAJIBAN PEMBELA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U NO. 20 / 198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2060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K MENDAPATKAN PENGAJ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AL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 PENDIDIKAN NASIONAL (UU NO. 2 / 198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DIDIKAN 2 JAL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ENDIDIKAN S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ENDIDIKAN LUAR S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620720"/>
            <a:ext cx="8820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BUDAYA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UMUSAN TENTANG KEBUDAYA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BUDAYAAN YANG TIMBUL SEBAGAI BUAH USAHA BU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YA SELURUH RAKYAT INDONESIA. TERMASUK KEBUDA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YAAN LAMA &amp; ASLI YANG TERDAPAT SEBAGAI PUNCAK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UNCAK KEBUDAYAAN DI DAERAH-DAERAH S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DONESIA (PENJELASAN UUD’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BUDAYAAN HARUS DIUSAHAKAN MENUJU KEARA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MAJUAN ADAB BUDAYA &amp;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UDAYA ASING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NSUR BUDAYA PENTING, YANG TETAP DIHORMATI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IPELIHAR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Arial"/>
              </a:rPr>
              <a:t>BAHASA DAER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4000" y="2349360"/>
            <a:ext cx="83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SEJAHTERAAN SOS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AL 33 &amp; 3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MAKMURAN MASYARAKAT YANG UT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41418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wajiban W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siap melindungi segenap tanah tumpah darah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ncintai tanah air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siap berjuang mempertahankan negara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kerja sebaik baik nya dan bertanggung jawab sesuai dengan bidang nya masing ma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unya membangun rasa Nasionalisme pada generasi pener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terjadi kehidupan yang berkesinambung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perlu mengetahui sejarah nasionalisme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akan menggantikan pendahuluny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yang akan meneruskan rasa nasionalisme berikutny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Identitas Nas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410080" y="5791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Verdana"/>
              </a:rPr>
              <a:t>Bambang Tri Purwa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6448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Konsepsi warga negara dan kewarganegaraan Indone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612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Pengertian Warga Negar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gota dari suatu negara yang didirikan atas kekuatan bersama, dilaksanakan atas tanggung jawab bersama, dan ditujukan untuk kepentingan bers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24000" y="328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52280" y="3809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pat disebut sebagai masyarakat hukum suatu negara                            sistem hubungan yang teratur antara masyarakat dengan hukum suatu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2" name="Straight Arrow Connector 7"/>
          <p:cNvCxnSpPr/>
          <p:nvPr/>
        </p:nvCxnSpPr>
        <p:spPr>
          <a:xfrm>
            <a:off x="5660640" y="4038120"/>
            <a:ext cx="11437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TextBox 9"/>
          <p:cNvSpPr/>
          <p:nvPr/>
        </p:nvSpPr>
        <p:spPr>
          <a:xfrm>
            <a:off x="380880" y="5257800"/>
            <a:ext cx="205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657600" y="4800600"/>
            <a:ext cx="47242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DUDUK : WN &amp; org Asing dlm 1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657600" y="5734080"/>
            <a:ext cx="205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 PENDUDU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6" name="Straight Arrow Connector 13"/>
          <p:cNvCxnSpPr/>
          <p:nvPr/>
        </p:nvCxnSpPr>
        <p:spPr>
          <a:xfrm flipV="1">
            <a:off x="2437920" y="5071320"/>
            <a:ext cx="1143720" cy="2293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7" name="Straight Arrow Connector 15"/>
          <p:cNvCxnSpPr/>
          <p:nvPr/>
        </p:nvCxnSpPr>
        <p:spPr>
          <a:xfrm>
            <a:off x="2437920" y="5516640"/>
            <a:ext cx="114372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5270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Identitas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09480" y="2286000"/>
            <a:ext cx="23907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as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581280" y="1900080"/>
            <a:ext cx="12765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3505320" y="3048120"/>
            <a:ext cx="22809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ional (n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791320" y="1900080"/>
            <a:ext cx="3138480" cy="642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i/tanda/jati diri/sifat kh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934320" y="3048120"/>
            <a:ext cx="106668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3809880" y="4648320"/>
            <a:ext cx="358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ti diri bangsa/ kepribadi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857760" y="5357880"/>
            <a:ext cx="5486400" cy="368280"/>
          </a:xfrm>
          <a:prstGeom prst="rect">
            <a:avLst/>
          </a:prstGeom>
          <a:noFill/>
          <a:ln w="9360">
            <a:solidFill>
              <a:srgbClr val="8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ktor Objektif (geografi, ekologi, demograf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108000" y="5373720"/>
            <a:ext cx="3249720" cy="916920"/>
          </a:xfrm>
          <a:prstGeom prst="rect">
            <a:avLst/>
          </a:prstGeom>
          <a:noFill/>
          <a:ln w="9360">
            <a:solidFill>
              <a:srgbClr val="8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ktor subyektif (sejarah, sosial, politik dan kebudaya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Bent Arrow 11"/>
          <p:cNvSpPr/>
          <p:nvPr/>
        </p:nvSpPr>
        <p:spPr>
          <a:xfrm>
            <a:off x="2270160" y="1987560"/>
            <a:ext cx="1222200" cy="289080"/>
          </a:xfrm>
          <a:custGeom>
            <a:avLst/>
            <a:gdLst/>
            <a:ahLst/>
            <a:rect l="l" t="t" r="r" b="b"/>
            <a:pathLst>
              <a:path w="1222375" h="288925">
                <a:moveTo>
                  <a:pt x="0" y="288925"/>
                </a:moveTo>
                <a:lnTo>
                  <a:pt x="0" y="162520"/>
                </a:lnTo>
                <a:lnTo>
                  <a:pt x="0" y="162520"/>
                </a:lnTo>
                <a:arcTo wR="126405" hR="126405" stAng="10800000" swAng="5400000"/>
                <a:lnTo>
                  <a:pt x="1150144" y="36116"/>
                </a:lnTo>
                <a:lnTo>
                  <a:pt x="1150144" y="0"/>
                </a:lnTo>
                <a:lnTo>
                  <a:pt x="1222375" y="72231"/>
                </a:lnTo>
                <a:lnTo>
                  <a:pt x="1150144" y="144463"/>
                </a:lnTo>
                <a:lnTo>
                  <a:pt x="1150144" y="108347"/>
                </a:lnTo>
                <a:lnTo>
                  <a:pt x="126405" y="108347"/>
                </a:lnTo>
                <a:lnTo>
                  <a:pt x="126405" y="108347"/>
                </a:lnTo>
                <a:arcTo wR="54173" hR="54173" stAng="-5400000" swAng="-5400000"/>
                <a:lnTo>
                  <a:pt x="72231" y="288925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Bent Arrow 12"/>
          <p:cNvSpPr/>
          <p:nvPr/>
        </p:nvSpPr>
        <p:spPr>
          <a:xfrm flipV="1">
            <a:off x="1981080" y="2742480"/>
            <a:ext cx="1295640" cy="685800"/>
          </a:xfrm>
          <a:custGeom>
            <a:avLst/>
            <a:gdLst/>
            <a:ahLst/>
            <a:rect l="l" t="t" r="r" b="b"/>
            <a:pathLst>
              <a:path w="1295400" h="685800">
                <a:moveTo>
                  <a:pt x="0" y="6858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1123950" y="85725"/>
                </a:lnTo>
                <a:lnTo>
                  <a:pt x="1123950" y="0"/>
                </a:lnTo>
                <a:lnTo>
                  <a:pt x="1295400" y="171450"/>
                </a:lnTo>
                <a:lnTo>
                  <a:pt x="1123950" y="342900"/>
                </a:lnTo>
                <a:lnTo>
                  <a:pt x="11239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6858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ight Arrow 13"/>
          <p:cNvSpPr/>
          <p:nvPr/>
        </p:nvSpPr>
        <p:spPr>
          <a:xfrm>
            <a:off x="4876920" y="1981080"/>
            <a:ext cx="6858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ight Arrow 14"/>
          <p:cNvSpPr/>
          <p:nvPr/>
        </p:nvSpPr>
        <p:spPr>
          <a:xfrm>
            <a:off x="5867280" y="3124080"/>
            <a:ext cx="83844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Down Arrow 16"/>
          <p:cNvSpPr/>
          <p:nvPr/>
        </p:nvSpPr>
        <p:spPr>
          <a:xfrm>
            <a:off x="4876920" y="3581280"/>
            <a:ext cx="144756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Down Arrow 17"/>
          <p:cNvSpPr/>
          <p:nvPr/>
        </p:nvSpPr>
        <p:spPr>
          <a:xfrm>
            <a:off x="609480" y="2819520"/>
            <a:ext cx="290520" cy="24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2" name="Straight Arrow Connector 21"/>
          <p:cNvCxnSpPr/>
          <p:nvPr/>
        </p:nvCxnSpPr>
        <p:spPr>
          <a:xfrm>
            <a:off x="1213200" y="2714400"/>
            <a:ext cx="2591640" cy="2819880"/>
          </a:xfrm>
          <a:prstGeom prst="straightConnector1">
            <a:avLst/>
          </a:prstGeom>
          <a:ln w="76320">
            <a:solidFill>
              <a:srgbClr val="9fae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380880" y="152280"/>
            <a:ext cx="7620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Identitas Nasional Indone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14200" y="1447920"/>
            <a:ext cx="2500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fundamen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400800" y="2057400"/>
            <a:ext cx="2362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Instrumen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04920" y="1981080"/>
            <a:ext cx="19810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Pancasila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safat Bangsa, Hukum dasar, pandangan hidup, etika politik, dan paradigma pembangun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419720" y="2895480"/>
            <a:ext cx="28954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UD’45, konstitusi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419720" y="3429000"/>
            <a:ext cx="35812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hasa Indonesia, Bahasa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4419720" y="3962520"/>
            <a:ext cx="34290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uda Pancasila, lambang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419720" y="4572000"/>
            <a:ext cx="41148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g Saka Merah Putih, bender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4419720" y="5181480"/>
            <a:ext cx="38862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hineka Tunggal Ika, semboy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419720" y="5791320"/>
            <a:ext cx="34290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onesia Raya, lagu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Bent Arrow 13"/>
          <p:cNvSpPr/>
          <p:nvPr/>
        </p:nvSpPr>
        <p:spPr>
          <a:xfrm rot="10800000">
            <a:off x="2819160" y="1066680"/>
            <a:ext cx="533160" cy="749520"/>
          </a:xfrm>
          <a:custGeom>
            <a:avLst/>
            <a:gdLst/>
            <a:ahLst/>
            <a:rect l="l" t="t" r="r" b="b"/>
            <a:pathLst>
              <a:path w="533400" h="749300">
                <a:moveTo>
                  <a:pt x="0" y="749300"/>
                </a:moveTo>
                <a:lnTo>
                  <a:pt x="0" y="300038"/>
                </a:lnTo>
                <a:lnTo>
                  <a:pt x="0" y="300038"/>
                </a:lnTo>
                <a:arcTo wR="233363" hR="233363" stAng="10800000" swAng="5400000"/>
                <a:lnTo>
                  <a:pt x="400050" y="66675"/>
                </a:lnTo>
                <a:lnTo>
                  <a:pt x="400050" y="0"/>
                </a:lnTo>
                <a:lnTo>
                  <a:pt x="533400" y="133350"/>
                </a:lnTo>
                <a:lnTo>
                  <a:pt x="400050" y="266700"/>
                </a:lnTo>
                <a:lnTo>
                  <a:pt x="400050" y="200025"/>
                </a:lnTo>
                <a:lnTo>
                  <a:pt x="233363" y="200025"/>
                </a:lnTo>
                <a:lnTo>
                  <a:pt x="233363" y="200025"/>
                </a:lnTo>
                <a:arcTo wR="100013" hR="100013" stAng="-5400000" swAng="-5400000"/>
                <a:lnTo>
                  <a:pt x="133350" y="7493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Bent Arrow 15"/>
          <p:cNvSpPr/>
          <p:nvPr/>
        </p:nvSpPr>
        <p:spPr>
          <a:xfrm rot="5400000">
            <a:off x="7696080" y="838080"/>
            <a:ext cx="685800" cy="990720"/>
          </a:xfrm>
          <a:custGeom>
            <a:avLst/>
            <a:gdLst/>
            <a:ahLst/>
            <a:rect l="l" t="t" r="r" b="b"/>
            <a:pathLst>
              <a:path w="685800" h="990600">
                <a:moveTo>
                  <a:pt x="0" y="9906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9906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304920" y="4343400"/>
            <a:ext cx="2057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alamia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304920" y="481500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304920" y="532764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majemukan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304920" y="579924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majemukan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9" name="Straight Arrow Connector 22"/>
          <p:cNvCxnSpPr/>
          <p:nvPr/>
        </p:nvCxnSpPr>
        <p:spPr>
          <a:xfrm flipH="1">
            <a:off x="2437920" y="1143000"/>
            <a:ext cx="2057760" cy="32774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565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030a0"/>
                </a:solidFill>
                <a:latin typeface="Verdana"/>
              </a:rPr>
              <a:t>Integrasi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066680" y="1981080"/>
            <a:ext cx="20574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505320" y="1716120"/>
            <a:ext cx="11430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3505320" y="2438280"/>
            <a:ext cx="198108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sional (n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6248520" y="1757520"/>
            <a:ext cx="106668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k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553080" y="2438280"/>
            <a:ext cx="99072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6" name="Straight Arrow Connector 8"/>
          <p:cNvCxnSpPr/>
          <p:nvPr/>
        </p:nvCxnSpPr>
        <p:spPr>
          <a:xfrm>
            <a:off x="4876920" y="1914120"/>
            <a:ext cx="1219680" cy="2520"/>
          </a:xfrm>
          <a:prstGeom prst="straightConnector1">
            <a:avLst/>
          </a:prstGeom>
          <a:ln w="38160">
            <a:solidFill>
              <a:srgbClr val="9faebd"/>
            </a:solidFill>
            <a:miter/>
            <a:tailEnd len="med" type="triangle" w="med"/>
          </a:ln>
        </p:spPr>
      </p:cxnSp>
      <p:cxnSp>
        <p:nvCxnSpPr>
          <p:cNvPr id="197" name="Straight Arrow Connector 10"/>
          <p:cNvCxnSpPr/>
          <p:nvPr/>
        </p:nvCxnSpPr>
        <p:spPr>
          <a:xfrm>
            <a:off x="5638320" y="2590920"/>
            <a:ext cx="839160" cy="216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sp>
        <p:nvSpPr>
          <p:cNvPr id="198" name="Bent Arrow 11"/>
          <p:cNvSpPr/>
          <p:nvPr/>
        </p:nvSpPr>
        <p:spPr>
          <a:xfrm>
            <a:off x="2590920" y="1773360"/>
            <a:ext cx="685800" cy="207720"/>
          </a:xfrm>
          <a:custGeom>
            <a:avLst/>
            <a:gdLst/>
            <a:ahLst/>
            <a:rect l="l" t="t" r="r" b="b"/>
            <a:pathLst>
              <a:path w="685800" h="207962">
                <a:moveTo>
                  <a:pt x="0" y="207962"/>
                </a:moveTo>
                <a:lnTo>
                  <a:pt x="0" y="116979"/>
                </a:lnTo>
                <a:lnTo>
                  <a:pt x="0" y="116979"/>
                </a:lnTo>
                <a:arcTo wR="90983" hR="90983" stAng="10800000" swAng="5400000"/>
                <a:lnTo>
                  <a:pt x="633810" y="25995"/>
                </a:lnTo>
                <a:lnTo>
                  <a:pt x="633810" y="0"/>
                </a:lnTo>
                <a:lnTo>
                  <a:pt x="685800" y="51991"/>
                </a:lnTo>
                <a:lnTo>
                  <a:pt x="633810" y="103981"/>
                </a:lnTo>
                <a:lnTo>
                  <a:pt x="633810" y="77986"/>
                </a:lnTo>
                <a:lnTo>
                  <a:pt x="90983" y="77986"/>
                </a:lnTo>
                <a:lnTo>
                  <a:pt x="90983" y="77986"/>
                </a:lnTo>
                <a:arcTo wR="38993" hR="38993" stAng="-5400000" swAng="-5400000"/>
                <a:lnTo>
                  <a:pt x="51991" y="207962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Bent Arrow 12"/>
          <p:cNvSpPr/>
          <p:nvPr/>
        </p:nvSpPr>
        <p:spPr>
          <a:xfrm flipV="1">
            <a:off x="2438280" y="2362320"/>
            <a:ext cx="914400" cy="304560"/>
          </a:xfrm>
          <a:custGeom>
            <a:avLst/>
            <a:gdLst/>
            <a:ahLst/>
            <a:rect l="l" t="t" r="r" b="b"/>
            <a:pathLst>
              <a:path w="914400" h="304800">
                <a:moveTo>
                  <a:pt x="0" y="304800"/>
                </a:moveTo>
                <a:lnTo>
                  <a:pt x="0" y="171450"/>
                </a:lnTo>
                <a:lnTo>
                  <a:pt x="0" y="171450"/>
                </a:lnTo>
                <a:arcTo wR="133350" hR="133350" stAng="10800000" swAng="5400000"/>
                <a:lnTo>
                  <a:pt x="838200" y="38100"/>
                </a:lnTo>
                <a:lnTo>
                  <a:pt x="838200" y="0"/>
                </a:lnTo>
                <a:lnTo>
                  <a:pt x="914400" y="76200"/>
                </a:lnTo>
                <a:lnTo>
                  <a:pt x="838200" y="152400"/>
                </a:lnTo>
                <a:lnTo>
                  <a:pt x="838200" y="114300"/>
                </a:lnTo>
                <a:lnTo>
                  <a:pt x="133350" y="114300"/>
                </a:lnTo>
                <a:lnTo>
                  <a:pt x="133350" y="114300"/>
                </a:lnTo>
                <a:arcTo wR="57150" hR="57150" stAng="-5400000" swAng="-5400000"/>
                <a:lnTo>
                  <a:pt x="76200" y="3048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Curved Left Arrow 14"/>
          <p:cNvSpPr/>
          <p:nvPr/>
        </p:nvSpPr>
        <p:spPr>
          <a:xfrm>
            <a:off x="7620120" y="177480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47560 h 2590920"/>
              <a:gd name="textAreaBottom" fmla="*/ 19098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3515289"/>
                <a:lnTo>
                  <a:pt x="5400" y="21310"/>
                </a:lnTo>
                <a:lnTo>
                  <a:pt x="0" y="19377"/>
                </a:lnTo>
                <a:lnTo>
                  <a:pt x="5400" y="16863"/>
                </a:lnTo>
                <a:lnTo>
                  <a:pt x="5400" y="17975"/>
                </a:lnTo>
                <a:arcTo wR="21600" hR="9133" stAng="3515289" swAng="-3337222"/>
                <a:lnTo>
                  <a:pt x="21439" y="10244"/>
                </a:lnTo>
                <a:arcTo wR="21600" hR="9133" stAng="-178066" swAng="-5221934"/>
                <a:close/>
              </a:path>
              <a:path fill="darkenLess"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-178066"/>
                <a:lnTo>
                  <a:pt x="21439" y="10244"/>
                </a:lnTo>
                <a:arcTo wR="21600" hR="9133" stAng="-178066" swAng="-5221934"/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Curved Left Arrow 15"/>
          <p:cNvSpPr/>
          <p:nvPr/>
        </p:nvSpPr>
        <p:spPr>
          <a:xfrm>
            <a:off x="7696080" y="2590920"/>
            <a:ext cx="914400" cy="2133360"/>
          </a:xfrm>
          <a:custGeom>
            <a:avLst/>
            <a:gdLst>
              <a:gd name="textAreaLeft" fmla="*/ 122400 w 914400"/>
              <a:gd name="textAreaRight" fmla="*/ 792000 w 914400"/>
              <a:gd name="textAreaTop" fmla="*/ 447480 h 2133360"/>
              <a:gd name="textAreaBottom" fmla="*/ 157140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5486400" y="3429000"/>
            <a:ext cx="2057400" cy="119124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ksi secara UTUH semua suku-suku bangsa di wilayah Nu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1676520" y="358128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yatuan secara UTU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04920" y="434340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krar SUMPAH PEMU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895480" y="480060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ncak Kemerdekaan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800600" y="5486400"/>
            <a:ext cx="20574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nyataan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52280" y="6019920"/>
            <a:ext cx="3505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ONESIA ADALAH SATU / UT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8" name="Straight Arrow Connector 23"/>
          <p:cNvCxnSpPr/>
          <p:nvPr/>
        </p:nvCxnSpPr>
        <p:spPr>
          <a:xfrm flipH="1" flipV="1">
            <a:off x="4419360" y="3809160"/>
            <a:ext cx="838800" cy="252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209" name="Straight Arrow Connector 26"/>
          <p:cNvCxnSpPr/>
          <p:nvPr/>
        </p:nvCxnSpPr>
        <p:spPr>
          <a:xfrm flipH="1">
            <a:off x="2131200" y="4039920"/>
            <a:ext cx="3960" cy="22932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sp>
        <p:nvSpPr>
          <p:cNvPr id="210" name="Bent Arrow 32"/>
          <p:cNvSpPr/>
          <p:nvPr/>
        </p:nvSpPr>
        <p:spPr>
          <a:xfrm rot="5400000">
            <a:off x="2816280" y="4498920"/>
            <a:ext cx="388800" cy="230400"/>
          </a:xfrm>
          <a:custGeom>
            <a:avLst/>
            <a:gdLst/>
            <a:ahLst/>
            <a:rect l="l" t="t" r="r" b="b"/>
            <a:pathLst>
              <a:path w="388938" h="230188">
                <a:moveTo>
                  <a:pt x="0" y="230188"/>
                </a:moveTo>
                <a:lnTo>
                  <a:pt x="0" y="129481"/>
                </a:lnTo>
                <a:lnTo>
                  <a:pt x="0" y="129481"/>
                </a:lnTo>
                <a:arcTo wR="100707" hR="100707" stAng="10800000" swAng="5400000"/>
                <a:lnTo>
                  <a:pt x="331391" y="28774"/>
                </a:lnTo>
                <a:lnTo>
                  <a:pt x="331391" y="0"/>
                </a:lnTo>
                <a:lnTo>
                  <a:pt x="388938" y="57547"/>
                </a:lnTo>
                <a:lnTo>
                  <a:pt x="331391" y="115094"/>
                </a:lnTo>
                <a:lnTo>
                  <a:pt x="331391" y="86321"/>
                </a:lnTo>
                <a:lnTo>
                  <a:pt x="100707" y="86321"/>
                </a:lnTo>
                <a:lnTo>
                  <a:pt x="100707" y="86321"/>
                </a:lnTo>
                <a:arcTo wR="43160" hR="43160" stAng="-5400000" swAng="-5400000"/>
                <a:lnTo>
                  <a:pt x="57547" y="230188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Bent Arrow 33"/>
          <p:cNvSpPr/>
          <p:nvPr/>
        </p:nvSpPr>
        <p:spPr>
          <a:xfrm rot="5400000">
            <a:off x="5406480" y="5108400"/>
            <a:ext cx="388800" cy="230040"/>
          </a:xfrm>
          <a:custGeom>
            <a:avLst/>
            <a:gdLst/>
            <a:ahLst/>
            <a:rect l="l" t="t" r="r" b="b"/>
            <a:pathLst>
              <a:path w="388938" h="230188">
                <a:moveTo>
                  <a:pt x="0" y="230188"/>
                </a:moveTo>
                <a:lnTo>
                  <a:pt x="0" y="129481"/>
                </a:lnTo>
                <a:lnTo>
                  <a:pt x="0" y="129481"/>
                </a:lnTo>
                <a:arcTo wR="100707" hR="100707" stAng="10800000" swAng="5400000"/>
                <a:lnTo>
                  <a:pt x="331391" y="28774"/>
                </a:lnTo>
                <a:lnTo>
                  <a:pt x="331391" y="0"/>
                </a:lnTo>
                <a:lnTo>
                  <a:pt x="388938" y="57547"/>
                </a:lnTo>
                <a:lnTo>
                  <a:pt x="331391" y="115094"/>
                </a:lnTo>
                <a:lnTo>
                  <a:pt x="331391" y="86321"/>
                </a:lnTo>
                <a:lnTo>
                  <a:pt x="100707" y="86321"/>
                </a:lnTo>
                <a:lnTo>
                  <a:pt x="100707" y="86321"/>
                </a:lnTo>
                <a:arcTo wR="43160" hR="43160" stAng="-5400000" swAng="-5400000"/>
                <a:lnTo>
                  <a:pt x="57547" y="230188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Bent Arrow 34"/>
          <p:cNvSpPr/>
          <p:nvPr/>
        </p:nvSpPr>
        <p:spPr>
          <a:xfrm rot="10800000">
            <a:off x="3886200" y="6019920"/>
            <a:ext cx="2362320" cy="23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362200" h="233363">
                <a:moveTo>
                  <a:pt x="0" y="233363"/>
                </a:moveTo>
                <a:lnTo>
                  <a:pt x="0" y="131267"/>
                </a:lnTo>
                <a:cubicBezTo>
                  <a:pt x="0" y="74880"/>
                  <a:pt x="45709" y="29171"/>
                  <a:pt x="102095" y="29171"/>
                </a:cubicBezTo>
                <a:lnTo>
                  <a:pt x="2303859" y="29170"/>
                </a:lnTo>
                <a:lnTo>
                  <a:pt x="2303859" y="0"/>
                </a:lnTo>
                <a:lnTo>
                  <a:pt x="2362200" y="58341"/>
                </a:lnTo>
                <a:lnTo>
                  <a:pt x="2303859" y="116682"/>
                </a:lnTo>
                <a:lnTo>
                  <a:pt x="2303859" y="87511"/>
                </a:lnTo>
                <a:lnTo>
                  <a:pt x="102096" y="87511"/>
                </a:lnTo>
                <a:lnTo>
                  <a:pt x="102095" y="87511"/>
                </a:lnTo>
                <a:cubicBezTo>
                  <a:pt x="77930" y="87511"/>
                  <a:pt x="58340" y="107101"/>
                  <a:pt x="58340" y="131266"/>
                </a:cubicBezTo>
                <a:lnTo>
                  <a:pt x="58341" y="233363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581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030a0"/>
                </a:solidFill>
                <a:latin typeface="Verdana"/>
              </a:rPr>
              <a:t>Integrasi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219320" y="1676520"/>
            <a:ext cx="20574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19920" y="1600200"/>
            <a:ext cx="1752480" cy="91692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erlukan PEREKAT (unsur pemersat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276720" y="3048120"/>
            <a:ext cx="20574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ntitas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57200" y="3809880"/>
            <a:ext cx="11430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447920" y="4572000"/>
            <a:ext cx="99036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209680" y="5562720"/>
            <a:ext cx="190512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ha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6172200" y="3962520"/>
            <a:ext cx="18288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uda 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952880" y="4876920"/>
            <a:ext cx="236232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g Saka Merah Puti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Straight Arrow Connector 13"/>
          <p:cNvCxnSpPr/>
          <p:nvPr/>
        </p:nvCxnSpPr>
        <p:spPr>
          <a:xfrm>
            <a:off x="3580920" y="1905120"/>
            <a:ext cx="2210760" cy="216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3" name="Straight Arrow Connector 18"/>
          <p:cNvCxnSpPr/>
          <p:nvPr/>
        </p:nvCxnSpPr>
        <p:spPr>
          <a:xfrm flipH="1">
            <a:off x="5333400" y="2361960"/>
            <a:ext cx="610200" cy="61020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4" name="Straight Arrow Connector 20"/>
          <p:cNvCxnSpPr/>
          <p:nvPr/>
        </p:nvCxnSpPr>
        <p:spPr>
          <a:xfrm flipH="1">
            <a:off x="1675800" y="3199320"/>
            <a:ext cx="1524600" cy="68652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5" name="Straight Arrow Connector 22"/>
          <p:cNvCxnSpPr/>
          <p:nvPr/>
        </p:nvCxnSpPr>
        <p:spPr>
          <a:xfrm flipH="1">
            <a:off x="2514240" y="3504960"/>
            <a:ext cx="915120" cy="106740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6" name="Straight Arrow Connector 24"/>
          <p:cNvCxnSpPr/>
          <p:nvPr/>
        </p:nvCxnSpPr>
        <p:spPr>
          <a:xfrm flipH="1">
            <a:off x="3886200" y="3580920"/>
            <a:ext cx="76680" cy="175356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7" name="Straight Arrow Connector 27"/>
          <p:cNvCxnSpPr/>
          <p:nvPr/>
        </p:nvCxnSpPr>
        <p:spPr>
          <a:xfrm>
            <a:off x="4799520" y="3505320"/>
            <a:ext cx="610200" cy="121968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8" name="Straight Arrow Connector 30"/>
          <p:cNvCxnSpPr/>
          <p:nvPr/>
        </p:nvCxnSpPr>
        <p:spPr>
          <a:xfrm>
            <a:off x="5486400" y="3276360"/>
            <a:ext cx="915120" cy="53388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31852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Verdana"/>
              </a:rPr>
              <a:t>Identitas Nasional sebagai PEREK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62120" y="1770120"/>
            <a:ext cx="22096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kuatan Integrasi SOS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410080" y="1676520"/>
            <a:ext cx="22100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kuatan Integrasi KEBUD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Straight Arrow Connector 6"/>
          <p:cNvCxnSpPr/>
          <p:nvPr/>
        </p:nvCxnSpPr>
        <p:spPr>
          <a:xfrm flipH="1">
            <a:off x="2284200" y="988920"/>
            <a:ext cx="2160" cy="5356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3" name="Straight Arrow Connector 9"/>
          <p:cNvCxnSpPr/>
          <p:nvPr/>
        </p:nvCxnSpPr>
        <p:spPr>
          <a:xfrm flipH="1">
            <a:off x="6399000" y="991800"/>
            <a:ext cx="3600" cy="610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34" name="TextBox 10"/>
          <p:cNvSpPr/>
          <p:nvPr/>
        </p:nvSpPr>
        <p:spPr>
          <a:xfrm>
            <a:off x="2819520" y="2666880"/>
            <a:ext cx="28191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INEKA TUNGGAL IKA (semboyan neg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80880" y="380988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ing-masing individu MANUSIA INDONES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495680" y="3581280"/>
            <a:ext cx="2719440" cy="838440"/>
          </a:xfrm>
          <a:prstGeom prst="ellipse">
            <a:avLst/>
          </a:prstGeom>
          <a:solidFill>
            <a:srgbClr val="a3b2c1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A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172200" y="4952880"/>
            <a:ext cx="20574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352680" y="6095880"/>
            <a:ext cx="259092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kasi Kebud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609480" y="541008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a KEBANGSAAN (pengabdi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6324480" y="579132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ktifitas terhadap globalis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eft-Right-Up Arrow 17"/>
          <p:cNvSpPr/>
          <p:nvPr/>
        </p:nvSpPr>
        <p:spPr>
          <a:xfrm rot="10800000">
            <a:off x="3352680" y="1828440"/>
            <a:ext cx="1828800" cy="609480"/>
          </a:xfrm>
          <a:custGeom>
            <a:avLst/>
            <a:gdLst>
              <a:gd name="textAreaLeft" fmla="*/ 75960 w 1828800"/>
              <a:gd name="textAreaRight" fmla="*/ 1752840 w 1828800"/>
              <a:gd name="textAreaTop" fmla="*/ 380880 h 609480"/>
              <a:gd name="textAreaBottom" fmla="*/ 533520 h 609480"/>
            </a:gdLst>
            <a:ahLst/>
            <a:rect l="textAreaLeft" t="textAreaTop" r="textAreaRight" b="textAreaBottom"/>
            <a:pathLst>
              <a:path w="1828800" h="609600">
                <a:moveTo>
                  <a:pt x="0" y="457200"/>
                </a:moveTo>
                <a:lnTo>
                  <a:pt x="152400" y="304800"/>
                </a:lnTo>
                <a:lnTo>
                  <a:pt x="152400" y="381000"/>
                </a:lnTo>
                <a:lnTo>
                  <a:pt x="838200" y="381000"/>
                </a:lnTo>
                <a:lnTo>
                  <a:pt x="838200" y="152400"/>
                </a:lnTo>
                <a:lnTo>
                  <a:pt x="762000" y="152400"/>
                </a:lnTo>
                <a:lnTo>
                  <a:pt x="914400" y="0"/>
                </a:lnTo>
                <a:lnTo>
                  <a:pt x="1066800" y="152400"/>
                </a:lnTo>
                <a:lnTo>
                  <a:pt x="990600" y="152400"/>
                </a:lnTo>
                <a:lnTo>
                  <a:pt x="990600" y="381000"/>
                </a:lnTo>
                <a:lnTo>
                  <a:pt x="1676400" y="381000"/>
                </a:lnTo>
                <a:lnTo>
                  <a:pt x="1676400" y="304800"/>
                </a:lnTo>
                <a:lnTo>
                  <a:pt x="1828800" y="457200"/>
                </a:lnTo>
                <a:lnTo>
                  <a:pt x="1676400" y="609600"/>
                </a:lnTo>
                <a:lnTo>
                  <a:pt x="1676400" y="533400"/>
                </a:lnTo>
                <a:lnTo>
                  <a:pt x="152400" y="533400"/>
                </a:lnTo>
                <a:lnTo>
                  <a:pt x="152400" y="6096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Bent-Up Arrow 18"/>
          <p:cNvSpPr/>
          <p:nvPr/>
        </p:nvSpPr>
        <p:spPr>
          <a:xfrm rot="10800000">
            <a:off x="1541160" y="2858760"/>
            <a:ext cx="850680" cy="731880"/>
          </a:xfrm>
          <a:custGeom>
            <a:avLst/>
            <a:gdLst>
              <a:gd name="textAreaLeft" fmla="*/ 0 w 850680"/>
              <a:gd name="textAreaRight" fmla="*/ 759240 w 850680"/>
              <a:gd name="textAreaTop" fmla="*/ 549000 h 731880"/>
              <a:gd name="textAreaBottom" fmla="*/ 732240 h 731880"/>
            </a:gdLst>
            <a:ahLst/>
            <a:rect l="textAreaLeft" t="textAreaTop" r="textAreaRight" b="textAreaBottom"/>
            <a:pathLst>
              <a:path w="850900" h="731837">
                <a:moveTo>
                  <a:pt x="0" y="548878"/>
                </a:moveTo>
                <a:lnTo>
                  <a:pt x="576461" y="548878"/>
                </a:lnTo>
                <a:lnTo>
                  <a:pt x="576461" y="182959"/>
                </a:lnTo>
                <a:lnTo>
                  <a:pt x="484982" y="182959"/>
                </a:lnTo>
                <a:lnTo>
                  <a:pt x="667941" y="0"/>
                </a:lnTo>
                <a:lnTo>
                  <a:pt x="850900" y="182959"/>
                </a:lnTo>
                <a:lnTo>
                  <a:pt x="759420" y="182959"/>
                </a:lnTo>
                <a:lnTo>
                  <a:pt x="759420" y="731837"/>
                </a:lnTo>
                <a:lnTo>
                  <a:pt x="0" y="731837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ight Arrow 19"/>
          <p:cNvSpPr/>
          <p:nvPr/>
        </p:nvSpPr>
        <p:spPr>
          <a:xfrm>
            <a:off x="3124080" y="3886200"/>
            <a:ext cx="11430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a3b2c1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Bent-Up Arrow 21"/>
          <p:cNvSpPr/>
          <p:nvPr/>
        </p:nvSpPr>
        <p:spPr>
          <a:xfrm rot="5400000">
            <a:off x="5556960" y="4696560"/>
            <a:ext cx="654120" cy="271440"/>
          </a:xfrm>
          <a:custGeom>
            <a:avLst/>
            <a:gdLst>
              <a:gd name="textAreaLeft" fmla="*/ 0 w 654120"/>
              <a:gd name="textAreaRight" fmla="*/ 620280 w 654120"/>
              <a:gd name="textAreaTop" fmla="*/ 203760 h 271440"/>
              <a:gd name="textAreaBottom" fmla="*/ 271800 h 271440"/>
            </a:gdLst>
            <a:ahLst/>
            <a:rect l="textAreaLeft" t="textAreaTop" r="textAreaRight" b="textAreaBottom"/>
            <a:pathLst>
              <a:path w="654050" h="271462">
                <a:moveTo>
                  <a:pt x="0" y="203597"/>
                </a:moveTo>
                <a:lnTo>
                  <a:pt x="552252" y="203597"/>
                </a:lnTo>
                <a:lnTo>
                  <a:pt x="552252" y="67866"/>
                </a:lnTo>
                <a:lnTo>
                  <a:pt x="518319" y="67866"/>
                </a:lnTo>
                <a:lnTo>
                  <a:pt x="586185" y="0"/>
                </a:lnTo>
                <a:lnTo>
                  <a:pt x="654050" y="67866"/>
                </a:lnTo>
                <a:lnTo>
                  <a:pt x="620117" y="67866"/>
                </a:lnTo>
                <a:lnTo>
                  <a:pt x="620117" y="271462"/>
                </a:lnTo>
                <a:lnTo>
                  <a:pt x="0" y="271462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5" name="Straight Arrow Connector 23"/>
          <p:cNvCxnSpPr/>
          <p:nvPr/>
        </p:nvCxnSpPr>
        <p:spPr>
          <a:xfrm flipH="1">
            <a:off x="3504600" y="5333040"/>
            <a:ext cx="2515320" cy="2293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46" name="Straight Arrow Connector 25"/>
          <p:cNvCxnSpPr/>
          <p:nvPr/>
        </p:nvCxnSpPr>
        <p:spPr>
          <a:xfrm flipH="1">
            <a:off x="5714640" y="5486400"/>
            <a:ext cx="457920" cy="457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47" name="Straight Arrow Connector 27"/>
          <p:cNvCxnSpPr/>
          <p:nvPr/>
        </p:nvCxnSpPr>
        <p:spPr>
          <a:xfrm flipH="1">
            <a:off x="7617600" y="5411880"/>
            <a:ext cx="3960" cy="3052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AWASAN NUSANTA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89080" y="316080"/>
            <a:ext cx="838656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WAWASAN NASIONAL (SECARA UNIVERS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BENARAN YANG HAKIKI (DATANG DARI TUHAN Y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NUSIA X MANUSIA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BEDAAN-PERBED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NDAP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HIDU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PERC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BU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EKA RAG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REKAT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UNTUK KEUTUH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TUK JATI DIRI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TUK KELANGSUNGAN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ANGSA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PEMERINTAHAN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RLU KONS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AWASAN NASIONAL (PEREKA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1523880" y="32004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2438280" y="4648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828800" y="228600"/>
            <a:ext cx="38098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517680" y="264960"/>
            <a:ext cx="81691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DUP :  - PERKEMBANGAN LINKUNGAN STRATEG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IS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A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T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GG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JUANGAN, 3 FAKTOR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BUMI / RUANG DIMANA BANGSA ITU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JIWA, TEKAD &amp; SEMANGAT MANUSIA / RAKY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LINGKUNGAN SEKITAR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PANDANG SU BANGSA YANG TELAH MENEGARA TT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I DAN LINGKUNGAN DALAM EKSISTENSINYA YANG SERB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HUBUNG SERTA PEMBANGUNAN DI DALAM BERNEG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TENGAH-TENGAH LINGKUNGAN, BAIK NASIONAL (LOKAL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INSIONAL), REGIONAL MAUPUN GLOB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57200" y="304920"/>
            <a:ext cx="129528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752480" y="990720"/>
            <a:ext cx="609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666880" y="1219320"/>
            <a:ext cx="0" cy="1752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94120" y="316080"/>
            <a:ext cx="850464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BENTUK &amp; DIJIWAI OLEH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HAM KEKUA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POLI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N-PAHAM KEKUASAAN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H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 TE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 OPERASIONAL DAPAT DILAKUKAN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DUK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WUJUDKAN &amp; DIPERTANGGUNGJAWAB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AHAM MACHIAVELLI (ABAD XVI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AVELL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KAR ILMU POLITIK REP. FLORENC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IA U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AKAN BERTAH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DALAM MEREBUT &amp; MEMPERTAHANKAN KEKUASAAN SEG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DIHALAL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UNTUK MENJAGA KEKUASAAN RESIM. ADU DOMBA S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YANG KUAT YANG MENANG &amp; DAPAT BERT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2895480" y="2819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905120" y="4572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364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3280" y="417600"/>
            <a:ext cx="843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PAHAM NAPOLEON BONAPAR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KOH REVOLUSIONER TENTANG CARA PAND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OH PELAKU PAHAM MACHIAV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TAN LOGISTIK &amp; EKONO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UKUNG OLEH IPTEK &amp;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NTUK KEKUATAN HAN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NDUDUKI &amp; MENJAJA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PAHAM CLAUSEWI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M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PAHAM FEURBACK &amp; HEG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EMBANGAN :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APITAL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UN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KSPANSI BERDASARKAN     EM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343400" y="533412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6805800" cy="84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b0f0"/>
                </a:solidFill>
                <a:latin typeface="Verdana"/>
              </a:rPr>
              <a:t>Implikasi WN dengan hukum yang berlak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57200" y="1665360"/>
            <a:ext cx="4906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DUDUK : WN &amp; org Asing dlm 1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33520" y="2673360"/>
            <a:ext cx="39672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kum yang berlaku di negara 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85800" y="4495680"/>
            <a:ext cx="396252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ang agraria : hak milik, hak guna bangunan dan hak guna usah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Straight Arrow Connector 7"/>
          <p:cNvCxnSpPr/>
          <p:nvPr/>
        </p:nvCxnSpPr>
        <p:spPr>
          <a:xfrm flipH="1">
            <a:off x="3121920" y="2108160"/>
            <a:ext cx="396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03" name="TextBox 8"/>
          <p:cNvSpPr/>
          <p:nvPr/>
        </p:nvSpPr>
        <p:spPr>
          <a:xfrm>
            <a:off x="5181480" y="3733920"/>
            <a:ext cx="17668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181480" y="5638680"/>
            <a:ext cx="1676520" cy="368280"/>
          </a:xfrm>
          <a:prstGeom prst="rect">
            <a:avLst/>
          </a:prstGeom>
          <a:solidFill>
            <a:srgbClr val="e46c0a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ng 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8001000" y="3733920"/>
            <a:ext cx="6094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7696080" y="5638680"/>
            <a:ext cx="1219320" cy="36828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Straight Arrow Connector 13"/>
          <p:cNvCxnSpPr/>
          <p:nvPr/>
        </p:nvCxnSpPr>
        <p:spPr>
          <a:xfrm flipV="1">
            <a:off x="4266720" y="3962160"/>
            <a:ext cx="68652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8" name="Straight Arrow Connector 15"/>
          <p:cNvCxnSpPr/>
          <p:nvPr/>
        </p:nvCxnSpPr>
        <p:spPr>
          <a:xfrm>
            <a:off x="4266720" y="5334120"/>
            <a:ext cx="68652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9" name="Straight Arrow Connector 17"/>
          <p:cNvCxnSpPr/>
          <p:nvPr/>
        </p:nvCxnSpPr>
        <p:spPr>
          <a:xfrm>
            <a:off x="7009920" y="3886200"/>
            <a:ext cx="83916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0" name="Straight Arrow Connector 19"/>
          <p:cNvCxnSpPr/>
          <p:nvPr/>
        </p:nvCxnSpPr>
        <p:spPr>
          <a:xfrm>
            <a:off x="7010280" y="5791320"/>
            <a:ext cx="5342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1" name="Straight Arrow Connector 21"/>
          <p:cNvCxnSpPr/>
          <p:nvPr/>
        </p:nvCxnSpPr>
        <p:spPr>
          <a:xfrm flipH="1">
            <a:off x="912600" y="3141720"/>
            <a:ext cx="3600" cy="1296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58040" y="316080"/>
            <a:ext cx="8910000" cy="59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M LENIN (ABAD XIX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KASI PAHAM CLAUSEWI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: KELANJUTAN POLITIK DENGAN CARA KEKERAS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 ZHEDONG : …………… CARA PERTUMPAHAN DAR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/ PERTUMPAHAN DARAH / REVOLUSI DI MANAPU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30 S/PK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ODUK KOMODITI EKSPOR RRC (196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ORI GEOPOLIT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: BUM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K  : KEKUATAN YANG DIDASARKAN PADA PERTIMBANGA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TIMBANGAN DALAM MENENTUKAN ALTERNAT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IJAKSANAAN DASAR NASIONALUNTUK MEWUJUD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FREDERICH RATZEL. (ABAD 1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USAN : ILMU BUMI POLITIK SECARA ILMIAH &amp; UNIVERS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8520" y="239760"/>
            <a:ext cx="77839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SIR H. MACKIN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BENUA ( = KEKUATAN DI DARAT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ANG SIAPA DAPAT MENGUASAU “DAERAH JANTUNG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URASIA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NGUASAI “PULAU DUNIA”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SIR W. RALEIGH &amp; ALFRED T. MA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BAHARI ( = KEKUATAN BAHAR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ANG SIAPA MENGUASAI LAUT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DAGANG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AYAAN DUNI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W. MITCHEL, A. SAVERSKY, g. DOUHET &amp; JOHN 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DAERAH BATA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WASAN KOMBIN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NICOLAS SPYK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BENTUK DAN DIJIW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HAM KEKUASAAN BANG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POLITIK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91240" y="254160"/>
            <a:ext cx="862524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M KEKUASAAN BANGSA INDONES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INDONESIA CINTA DAMAI, TETAPI LEBIH CINTA KEMERDEKAA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KEKUASA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ADU KEKU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POLITIK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T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&amp; DAMAI YANG SESUAI KONDISI-KONDI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SA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TELASI GEOGRAF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NG NEGARA / STAT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CHIPELAGO CONCEP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A DENGAN NEGARA BARA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ANAN LA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SAR PEMIKIRAN PEMBINAAN DAN PENGEMBANGAN WA. NAS.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AR BELAKANG FILOSOFI (WASANT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FALSAFAH PANCASILA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/WAWASAN KEBANGSAAN MENGHENDAK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UTUHAN DAN KEBERSAMAAN AKAN TETAPI MASIH TET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HORMATI &amp; MEMBERIKAN KEBEBASAN DALAM MENGAN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MENGAMALKAN AGAMANYA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4876920" y="114300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4191120" y="114300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2286000" y="22860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1676520" y="3429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89080" y="264960"/>
            <a:ext cx="855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NASIONAL YG DIANUT DAN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KAN BANGSA INDONESIA MEMBERIKAN KEBEBASAN DL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KSPRESIKAN HAM-NYA, NAMUN DMKHRS MENGING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A &amp; MENGHORMATI HAK ORANG LAIN, SHG MENIMBULK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KAP TOLERANSI &amp; KERJASAMA AGAR TDK TJD BENTU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I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 MENGUTAMAKAN KEUTUHAN BGS &amp; NEGTETAPI H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PERHATIKAN, MENGHORMATI &amp; MENAMPUNGKEPENTING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ONGAN SK BGS &amp; PEROR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V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. MEMERLUKAN MUSYAWARAH UNTUK MENCAPA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FAKAT TETAPI TETAP MENGHARGAI &amp; MENGHORMA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BEDAAN PENDAP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V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. MEMBERIKAN KEBEBASAN UNTUK MENCAP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EJAHTERAAN ORANG PER ORANG SE-TINGGI-TINGGINY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N TETAPI HARUS MEMPERTAHANKAN KEADILAN BAG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ERAH PENGHASIL, DAERAH LAIN, MAUPUN ORANG 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 SEHINGGA TERCAPAI KEMAKMURAN YANG MEMENUH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UTUHAN MINIM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2760" y="264960"/>
            <a:ext cx="8397720" cy="59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MERUPAKAN PANC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 SEBAGAI FALSAFAH HIDUP BANG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A YANG DIKEHENDAKI 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CIPTANYA PERSATUAN &amp; KESATUAN DGN TDK MENGHILANGK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I, SIFAT DAN KARAKTER DARI KEBINEKAAN UNSUR-UNSUR PBT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. (SK BGS ETNIS &amp; GOL SERTA DAERAH TERSEB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MIKIRAN BERDASARKAN ASPEK KEWILAYAHAN NUSANTARA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WILAYAHAN NUSANTAR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PEK GEOGRAF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GEOGRAFIS JADI PENTING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FI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LAYAH YANG TERS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BENTUK SECARA ALAM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DI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OD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MBENTUK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ANG/WADAH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UANG GRK HDP &amp; KHDPN B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AMBILAN KEPUTUSAN / KEBIJ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KAP &amp; TATA LAKU NEGAR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ARU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BALIK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AutoShape 3"/>
          <p:cNvSpPr/>
          <p:nvPr/>
        </p:nvSpPr>
        <p:spPr>
          <a:xfrm rot="5467200">
            <a:off x="647280" y="914400"/>
            <a:ext cx="533520" cy="457200"/>
          </a:xfrm>
          <a:custGeom>
            <a:avLst/>
            <a:gdLst>
              <a:gd name="textAreaLeft" fmla="*/ 0 w 533520"/>
              <a:gd name="textAreaRight" fmla="*/ 457560 w 533520"/>
              <a:gd name="textAreaTop" fmla="*/ 30492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3124080" y="6019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914400" y="4419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67560" y="228600"/>
            <a:ext cx="815436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AK GEOGRAFIS INDONESI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SISI SILA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ATEG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AKTERISTIK B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AK B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/ 8 / 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ITORIALE ZEE EN MARITIEME KRINGEN ORDONANTIE TH ‘3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BAR WILAYAH IND. 3 MIL DIUKUR DARI GARIS TERENDAH AIR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ING-MASING PANTA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DAK MENJAMIN KE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KLARASI DJUANDA - 13 DESEMBER 19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ALA PEAIRAN YANG MENGHUBUNGKAN PULAU-PUL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INDONESIA TERMASUK DALAM NEGER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NTUAN BATAS LAUTAN TERITORIAL 12 MIL DIUKUR D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IS YANG MENGHUBUNGKAN TITIK-TITIK UJUNG TERLU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A PULAU-PULAU D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YANG TERJADI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INDONESI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S WILAYAH BERUBAH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 JUTA KM²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762120" y="609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365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41360" y="1905120"/>
            <a:ext cx="86295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12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A TH 1982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CLOS ‘8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VENSI PBB TTG HKM LAU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. DIAKUI &amp; DICANTUM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ATIFIKASI MELALUI UU NO. 17/85 TGL. 31/12/85 &amp; 16/11/93, DIRATIFIK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MBALI OLEH GO NEGA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UKUM POSI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TINGNYA UNCLOS ‘82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UPAYA PEMANFAATAN LAUT BAGI KEPENTINGAN KESEJAHTE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TAMBAHNYA Z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 KONTINEN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IRAN LU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ERMASUK KEKAYAAN ALAM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SARANA TRANSPORTAS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SARANA WISAT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GKAT KERAWANAN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peta_indonesia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90880" y="417600"/>
            <a:ext cx="8803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POLITIK INDONESI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FI IND. SCR KONTEKSTUAL MENGANDUNG KEUNGGU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 KELEMAHAN, SHG DLM MRMSK KEBIJAKAN POLITIK HAR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ERMATI SECARA UTUH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IAP PRMS KEBIJAKAN NASIONAL HARUS MEMILIKI WAWAS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WILAYAHAN / RUANG HDP BGS YG DIATUR POLITIK KETATANEGA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ASPEK SOSIAL BUDA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AYA / KEBUDAYAA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KUATAN BU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 BUDI + FANTASI (PERASAAN) + KEHENDA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TA, RASA, KAR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SIAL BUDAY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LAH SATU ASPEK 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 DINAMIK 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TK SCR ALAMIAH DARI POLA TINGKAH LA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T BFGS SBG PENGHUBUNG (JALUR SOSI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BEDAAN : CIRI ALAMIAH; RUANG HDP / ASAL US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AMA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RELIGI &amp; UPACARA AGAMA; SISTEM MASYARAKA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. PENGETAHUAN; BAHASA; KESERASIAN; SI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A PENCARIAN; SIST. TEKNOLOGI &amp; PERAL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12193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0280" y="76320"/>
            <a:ext cx="89773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FAT BUDA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ISAN YANG MEMAK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KATAN KEDALAM (SECARA BATINIA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E N S I T I 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NTIMEN KELOMP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JADIKAN PERISAI / PELINDUNG UNTUK MENUT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TIDAK MAMPUAN MENGHADAPI TANTANGAN LING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 DIANGGAP MENGANCAM EKSISTEN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SI KONFLIK &gt;&gt;&gt;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DARAN NASIONAL MASYARAKAT YANG RELA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IH RENDAH KRN TERBATAS JUMLAH MASY. TERDID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 DINAM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KEHENDAK BERSAT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TETAP MENGAKUI &amp; MENERIMA EKSISTENSI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LAI PERSATUAN &amp; KESATUAN BGS IND. TDK AKAN TERWUJUD S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KAP &amp; SEMPURNA, HANYA DENGAN SEKALI USAHA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KRAR SUMPAH PEMUDA) ATAU SCR POLITIK (17 AGS ‘4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3"/>
          <p:cNvSpPr/>
          <p:nvPr/>
        </p:nvSpPr>
        <p:spPr>
          <a:xfrm flipH="1" rot="16188000">
            <a:off x="4148280" y="-993600"/>
            <a:ext cx="236880" cy="4725720"/>
          </a:xfrm>
          <a:custGeom>
            <a:avLst/>
            <a:gdLst>
              <a:gd name="textAreaLeft" fmla="*/ 360 w 236880"/>
              <a:gd name="textAreaRight" fmla="*/ 85680 w 236880"/>
              <a:gd name="textAreaTop" fmla="*/ 123120 h 4725720"/>
              <a:gd name="textAreaBottom" fmla="*/ 4602600 h 47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Freeform 4"/>
          <p:cNvSpPr/>
          <p:nvPr/>
        </p:nvSpPr>
        <p:spPr>
          <a:xfrm>
            <a:off x="1346040" y="2286000"/>
            <a:ext cx="1092240" cy="5335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688" h="336">
                <a:moveTo>
                  <a:pt x="688" y="0"/>
                </a:moveTo>
                <a:cubicBezTo>
                  <a:pt x="408" y="44"/>
                  <a:pt x="128" y="88"/>
                  <a:pt x="64" y="144"/>
                </a:cubicBezTo>
                <a:cubicBezTo>
                  <a:pt x="0" y="200"/>
                  <a:pt x="264" y="304"/>
                  <a:pt x="3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Freeform 5"/>
          <p:cNvSpPr/>
          <p:nvPr/>
        </p:nvSpPr>
        <p:spPr>
          <a:xfrm>
            <a:off x="330120" y="2120760"/>
            <a:ext cx="2032200" cy="1536840"/>
          </a:xfrm>
          <a:custGeom>
            <a:avLst/>
            <a:gdLst>
              <a:gd name="textAreaLeft" fmla="*/ 0 w 2032200"/>
              <a:gd name="textAreaRight" fmla="*/ 2032560 w 203220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1280" h="968">
                <a:moveTo>
                  <a:pt x="1280" y="56"/>
                </a:moveTo>
                <a:cubicBezTo>
                  <a:pt x="768" y="28"/>
                  <a:pt x="256" y="0"/>
                  <a:pt x="128" y="152"/>
                </a:cubicBezTo>
                <a:cubicBezTo>
                  <a:pt x="0" y="304"/>
                  <a:pt x="256" y="636"/>
                  <a:pt x="512" y="9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533520" y="5181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05640" y="279360"/>
            <a:ext cx="867852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A YANG HARUS DILAKUKAN : 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ENJAGA &amp; MEMELIHARA NILAI PERSATUAN &amp; KESATU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S MENERUS BERKESINAMBUNGAN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JALAN DENGAN DINAMIKA LINGKU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K M’HINDARI POTENSI KONFLI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SES SOSIAL YG AKOMODA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ING MEMBUKA 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AHAMI EKSISTENSI BUDAYA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PAT MENERIMA &amp; MEMBE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ES SOSIAL DALAM KESELURUHAN UPAYA MENJAGA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IONAL SANGAT MEMBUTUHK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MAAN PERSEP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NTARA MASY. TTG EKSISTEN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TUAN CARA PAND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AYA YANG BERAG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PI MEMILIKI SEMANGAT UNTUK MEMBINA KEHIDUP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RA HARMON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ASPEK KESEJARAH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4114800" y="42670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Verdana"/>
              </a:rPr>
              <a:t>Azas-azas kewarganegara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57200" y="1600200"/>
            <a:ext cx="51814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sip – prinsip umum penentuan 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80880" y="2514600"/>
            <a:ext cx="3353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keturunan : ius sanguin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7920" y="3200400"/>
            <a:ext cx="3429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tempat kelahiran : ius s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886200" y="3886200"/>
            <a:ext cx="4724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campuran : ius sanguinis dan ius s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Straight Arrow Connector 9"/>
          <p:cNvCxnSpPr/>
          <p:nvPr/>
        </p:nvCxnSpPr>
        <p:spPr>
          <a:xfrm flipH="1">
            <a:off x="2970000" y="2058480"/>
            <a:ext cx="3600" cy="3819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8" name="Straight Arrow Connector 11"/>
          <p:cNvCxnSpPr/>
          <p:nvPr/>
        </p:nvCxnSpPr>
        <p:spPr>
          <a:xfrm flipH="1">
            <a:off x="4417200" y="2135160"/>
            <a:ext cx="3960" cy="915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9" name="Straight Arrow Connector 13"/>
          <p:cNvCxnSpPr/>
          <p:nvPr/>
        </p:nvCxnSpPr>
        <p:spPr>
          <a:xfrm flipH="1">
            <a:off x="5484600" y="2134800"/>
            <a:ext cx="3600" cy="1600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0" name="TextBox 14"/>
          <p:cNvSpPr/>
          <p:nvPr/>
        </p:nvSpPr>
        <p:spPr>
          <a:xfrm>
            <a:off x="228600" y="4952880"/>
            <a:ext cx="57913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lian darah keluarga, kewarganegaraan orang t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76320" y="5589720"/>
            <a:ext cx="73753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erah atw tempat dimana dilahirkan : USA, KANADA, AUSTRA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2" name="Straight Arrow Connector 17"/>
          <p:cNvCxnSpPr/>
          <p:nvPr/>
        </p:nvCxnSpPr>
        <p:spPr>
          <a:xfrm flipH="1">
            <a:off x="607320" y="2973240"/>
            <a:ext cx="3960" cy="1829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 flipH="1">
            <a:off x="2970000" y="3735000"/>
            <a:ext cx="3600" cy="1981800"/>
          </a:xfrm>
          <a:prstGeom prst="straightConnector1">
            <a:avLst/>
          </a:prstGeom>
          <a:ln w="28440">
            <a:solidFill>
              <a:srgbClr val="0000ff"/>
            </a:solidFill>
            <a:prstDash val="dashDot"/>
            <a:miter/>
            <a:tailEnd len="med" type="arrow" w="med"/>
          </a:ln>
        </p:spPr>
      </p:cxnSp>
      <p:sp>
        <p:nvSpPr>
          <p:cNvPr id="124" name="TextBox 20"/>
          <p:cNvSpPr/>
          <p:nvPr/>
        </p:nvSpPr>
        <p:spPr>
          <a:xfrm>
            <a:off x="3200400" y="6324480"/>
            <a:ext cx="5715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sip keuntungan bagi negara nya : Pakistan, In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5" name="Straight Arrow Connector 22"/>
          <p:cNvCxnSpPr/>
          <p:nvPr/>
        </p:nvCxnSpPr>
        <p:spPr>
          <a:xfrm>
            <a:off x="7924680" y="4343400"/>
            <a:ext cx="76680" cy="1829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16720" y="264960"/>
            <a:ext cx="8672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DAULATAN SRIWIJAY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AJAAN MAJAPAH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WUJUDKAN KESATUAN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AN FALSAFAH NE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UM AD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 CR PAND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GAT BER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GAN : BHINEKA TUNGGAL IKA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UDAH 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HANNA DHARM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GR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UH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NGAPA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HUN 19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LAI ADA NUANSA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HIR KONSEP BARU &amp; MOD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UJUDNYA LAHIRNYA PROKLAMASI KEMERDEKAAN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KLAMASI PENEGAKAN NEGARA MERD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EDI OETOMO ( 20 MEI 1908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L LAHIRNYA SEMANGAT KEBANGSAAN (KEBANGKITAN NAS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3657600" y="304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4952880" y="16765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Freeform 5"/>
          <p:cNvSpPr/>
          <p:nvPr/>
        </p:nvSpPr>
        <p:spPr>
          <a:xfrm>
            <a:off x="6095880" y="28195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rc 6"/>
          <p:cNvSpPr/>
          <p:nvPr/>
        </p:nvSpPr>
        <p:spPr>
          <a:xfrm flipH="1">
            <a:off x="1599480" y="4952880"/>
            <a:ext cx="609480" cy="30492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990720" y="9144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69000" y="76320"/>
            <a:ext cx="7872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GAT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AL DR KONSEPSI / CARA PANDANG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IND. YANG DICETUSKAN DALAM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EMPAH PEMUDA (20 OKTOBER 192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 NUSA, SATU BANGSA, SATU BAHA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 RAYA DIKUMANDANG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KLAMASI 17 AGUSTUS 19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SI SEMANGAT KEBANGSA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PERTAHANKAN PERSATUAN BANGSA IND. D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JAGA KESATUAN WILAYAH NK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. R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RISAN KOLONIAL HINDIA B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. PERAIR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IL. (DEKI. DJUAN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WUJUD WIL YANG UTUH (SATU KESATUAN NK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SI NU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676520" y="1600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14920" y="341280"/>
            <a:ext cx="84729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EMBANGAN WAWASAN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SANT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KATAN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BENUA AD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L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BAHARI AL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DIRGANTARA AU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HANKAMNAS ( TERPADU &amp; TERINTEGRAS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MINAR HANKAM I (‘66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WAWASAN NUSANTARA B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ANTARA MRUPAKAN KONSEPSI DALAM MEMANFAAT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TELASI GEOGRAFI IND. DIMANA DIPERLUKAN KESERASI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ARA KE-3 WAWASAN TSB SBG HASIL PENGEJAWANT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L DORONGAN (MOTIVASI) &amp; RANGSANGAN DALAM USAH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APAI ASPIRASI BANGSA &amp; TUJUAN NEGAR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BAHARI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UPAKAN SU PANDANGAN, SATU ASPEK FALSAFAH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DIMANA PENGGUNAAN &amp; PENGUASAAN LAUT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LAH MUTLAK UNTUK PERKEMBANGAN KESEJAHTE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SERTA BANGSA DIMASA MENDATA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2133720" y="380880"/>
            <a:ext cx="75960" cy="457200"/>
          </a:xfrm>
          <a:custGeom>
            <a:avLst/>
            <a:gdLst>
              <a:gd name="textAreaLeft" fmla="*/ 0 w 75960"/>
              <a:gd name="textAreaRight" fmla="*/ 53280 w 759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2362320" y="60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5"/>
          <p:cNvSpPr/>
          <p:nvPr/>
        </p:nvSpPr>
        <p:spPr>
          <a:xfrm flipH="1" rot="16188000">
            <a:off x="5216400" y="-185760"/>
            <a:ext cx="236520" cy="4726080"/>
          </a:xfrm>
          <a:custGeom>
            <a:avLst/>
            <a:gdLst>
              <a:gd name="textAreaLeft" fmla="*/ 0 w 236520"/>
              <a:gd name="textAreaRight" fmla="*/ 85320 w 236520"/>
              <a:gd name="textAreaTop" fmla="*/ 123120 h 4726080"/>
              <a:gd name="textAreaBottom" fmla="*/ 4602960 h 472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rc 6"/>
          <p:cNvSpPr/>
          <p:nvPr/>
        </p:nvSpPr>
        <p:spPr>
          <a:xfrm flipH="1">
            <a:off x="457200" y="2438280"/>
            <a:ext cx="1447920" cy="38124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16360" y="264960"/>
            <a:ext cx="873648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KER HANKAM 19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HANKAMNA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AJI &amp; DITELI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HAN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AP. MPR : IV/MPR / 7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A.NAS.IND. DIWARNAI ILEH PENGALA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JARAH YG MENGINGINKAN TDK TERULANGNYA LAGI PERPEC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LINGK. BANGSA &amp; NEGARA IND. YG AKAN MLMHKAN PERJU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AM MENGISI KEMERDEKAAN UNTUK MEWUJUDKAN CITA-CIT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IONAL SBG HASIL KESEPAKATAN BERSAMA AGAR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. SETARA DENGAN BANGSA L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EMENTASI WASANTARA DALAM KEHIDUPAM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ANTA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LAI YANG MENJIWAI SEGENAP PERATURAN PER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ANG-UNDANGAN YANG BERLAKU DI SETIAP STR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SELURUH WILAYAH NK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PA DEMIKIAN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APA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2438280" y="18288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4"/>
          <p:cNvSpPr/>
          <p:nvPr/>
        </p:nvSpPr>
        <p:spPr>
          <a:xfrm flipH="1">
            <a:off x="1294920" y="1143000"/>
            <a:ext cx="3124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52280" y="163440"/>
            <a:ext cx="88552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GERTIAN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USAN-RUMUSAN PENGERTIAN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DASARKAN TAP MPR ‘93 &amp; ‘98 (GB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USANTARA YG MRPK WAWASAN NASIONAL Y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SUMBER PADA PANCASILA &amp; BDSRK UUD’45 YAITU C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DANG &amp; SIKAP BGS IND. MENGENAI DIRI &amp; LINGK DG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UTAMAKAN PERSATUAN &amp; KESATUAN BGS SER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TUAN WILAYAH DLM MENYELENGGARAKAN KHDP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MASYARAKAT, BBGS, BNEG UTK 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. PROF. DR. WAN US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KAKARYA WASANTARA &amp; TANNAS, 20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ADALAH CARA PANDANG BGS IND. MENGENAI DIRI D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AH AIRNYA SBG NEG KEPULAUAN DGN SEMUA ASPE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HIDUPAN YANG BER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AMBAH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ANTARA ADALAH GEOPOLITIK INDONES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. POKJA WASANTARA, LEMHANNAS 1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USULKAN MENJADI TAP MP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ANDANG &amp; SKP BGS IND. MENGENAI DIRI &amp; LINGK. YG SERB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AGAM &amp; BERNILAI STRATEGIS DGN MENGUTAMAK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ATUAN &amp; KESATUAN BGS SERTA KES. WILAYAH DL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YELENGGARAKAN KHDP BERMASY. BBGS &amp; BNEG.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12760" y="76320"/>
            <a:ext cx="893124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DASAR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UAN POKOK AJARAN DASAR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POLITIK INDONESI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PANDANG &amp; SKP BGS IND. MENGENAI DIRI &amp; LINGK. YG SERBA BERAGAM &amp; BERNILAI STRATEGIS DGN MENGUTAMAKAN PERS &amp; KESATUAN WILAYAH &amp; TETAP MENGHARGAI, MENGHORMATI KEBHINEKAAN DLM SETIAP ASPEK KHDPN NASIONAL UNTUK 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 IDIIL : 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PA PANCASILA MENJADI LANDASAN IDIIL WASANTARA 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MBUKAAN 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KUI SEBAGA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IOLOGI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AR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AFAH HDP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ERMINKAN NILAI-NILAI KESEIMBANGAN, KESERASIAN, KESELARASAN, PERS &amp; KES., KEKELUARGAAN, KEBERSAMAAN &amp; KEARIFAN DLM MEMBINA KHDP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175248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914400" y="4648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94480" y="189000"/>
            <a:ext cx="86817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BER MOTIVASI BAGI PERJUANGAN BANGS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ENATA KEHIDUPAN SECARA MAN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ILIKI KEKUATAN HUKUM YANG MENGIKAT PARA PENYELENGG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, PARA PEMIMPIN PEM. &amp; SELURUH RAKYAT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KHDPN BBGS. BNEG &amp; BMASY. SUMBER INSPIRASI UTK SEGA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GIATAN UTK MENINGKATKAN RAKYAT &amp; MARTABAT BGS SEC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UH &amp;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MPERTAHANKAN IDENTITAS &amp; JATI 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NINGKATKAN KELANGSUNGAN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RAIH CITA-CITA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, LAYAK SBG. LANDASAN IDIIL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DASAN KONSTITUSIONAL : UUD ‘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KEKAYAAN ALAM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UASAI NEGAR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UK KEMAKMURAN RAKY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ELOLA BERDASARKAN KEBIJAKAN TERPADU (UUD ‘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2743200" y="5791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990720" y="533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Freeform 5"/>
          <p:cNvSpPr/>
          <p:nvPr/>
        </p:nvSpPr>
        <p:spPr>
          <a:xfrm>
            <a:off x="152280" y="304920"/>
            <a:ext cx="228600" cy="1676160"/>
          </a:xfrm>
          <a:custGeom>
            <a:avLst/>
            <a:gdLst>
              <a:gd name="textAreaLeft" fmla="*/ 0 w 228600"/>
              <a:gd name="textAreaRight" fmla="*/ 228960 w 2286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44" h="1056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35080" y="312840"/>
            <a:ext cx="87562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 IND.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ARA KESAT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MENGAT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TUKK REPUBL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HAM GOL. KELOMPOK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SAAN DI TANGAN RAKY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OR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KUI OLEH UUD’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KEPENTINGAN NEGARA DI ATAS SEGALA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UD’45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STITUSI DASA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JD PEDOMAN POKOK BGS DAL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HIDUPAN, BERBANGSA, BERNEGARA &amp; BER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UD’45 LAYAK MENJADI LANDASAN KONSTITUSI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UR DASAR KONSEPSI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DAH (CONTOUR), ISI (CONTENT) &amp; TATA LAKU (CON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DAH (CONT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IPU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WILAY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SI KENEGA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ENDUDU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RA STRUKTUR POLITI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 STRUKTUR POLI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ELEMBAGAAN NEG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562720" y="3808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4"/>
          <p:cNvSpPr/>
          <p:nvPr/>
        </p:nvSpPr>
        <p:spPr>
          <a:xfrm flipH="1">
            <a:off x="2819520" y="1600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553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3809880" y="52578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V="1">
            <a:off x="3962520" y="5409720"/>
            <a:ext cx="7617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62520" y="5867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452880" y="0"/>
            <a:ext cx="823824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I ( CONTENT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IPUTI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PIRASI BGS YG BERKEMB. DI 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A-CITA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. (PEMB. UUD’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PU MENCIPTAKAN PERSATUAN &amp; KESATUAN KHDPN 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YL. POL. EK. SOS. BUD. &amp; HANK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HAL YANG ESENSIAL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REALISASI ASPIRASI BGS SEBAGAI KESEPAKATAN BERSAMA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WUJUDANNYA PENCAPAIAN CITA-CITA &amp;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PERSATUAN &amp; KESATUAN DLM KEBHINEKAAN MELIPUTI SEM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HIDUPA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TA LAKU ( CONDUCT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IL INTERAKSI ANTARA WADAH &amp; IS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 BERIS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TA LAKU BATIN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A LAKU LAHIR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3"/>
          <p:cNvSpPr/>
          <p:nvPr/>
        </p:nvSpPr>
        <p:spPr>
          <a:xfrm rot="5444400">
            <a:off x="3924360" y="-1941840"/>
            <a:ext cx="609480" cy="7389720"/>
          </a:xfrm>
          <a:custGeom>
            <a:avLst/>
            <a:gdLst>
              <a:gd name="textAreaLeft" fmla="*/ 0 w 609480"/>
              <a:gd name="textAreaRight" fmla="*/ 219960 w 609480"/>
              <a:gd name="textAreaTop" fmla="*/ 192600 h 7389720"/>
              <a:gd name="textAreaBottom" fmla="*/ 7197120 h 738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40400" y="189000"/>
            <a:ext cx="8710560" cy="66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TA LAKU BATIN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WA, SEMANGAT, 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TAS, JATI DIRI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KAD, BANGSA INDONE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RIBADI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TA LAKU LAHIR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DAKAN, PERBUATAN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SRKN. KEKELUARG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LAKU BANGSA IN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ERSAM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IMB. RS BANGSA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 CINTA TANAH AI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IONAL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 SEMUA ASPEK KEHIDU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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KIKAT 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UTUHAN NUSANTARA /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NGERTI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ANDANG YANG SELALU UTUH MENYELURUH DAL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GKUP NUSANTARA &amp; DEMI KEPENTING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AP WARGA BANG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FIKIR, BERSIKAP, BERTINDAK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RATUR NE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UH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 LEMB. NE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ENT. BANGSA &amp; NEG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6629400" y="1066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4419720" y="533520"/>
            <a:ext cx="914400" cy="1600200"/>
          </a:xfrm>
          <a:custGeom>
            <a:avLst/>
            <a:gdLst>
              <a:gd name="textAreaLeft" fmla="*/ 0 w 914400"/>
              <a:gd name="textAreaRight" fmla="*/ 914760 w 914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" h="1008">
                <a:moveTo>
                  <a:pt x="144" y="0"/>
                </a:moveTo>
                <a:lnTo>
                  <a:pt x="576" y="240"/>
                </a:lnTo>
                <a:lnTo>
                  <a:pt x="0" y="10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Freeform 5"/>
          <p:cNvSpPr/>
          <p:nvPr/>
        </p:nvSpPr>
        <p:spPr>
          <a:xfrm>
            <a:off x="1854360" y="2819520"/>
            <a:ext cx="2717640" cy="330120"/>
          </a:xfrm>
          <a:custGeom>
            <a:avLst/>
            <a:gdLst>
              <a:gd name="textAreaLeft" fmla="*/ 0 w 2717640"/>
              <a:gd name="textAreaRight" fmla="*/ 2717640 w 27176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712" h="208">
                <a:moveTo>
                  <a:pt x="80" y="96"/>
                </a:moveTo>
                <a:cubicBezTo>
                  <a:pt x="40" y="152"/>
                  <a:pt x="0" y="208"/>
                  <a:pt x="272" y="192"/>
                </a:cubicBezTo>
                <a:cubicBezTo>
                  <a:pt x="544" y="176"/>
                  <a:pt x="1128" y="88"/>
                  <a:pt x="17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3048120" y="2209680"/>
            <a:ext cx="3911400" cy="3812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464" h="240">
                <a:moveTo>
                  <a:pt x="2112" y="0"/>
                </a:moveTo>
                <a:cubicBezTo>
                  <a:pt x="2288" y="28"/>
                  <a:pt x="2464" y="56"/>
                  <a:pt x="2112" y="96"/>
                </a:cubicBezTo>
                <a:cubicBezTo>
                  <a:pt x="1760" y="136"/>
                  <a:pt x="880" y="188"/>
                  <a:pt x="0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7"/>
          <p:cNvSpPr/>
          <p:nvPr/>
        </p:nvSpPr>
        <p:spPr>
          <a:xfrm rot="5444400">
            <a:off x="5105520" y="3579480"/>
            <a:ext cx="303120" cy="5640480"/>
          </a:xfrm>
          <a:custGeom>
            <a:avLst/>
            <a:gdLst>
              <a:gd name="textAreaLeft" fmla="*/ 0 w 303120"/>
              <a:gd name="textAreaRight" fmla="*/ 109440 w 303120"/>
              <a:gd name="textAreaTop" fmla="*/ 146880 h 5640480"/>
              <a:gd name="textAreaBottom" fmla="*/ 5493600 h 564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blem hukum yang berkaitan dengan azas warga nega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280" y="2421000"/>
            <a:ext cx="439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41840" y="163440"/>
            <a:ext cx="877140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ZAZ 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TENTUAN-KETENTUAN / KAIDAH-KAIDAH DSR YG HRS DIPATUH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TAATI, DIPELIHARA &amp; DICIPT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AYA TETAP TAAT &amp; SETIA KOMP / UNSUR PBTK BANGS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HADAP KESEPAKAT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DIRI DAR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ENTINGAN YANG 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YANG 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ADILAN, KEJUJURAN, SOLIDAR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JASAMA &amp; KESETIAAN THDP IKRAR / KESEPAKAT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PELIHARA PERS &amp; KESATUAN DLM KEBHINEK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PENTINGAN YANG SAM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D WKT MEREBUT &amp; MENEGAKKAN KEMERDEK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D WKT MDPTK. TEK. DR DUNIA INTER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JUAN YANG SAMA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RCAPAINYA KESEJAHTERAAN / KEMAKMUR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RASA AMAN YANG LEBIH BAIK DARI KEADAAN SEBELUM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JUJUR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 YANG DILAKUKAN SESUAI REALITA &amp; ATURAN Y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LA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0948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7120" y="262080"/>
            <a:ext cx="9042840" cy="65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AR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ERLUKAN RS SETIAKAWANAN, MAU BERKORBAN TANP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INGGALKAN CIRI-CIRI &amp; KARAKTER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JA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ORDINASI, SLG PENGERTIAN SHG DIPEROLEH KER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LOMPO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 SINERGI YANG BA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ETI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P MEMEGANG TEGUH CITA-CITA BGS IND. (KESEPAKATAN BS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AH PAND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AH PANDANG KE DALAM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JAMIN PERWUJUDAN PERSATUAN &amp; KESATUAN SEGEN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AP, PEKA &amp; TANGGAP SERTA BERUSAHA MENCEGAH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TASI TIMBULNYA DISINTEGRASI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AH PEND. KELUAR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JAMIN KEPENTINGAN NAS. DLM DUNIA YG SERBA BERUBAH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KUT PERDAMAIAN DUNIA YANG ABAD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M KHDP INTERNASION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RUSAHA MENGAMANK. KEPENT. 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533520" y="5867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335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17800" y="239760"/>
            <a:ext cx="841644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KEDUDUKAN, FUNGSI &amp; TUJ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KEDUDU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MERUPAKAN LANDASAN NASIONAL DLM MENYELENGGAR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PS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LANDASAN IDI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UUD’45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LANDASAN KONSTITU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WASANTARA      LANDASAN VI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ANNAS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LANDASAN KONSEP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GBHN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LANDASAN OPER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FUNGSI :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PEDOMAN, MOTIVASI, DORONGAN &amp; RAMB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EGALA * KEBIJ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KEPUTUS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TIND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PERBU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UJUAN : MEWUJUDKAN RASA NASIONALISME YG TINGGI DI SEG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ASPEK KEHIDUPAN BANGSA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676520" y="1752480"/>
            <a:ext cx="3047760" cy="1981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3200400" y="17524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819520" y="2286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514600" y="2666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209680" y="3048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905120" y="34290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724280" y="37339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Kyoko_Fukada_040009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5003640" y="0"/>
            <a:ext cx="41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447920" y="5157720"/>
            <a:ext cx="536832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TIRAHAT SEJENAK DILANJUT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GGU DE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 memperoleh kewarganegaraan di Indones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609300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ahir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mohonan disetuj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warganegara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kawin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ghargaan (berjas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gangkat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ilang nya kewarganegaraan Indones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22554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warganegaraan Indonesia dapat kah hilang??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W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orang yg diang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orang yg mengajuk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MAHANAN HAK DAN KEWAJIBAN W.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81728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ARGA NEGARA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~ PASAL 26 UUD’4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 YG MENJADI WARGA NEGARA  ADALAH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ANG-ORANG INDONESIA  ASLI DAN ORANG-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ANG BANGSA LAIN YANG DISAHKAN DGN U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BAGAI WARGA NEGA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2) SYARAT MENGENAI KWN DITETAPKAN DGN U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NDUDUK : ?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773360"/>
            <a:ext cx="84582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L 27 (1) DAN (2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L 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U No 20 /1982 POKOK-POKOK HAMKAMNEG BAB I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K DAN KEWAJIBAN WN DLM PERBELAAN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18 (1), (2), (3), (4),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19 (1),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20 (1, (2), (3), (4)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AK DAN KEWAJIBAN WN : UUD ’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3:10:20Z</dcterms:created>
  <dc:creator>ComputerDiv.</dc:creator>
  <dc:description/>
  <dc:language>en-US</dc:language>
  <cp:lastModifiedBy>qimfar</cp:lastModifiedBy>
  <dcterms:modified xsi:type="dcterms:W3CDTF">2012-04-30T05:21:39Z</dcterms:modified>
  <cp:revision>33</cp:revision>
  <dc:subject/>
  <dc:title>Slide 1</dc:title>
</cp:coreProperties>
</file>