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jpeg" ContentType="image/jpeg"/>
  <Override PartName="/ppt/media/image26.jpeg" ContentType="image/jpeg"/>
  <Override PartName="/ppt/media/image23.jpeg" ContentType="image/jpeg"/>
  <Override PartName="/ppt/media/image14.jpeg" ContentType="image/jpeg"/>
  <Override PartName="/ppt/media/image33.png" ContentType="image/png"/>
  <Override PartName="/ppt/media/image10.jpeg" ContentType="image/jpeg"/>
  <Override PartName="/ppt/media/image8.jpeg" ContentType="image/jpeg"/>
  <Override PartName="/ppt/media/image5.gif" ContentType="image/gif"/>
  <Override PartName="/ppt/media/image28.png" ContentType="image/pn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38D-2730-4C90-9057-7E7004FD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5879-2F70-4801-BD0F-9CBDE4D9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A6C0-24B7-43AB-A1C1-C1656927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6D5D-F0F3-435E-B572-612EA1D8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89F-7DEA-40D8-89AE-1964C1EB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187-D02B-434D-989D-58F66950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C4EA-1C18-43D1-913E-D17518A0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E8B-7F21-40AF-8AEC-2C08DF9E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0A5-0B22-4230-A4C7-8AB7BFAF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D167-D6BA-40A8-B1E2-2E573BCA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CFB7-321A-4EFA-8518-643CC575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A18-6445-4862-9245-755EB4BB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0126-FA7B-4229-A141-E15D4798E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locrazy.com/en/view.pl?card_id=276" TargetMode="External"/><Relationship Id="rId3" Type="http://schemas.openxmlformats.org/officeDocument/2006/relationships/image" Target="../media/image6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locrazy.com/en/view.pl?card_id=276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3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locrazy.com/en/view.pl?card_id=276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llocrazy.com/en/view.pl?card_id=276" TargetMode="External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457200"/>
            <a:ext cx="619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RACEPCION HISTEROSCOP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360" y="2060640"/>
            <a:ext cx="5761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Universidad de Guadalaj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Centro Universitario de Ciencias de la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Antiguo Hospital Civil “Fray Antonio Alcald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rebuchet MS"/>
              </a:rPr>
              <a:t>Servicio de Endoscopía Ginecológica y Microciru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1165320" cy="1573200"/>
          </a:xfrm>
          <a:prstGeom prst="rect">
            <a:avLst/>
          </a:prstGeom>
          <a:ln w="0">
            <a:noFill/>
          </a:ln>
        </p:spPr>
      </p:pic>
      <p:pic>
        <p:nvPicPr>
          <p:cNvPr id="44" name="laparoscopia" descr=""/>
          <p:cNvPicPr/>
          <p:nvPr/>
        </p:nvPicPr>
        <p:blipFill>
          <a:blip r:embed="rId3"/>
          <a:stretch/>
        </p:blipFill>
        <p:spPr>
          <a:xfrm>
            <a:off x="2195640" y="4365720"/>
            <a:ext cx="2305080" cy="1679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329080" y="4292640"/>
            <a:ext cx="1330560" cy="1701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4000" y="530064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rebuchet MS"/>
              </a:rPr>
              <a:t>Gabino de Jesús Vaca Carvajal M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467480" y="5867280"/>
            <a:ext cx="88596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38280" y="609480"/>
            <a:ext cx="5761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Linderman en Ale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ugimoto en Jap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Quiñones en Méx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Neuwrith en EE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ealizan diversos trabajos de esterilización histeroscó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38280" y="609480"/>
            <a:ext cx="5761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Inser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Quim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Cau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Agentes esclero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Fueron probados, pero resultaron dificiles, ineficientes y peligr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Fallas y complicaciones serias fueron repor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438280" y="609480"/>
            <a:ext cx="57610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(Selective tubal occlusion proced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Conceptus Inc. Mountain Ciew,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Nombre inicial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ermanent Contraceptive Micro-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Ind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0920" y="167652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ujeres que deciden realizar control permanente y no reversible de su fert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3352680"/>
            <a:ext cx="5761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No realizar e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Indecisión ante la  irreversibilidad del mé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Trompas en condiciones patológ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Alergia a medios de contr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Hipersensibilidad al nic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19051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Ind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1981080"/>
            <a:ext cx="5761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osponer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ospecha de emba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enos de 6 semanas de terminación del embarazo prev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PI activa o re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676520"/>
            <a:ext cx="576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Consiste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icroinserto 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istema desechable de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Dispositivo de int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666880" y="4191120"/>
            <a:ext cx="428652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1676520"/>
            <a:ext cx="576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Histeroscopio de 5 mm. de flujo continuo con canal quirúrgico 5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Lente de 12 o 30 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2857680" cy="2104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638680" y="3772080"/>
            <a:ext cx="180828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1295280"/>
            <a:ext cx="5761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icro ins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ollo interior de acero inoxi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ollo externo superelastico de niti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Fibras PET, alrrededor del rollo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286160" cy="206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43000" y="4267080"/>
            <a:ext cx="26668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4 cm de longi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0.8 mm de diametro (al expanderse crece 1.5 a 2 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De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1295280"/>
            <a:ext cx="5761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istema de lib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ango ergonómico conteniendo el liberador del caté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l mango ergonómico contiene los controles de lib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Libera el microinserto el rotarlo en dirección de las manecillas del relo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Mecanismo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1295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roducción de fibrosis en el interior de la tro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124080" y="2362320"/>
            <a:ext cx="4286520" cy="180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419720"/>
            <a:ext cx="571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438280" y="609480"/>
            <a:ext cx="5761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18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antale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On endoscopic examination of the cavity of the wom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edical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rimer examen histeroscó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Dancing cl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966000" y="3733920"/>
            <a:ext cx="17780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1523880"/>
            <a:ext cx="5761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edicación pre-ope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Tradol 30 mg im o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edia a una hora antes del 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1523880"/>
            <a:ext cx="57610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aciente en posición de litot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xposición del cervix (especu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seo con isodine del cerv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Bloqueo paracerv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Pinzamiento del cerv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olocación del histerosc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etiro del especu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1523880"/>
            <a:ext cx="57610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Identificación del os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(no abril el paquete del Essure hasta después de este pu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Introduccion del dispositibo a través del canal quirúr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vance del cateter hasta la marca negra (colocacion en porciones intramural e itsmica proxi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1523880"/>
            <a:ext cx="5761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otación del mango para desprender el micro-ins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124080" y="3276720"/>
            <a:ext cx="5715000" cy="250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42861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441972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58229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Colo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523880"/>
            <a:ext cx="35053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ost-proce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Indicar un método de PF durante los tres meses siguientes, excepto D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Tres meses después realizarle una H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360072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H S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143000" y="1219320"/>
            <a:ext cx="4286160" cy="2847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715000" y="1219320"/>
            <a:ext cx="3133800" cy="26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715000" y="4191120"/>
            <a:ext cx="314316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438280" y="6094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Posibles complicaciones, riesgos, efectos  ad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1828800"/>
            <a:ext cx="5761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Intentos fallidos . Cau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Introduccion del histerosco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istensión uter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Visualización del ost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Avance del micro-inserto en la tro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ejar en inserto colo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438280" y="6094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Posibles complicaciones, riesgos, efectos  ad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1676520"/>
            <a:ext cx="5761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fectos adversos – com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erforación tub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espuesta vaso-va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xpulsion del micrdispositivo o mig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uptura del ins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72000" y="4419720"/>
            <a:ext cx="41148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38280" y="6094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Posibles complicaciones, riesgos, efectos  ad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676520"/>
            <a:ext cx="576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fectos adversos –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D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ang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Nausea/vóm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obreabsorción de fl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mbarazo no diagnost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38280" y="609480"/>
            <a:ext cx="5761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18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K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Intenta ocluir la unión utero-tubaria con la inserción de dos electrodos a través del cerv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Posteriormente se intenta con guía fluoroscop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Dancing cl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38280" y="6094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Posibles complicaciones, riesgos, efectos  ad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1676520"/>
            <a:ext cx="576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fectos adversos – men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mbarazo ectopico (99.74 segur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Cambios en el ciclo menstr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Dolor pers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Riesgo anesté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rebuchet MS"/>
              </a:rPr>
              <a:t>Inf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438280" y="6094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sure . Posibles complicaciones, riesgos, efectos  adve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1676520"/>
            <a:ext cx="576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iesgos de la H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iesgos en procedimientos futuros (biopsia, IVF+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RI (no hay incremento en la tempera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TRATEGIAS F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523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étodo A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57320" cy="1362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3098520" cy="2324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1905120" y="4038480"/>
            <a:ext cx="3098520" cy="2325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334120" y="39625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TRATEGIAS F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523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étodo A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57320" cy="1362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62520" y="2154240"/>
            <a:ext cx="4647960" cy="3803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62120" y="4114800"/>
            <a:ext cx="28573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438280" y="6094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ESTRATEGIAS FU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5238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étodo A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62120" y="2286000"/>
            <a:ext cx="2857320" cy="136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267080" y="2514600"/>
            <a:ext cx="4496040" cy="3371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838080" y="3962520"/>
            <a:ext cx="2857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4724280"/>
            <a:ext cx="2667240" cy="1143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609480"/>
            <a:ext cx="5761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19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Mickulicz-Radecki &amp; Fre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ugieren la utilización del histeroscopia para ver la unión los ostium uterinos direc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Dancing cl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38280" y="609480"/>
            <a:ext cx="5761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19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Schroe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rebuchet MS"/>
              </a:rPr>
              <a:t>Realiza esterilizaion de las trompas por electrocoa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Dancing cloc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8001" r="1010" b="30290"/>
          <a:stretch/>
        </p:blipFill>
        <p:spPr>
          <a:xfrm>
            <a:off x="3886200" y="3048120"/>
            <a:ext cx="3505320" cy="2336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277800" y="838080"/>
            <a:ext cx="412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erotubal Junction De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sse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4001" t="2856" r="4001" b="17142"/>
          <a:stretch/>
        </p:blipFill>
        <p:spPr>
          <a:xfrm>
            <a:off x="3809880" y="3124080"/>
            <a:ext cx="3733920" cy="24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3429000" y="1219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-Block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n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0" t="3695" r="0" b="12961"/>
          <a:stretch/>
        </p:blipFill>
        <p:spPr>
          <a:xfrm>
            <a:off x="3429000" y="3048120"/>
            <a:ext cx="3924360" cy="2795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2895480" y="99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tubal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Dancing clock"/>
          <p:cNvPicPr/>
          <p:nvPr/>
        </p:nvPicPr>
        <p:blipFill>
          <a:blip r:embed="rId2"/>
          <a:stretch/>
        </p:blipFill>
        <p:spPr>
          <a:xfrm>
            <a:off x="1219320" y="762120"/>
            <a:ext cx="952560" cy="885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rcRect l="5798" t="11539" r="5314" b="7693"/>
          <a:stretch/>
        </p:blipFill>
        <p:spPr>
          <a:xfrm>
            <a:off x="3733920" y="2971800"/>
            <a:ext cx="4343400" cy="19843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649760" y="114300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aPlug, 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3:32:06Z</dcterms:created>
  <dc:creator>Dr. G. de Jesús Vaca C.</dc:creator>
  <dc:description/>
  <dc:language>en-US</dc:language>
  <cp:lastModifiedBy>Dr. Vaca</cp:lastModifiedBy>
  <dcterms:modified xsi:type="dcterms:W3CDTF">2007-09-02T22:52:38Z</dcterms:modified>
  <cp:revision>47</cp:revision>
  <dc:subject/>
  <dc:title>Diapositiva 1</dc:title>
</cp:coreProperties>
</file>