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ADC-1154-418F-A057-604E8EF2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AC8-41E0-4847-B221-B9AAAE62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0B7-400B-4E2F-9A16-9544A70D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E37-2035-4409-987F-913E362B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BFB-9AFE-4EDA-966A-C4A17255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75C-D367-47C4-AC0C-E4B43A71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555-52DE-4C06-B9EF-B139D313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45E-08B8-4A29-8A29-36CDF21B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0FD-9AC7-4335-8BF8-DF45BF7D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471-663C-4BC2-A9F0-4FAD798B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33E-424F-4A70-A738-797DA064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EF0-6597-431B-9B8D-30BA8B25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D989A-A2D8-47C9-9EF2-C33F228F5B9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4FD35-30F1-4252-97D4-1007D3C51196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88" name="Picture 6" descr=""/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91" name="Picture 9" descr=""/>
            <p:cNvPicPr/>
            <p:nvPr/>
          </p:nvPicPr>
          <p:blipFill>
            <a:blip r:embed="rId4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94" name="Picture 12" descr=""/>
            <p:cNvPicPr/>
            <p:nvPr/>
          </p:nvPicPr>
          <p:blipFill>
            <a:blip r:embed="rId5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97" name="Picture 15" descr=""/>
            <p:cNvPicPr/>
            <p:nvPr/>
          </p:nvPicPr>
          <p:blipFill>
            <a:blip r:embed="rId6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00" name="Picture 18" descr=""/>
            <p:cNvPicPr/>
            <p:nvPr/>
          </p:nvPicPr>
          <p:blipFill>
            <a:blip r:embed="rId7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6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19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20" descr=""/>
          <p:cNvPicPr/>
          <p:nvPr/>
        </p:nvPicPr>
        <p:blipFill>
          <a:blip r:embed="rId16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2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2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3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33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36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4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4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4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49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52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5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7">
              <a:hlinkClick r:id="rId5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5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0">
              <a:hlinkClick r:id="rId8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6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3">
              <a:hlinkClick r:id="rId11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65" name="Picture 15" descr=""/>
            <p:cNvPicPr/>
            <p:nvPr/>
          </p:nvPicPr>
          <p:blipFill>
            <a:blip r:embed="rId12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6">
              <a:hlinkClick r:id="rId13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68" name="Picture 1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9">
              <a:hlinkClick r:id="rId16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7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7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7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8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8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6:07:36Z</dcterms:created>
  <dc:creator>최봉수</dc:creator>
  <dc:description/>
  <dc:language>en-US</dc:language>
  <cp:lastModifiedBy>맛있다 군만두</cp:lastModifiedBy>
  <dcterms:modified xsi:type="dcterms:W3CDTF">2024-10-01T03:15:57Z</dcterms:modified>
  <cp:revision>4</cp:revision>
  <dc:subject/>
  <dc:title>슬라이드 1</dc:title>
</cp:coreProperties>
</file>