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7993-74F7-4A2E-86AE-577B880B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68B5-0C31-4850-8F49-48132C61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7CFA-BC2D-417D-855B-7CB33D70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C00-0593-4866-8258-A8BF35FC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B62D-283C-4A84-8622-D38D3967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6C1C-11D8-46F3-B588-A9AE899E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311F-6273-45DE-ABB2-10411172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AB98-DC5D-464A-8B95-3FEF1134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05E6-923E-4A67-95C0-129D7886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06D6-9F53-4DA2-896F-836EE57C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2F55-2B60-4116-806A-358025B1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10CD-093A-4B29-8884-3CD0D345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0543C0-0204-4B88-B268-47BE1CCBBD4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773EA9-4448-44B6-B8BD-0CCDA9C4C7CD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/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88" name="Picture 6" descr=""/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91" name="Picture 9" descr=""/>
            <p:cNvPicPr/>
            <p:nvPr/>
          </p:nvPicPr>
          <p:blipFill>
            <a:blip r:embed="rId4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0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94" name="Picture 12" descr=""/>
            <p:cNvPicPr/>
            <p:nvPr/>
          </p:nvPicPr>
          <p:blipFill>
            <a:blip r:embed="rId5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13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97" name="Picture 15" descr=""/>
            <p:cNvPicPr/>
            <p:nvPr/>
          </p:nvPicPr>
          <p:blipFill>
            <a:blip r:embed="rId6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6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00" name="Picture 18" descr=""/>
            <p:cNvPicPr/>
            <p:nvPr/>
          </p:nvPicPr>
          <p:blipFill>
            <a:blip r:embed="rId7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19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6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19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Picture 20" descr=""/>
          <p:cNvPicPr/>
          <p:nvPr/>
        </p:nvPicPr>
        <p:blipFill>
          <a:blip r:embed="rId16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2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2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3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33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36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4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4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4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49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52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5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5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6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65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68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7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7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7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81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8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6:07:36Z</dcterms:created>
  <dc:creator>최봉수</dc:creator>
  <dc:description/>
  <dc:language>en-US</dc:language>
  <cp:lastModifiedBy>맛있다 군만두</cp:lastModifiedBy>
  <dcterms:modified xsi:type="dcterms:W3CDTF">2024-10-01T03:15:57Z</dcterms:modified>
  <cp:revision>4</cp:revision>
  <dc:subject/>
  <dc:title>슬라이드 1</dc:title>
</cp:coreProperties>
</file>