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24D-97F5-4630-AE68-D4F07254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2D0-DF9C-498A-8EFE-06BC8D8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2B2-4994-4DAF-AD2C-4846409A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676-BFA6-4024-B411-D433C7C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6EB1-3582-4429-86F4-8A12AC44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07D9-B4CE-492F-B503-C909427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567F-CB4D-4609-830F-A3F8A660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3AA-920E-4454-A0D4-A63CA4F0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713F-1906-4C0F-93F2-8110B5E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DC5E-4B47-4E84-AAAB-696AC6C3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901E-1353-46FF-8389-2DE5EA6E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8D6-79BD-4888-89A5-68ABC86F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FF12-70E2-4066-A3FE-3E0BA168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AD20-C4BA-44AF-AB54-438AA1F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D78D-B881-4A75-9EB8-ECFEA1AC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48CB-70EA-460A-AFC5-662E2F0F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364-651E-40ED-BC8B-D3500571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9D1-9973-4681-85D0-4B45ADF1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9FD-197F-4F97-8D82-DE82791A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A56-FD42-4A58-B0B1-CFC40B0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E24-4729-4C36-8C73-6E22F7F9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6FC-4FA2-4E86-8D2A-16E05AF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670-60A8-44F4-BEDC-6F40331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6EF-2075-4AC9-A94A-3D3027BD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0B23-E325-483C-99F6-9C874DADC6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CB0D-A6A3-44ED-BBCD-91628AF1E2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076360" y="5901840"/>
            <a:ext cx="32720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mbang Tri Purwa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ndidikan Kewarganegara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927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adwal Pengajar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1 : Perjanjian perkuliahan dan pendahuluan PK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2 dan 3 : Sejarah dan warganega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4 sp 6 : Wasantara dan Tan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7 : U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del /konsep/kontrak Pembelajar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838600"/>
            <a:ext cx="8001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iah tatap mu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nya jawab terba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rtas kerja mahasisw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iplin mahasisw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nilaian pembelajar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i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jian Semes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gas-tugas la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55840" y="3384360"/>
            <a:ext cx="6222960" cy="16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79280" y="3049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1"/>
          <p:cNvSpPr/>
          <p:nvPr/>
        </p:nvSpPr>
        <p:spPr>
          <a:xfrm>
            <a:off x="762120" y="5334120"/>
            <a:ext cx="4343400" cy="914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3:06:26Z</dcterms:created>
  <dc:creator>ComputerDiv.</dc:creator>
  <dc:description/>
  <dc:language>en-US</dc:language>
  <cp:lastModifiedBy>ComputerDiv.</cp:lastModifiedBy>
  <dcterms:modified xsi:type="dcterms:W3CDTF">2012-04-29T14:15:26Z</dcterms:modified>
  <cp:revision>6</cp:revision>
  <dc:subject/>
  <dc:title>Pendidikan Pancasila dan Kewarganegaraan</dc:title>
</cp:coreProperties>
</file>