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7E1-43F3-485D-953E-FE6134BE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05C-DD1B-4AF7-873A-1E00F369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6A0-D180-4765-9B21-203AA2B8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0DDF-1318-41F0-96FF-77E8965B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81A7-C08B-44DB-9800-1090229E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2120-9D59-4A5C-B8F9-DA07CCCB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EBB8-43B3-49C2-9655-28577AFF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95C4-6FB8-408F-885C-29C7B2B2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676C-C53D-4FDA-8922-871EBC33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EF24-C8EA-4C7A-8ACB-74629DC3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0954-9861-46B0-9C2C-BF5C6912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48E6-2F21-45A0-A162-20AF0640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8922-F882-4C8A-9E41-8D3FD2BD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EB50-FDCA-434F-BBC5-BCEEA860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685E-75F3-4DCE-BC43-B3AC720A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D9D9-FD51-41A1-9272-0026594B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8E25-F3D1-49A9-A477-A027DE88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D27-0FB8-41B1-ACF8-9E495035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379-8ED8-467E-AE9D-6238C360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EFF-9276-4454-949E-62DFE284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088-AA19-4C23-9569-7B14B0FD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707-8CFA-459E-B9AB-0FA27F1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10E-F3D6-40E5-8A73-F5BC487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93D-6321-4DBC-BDCE-D254EFFD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7962-22BD-469D-99DE-81656D032B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3764-34FA-4915-91FF-2DBFAB14CC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076360" y="5901840"/>
            <a:ext cx="32720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mbang Tri Purwa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ndidikan Kewarganegara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43927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adwal Pengajar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ggu 1 : Perjanjian perkuliahan dan pendahuluan PK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ggu 2 dan 3 : Sejarah dan warganega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ggu 4 sp 6 : Wasantara dan Tann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ggu 7 : U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del /konsep/kontrak Pembelajar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2838600"/>
            <a:ext cx="8001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iah tatap muk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nya jawab terba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rtas kerja mahasisw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iplin mahasisw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nilaian pembelajar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i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jian Semes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gas-tugas lai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55840" y="3384360"/>
            <a:ext cx="6222960" cy="16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79280" y="3049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1"/>
          <p:cNvSpPr/>
          <p:nvPr/>
        </p:nvSpPr>
        <p:spPr>
          <a:xfrm>
            <a:off x="762120" y="5334120"/>
            <a:ext cx="4343400" cy="914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RIMAKASI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3:06:26Z</dcterms:created>
  <dc:creator>ComputerDiv.</dc:creator>
  <dc:description/>
  <dc:language>en-US</dc:language>
  <cp:lastModifiedBy>ComputerDiv.</cp:lastModifiedBy>
  <dcterms:modified xsi:type="dcterms:W3CDTF">2012-04-29T14:15:26Z</dcterms:modified>
  <cp:revision>6</cp:revision>
  <dc:subject/>
  <dc:title>Pendidikan Pancasila dan Kewarganegaraan</dc:title>
</cp:coreProperties>
</file>