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glass.wav" ContentType="audio/x-wav"/>
  <Override PartName="/ppt/media/image5.jpeg" ContentType="image/jpeg"/>
  <Override PartName="/ppt/media/image21.gif" ContentType="image/gif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8C4-3851-434E-9BA4-EC90D7D2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1BC-88DF-403D-95FA-ABA6CD4D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5BC-3C3A-4789-9DC8-1A29E910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138-BCC2-4499-BAF3-0FA1996E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6A48-20A5-47A0-87F4-85E20C13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AF4C-CDB8-4D9E-B526-CFCA1153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3732-92E2-4D5C-8CF5-819BBF6E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A74-A31A-4F61-BA89-3D3FA711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547-A239-4A91-B3FF-4F24600E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785-4853-448F-8F3D-DB42A4A1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7B40-4169-4F96-92EB-02A75CA9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C7C-106E-4659-BFA3-D485A73A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229D-B2E2-4104-9245-0E8FC494D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773360"/>
            <a:ext cx="73915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200" spc="-1" strike="noStrike">
                <a:solidFill>
                  <a:srgbClr val="000000"/>
                </a:solidFill>
                <a:latin typeface="Arial"/>
              </a:rPr>
              <a:t>glac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395280"/>
            <a:ext cx="7619760" cy="56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76360" y="274680"/>
            <a:ext cx="43894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76360" y="274680"/>
            <a:ext cx="43894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9840" y="274680"/>
            <a:ext cx="43228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538200"/>
            <a:ext cx="7619760" cy="53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452520"/>
            <a:ext cx="761976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17760" y="274680"/>
            <a:ext cx="43084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3430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48000" y="159084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97964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79800" y="274680"/>
            <a:ext cx="478296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404640"/>
            <a:ext cx="7619760" cy="559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40000" y="274680"/>
            <a:ext cx="446256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504720"/>
            <a:ext cx="7619760" cy="53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11280" y="274680"/>
            <a:ext cx="6120000" cy="585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12:36:12Z</dcterms:created>
  <dc:creator>Jean Paul BERNE - Direction Financière - St Priest</dc:creator>
  <dc:description/>
  <dc:language>en-US</dc:language>
  <cp:lastModifiedBy>Smets</cp:lastModifiedBy>
  <dcterms:modified xsi:type="dcterms:W3CDTF">2008-09-12T19:32:23Z</dcterms:modified>
  <cp:revision>6</cp:revision>
  <dc:subject/>
  <dc:title>Diapositive 1</dc:title>
</cp:coreProperties>
</file>