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glass.wav" ContentType="audio/x-wav"/>
  <Override PartName="/ppt/media/image5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057-4B66-4B0E-BBBE-0C5DEF0E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9DD-B827-4393-9AFD-D5F0D073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A37-3632-4734-B86B-55C54864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1CB-7DAB-40A3-A8E8-03A85FB5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449-C067-4F27-8581-0CBD66C9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7A1-2533-4317-85AA-DF9AE6F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27C-7217-4F6F-87DB-2273C47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F2D-F72A-4233-9394-C060E2F9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CF8-967A-442A-B99F-EAA1F48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D41-5546-4CE3-9B14-D5C93756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2FC-AABA-4DAD-B7F1-AEBC6E4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9B2-29A1-49EE-AA13-E8D0EDE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9BD-6A6B-4E72-8DED-C5C91A69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773360"/>
            <a:ext cx="73915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200" spc="-1" strike="noStrike">
                <a:solidFill>
                  <a:srgbClr val="000000"/>
                </a:solidFill>
                <a:latin typeface="Arial"/>
              </a:rPr>
              <a:t>gla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395280"/>
            <a:ext cx="761976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6360" y="274680"/>
            <a:ext cx="4389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76360" y="274680"/>
            <a:ext cx="4389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74680"/>
            <a:ext cx="43228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3820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452520"/>
            <a:ext cx="761976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7760" y="274680"/>
            <a:ext cx="4308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48000" y="15908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79800" y="274680"/>
            <a:ext cx="47829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04640"/>
            <a:ext cx="7619760" cy="55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274680"/>
            <a:ext cx="44625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04720"/>
            <a:ext cx="761976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11280" y="274680"/>
            <a:ext cx="61200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36:12Z</dcterms:created>
  <dc:creator>Jean Paul BERNE - Direction Financière - St Priest</dc:creator>
  <dc:description/>
  <dc:language>en-US</dc:language>
  <cp:lastModifiedBy>Smets</cp:lastModifiedBy>
  <dcterms:modified xsi:type="dcterms:W3CDTF">2008-09-12T19:32:23Z</dcterms:modified>
  <cp:revision>6</cp:revision>
  <dc:subject/>
  <dc:title>Diapositive 1</dc:title>
</cp:coreProperties>
</file>