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B58-64B6-4D20-AFEA-EBA72194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803-0371-48AD-9DC9-DCE4A30A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5DD-FD07-4B11-82F6-39F041C1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DBD-F884-4921-B535-842D1953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C88-C727-49B2-B6A1-893CE4D6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559-84D5-453D-936E-787BCF2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9DC-CB8C-4844-9C2D-DD4D472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143-875D-42C3-8715-884D422F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44F-8CCB-49D4-8354-C8C8412E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21-124B-4EB9-9A28-DE27B8F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BEA-2579-42D7-A205-19C381D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1F0-56EA-446A-A8D8-E9A3722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FD5-D9BB-4386-A7A9-E1B2A6EF4A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3:23:08Z</dcterms:modified>
  <cp:revision>25</cp:revision>
  <dc:subject/>
  <dc:title>슬라이드 1</dc:title>
</cp:coreProperties>
</file>