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3DD-FDC7-4EFE-AD63-D83F39F8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2AA-DD55-4842-A534-ADF66ACB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0A9-0ADC-40C9-AD23-87CCF66D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F0A-A72B-4DA6-8D66-267B319A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07B-EF02-4182-A60F-724D820D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282-B4D2-4920-9E2D-D25B13E9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2BE-9AEE-42E2-8E88-45013348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826-1D61-4F90-B69B-201D2AA6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BA5-13C7-4B69-888E-7EBE907F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5FC-B156-473B-905F-80EC127F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CB6-8BE8-4CC3-97D9-4359DCA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C05-4FC6-4096-A6A1-1D5CE3AA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D077-BF22-403B-8DBD-F47DBE66D6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3:23:08Z</dcterms:modified>
  <cp:revision>25</cp:revision>
  <dc:subject/>
  <dc:title>슬라이드 1</dc:title>
</cp:coreProperties>
</file>