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gif" ContentType="image/gif"/>
  <Override PartName="/ppt/media/image14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D87E-3E5B-4DBC-9E7E-6B78E942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6A1E-E561-40DA-A0F6-65FF48FC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B43B-58C4-4624-AD64-98D12AC1D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0F5E-2847-4B44-B103-AB17DA3F9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A3E7-B57D-4F91-9A38-1AFA3F68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1330-D724-495D-B45E-3E9C2110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1FB3-B61A-4153-9AD9-3ACCE348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B0D2-D6F7-493B-88F2-BD8DB807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0E04-35C3-4C6E-BF24-8869766A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E2A9-6186-4469-92D1-3B1E4162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D117-4999-424C-8D83-78D3155B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B261-1064-4CB5-B8F4-458BEB96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E440-73F2-430B-A4C6-3DB01A03525D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000000"/>
                </a:solidFill>
                <a:latin typeface="Arial"/>
              </a:rPr>
              <a:t>內地無奇不有</a:t>
            </a:r>
            <a:br>
              <a:rPr sz="8000"/>
            </a:br>
            <a:r>
              <a:rPr b="0" lang="zh-TW" sz="8000" spc="-1" strike="noStrike">
                <a:solidFill>
                  <a:srgbClr val="000000"/>
                </a:solidFill>
                <a:latin typeface="Arial"/>
              </a:rPr>
              <a:t>5/200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46080"/>
            <a:ext cx="831672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820000" cy="69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9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45964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5151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135000"/>
            <a:ext cx="896472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3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0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47600"/>
            <a:ext cx="9144000" cy="67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81160" y="210960"/>
            <a:ext cx="8862840" cy="66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0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174600"/>
            <a:ext cx="9144000" cy="70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9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-128520"/>
            <a:ext cx="9144000" cy="6986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90800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24364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7T06:31:32Z</dcterms:created>
  <dc:creator>able</dc:creator>
  <dc:description/>
  <dc:language>en-US</dc:language>
  <cp:lastModifiedBy>Smets</cp:lastModifiedBy>
  <dcterms:modified xsi:type="dcterms:W3CDTF">2008-08-30T05:44:10Z</dcterms:modified>
  <cp:revision>9</cp:revision>
  <dc:subject/>
  <dc:title>內地無奇不有</dc:title>
</cp:coreProperties>
</file>