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D3A-192C-4232-8E3A-086EC40B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EF5-F511-42C6-BB3A-FAA54A95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B34-33E1-4561-A69F-9CAD1629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967-3859-4AB4-BA02-428632F2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1B6-C5E6-41C2-BEC4-17FFAE6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2D5-928F-4DE8-81AF-B8763B4F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FAD-A3AE-4292-8678-0ACE9D6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1D6-048A-499B-99E4-3D97A4CF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041-66F8-434A-ACD7-93C0F5DA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953-A7D2-47EB-B879-4D5BB391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550-C904-440E-AEF5-7B71631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B57-E5CB-431C-A207-E5D17A2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811-04DE-42E2-B3E5-C280144E09A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Arial"/>
              </a:rPr>
              <a:t>內地無奇不有</a:t>
            </a:r>
            <a:br>
              <a:rPr sz="8000"/>
            </a:br>
            <a:r>
              <a:rPr b="0" lang="zh-TW" sz="8000" spc="-1" strike="noStrike">
                <a:solidFill>
                  <a:srgbClr val="000000"/>
                </a:solidFill>
                <a:latin typeface="Arial"/>
              </a:rPr>
              <a:t>5/200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6080"/>
            <a:ext cx="8316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5964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1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1160" y="210960"/>
            <a:ext cx="886284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436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6:31:32Z</dcterms:created>
  <dc:creator>able</dc:creator>
  <dc:description/>
  <dc:language>en-US</dc:language>
  <cp:lastModifiedBy>Smets</cp:lastModifiedBy>
  <dcterms:modified xsi:type="dcterms:W3CDTF">2008-08-30T05:44:10Z</dcterms:modified>
  <cp:revision>9</cp:revision>
  <dc:subject/>
  <dc:title>內地無奇不有</dc:title>
</cp:coreProperties>
</file>