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0B0-0658-4740-900B-8052ABE1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BCF-F05E-4B68-B6CA-CB268F4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97C-36C2-43F2-99EA-5B34A627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D95-980C-48EA-BD03-4D0D744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A51-E9E2-419B-B1DF-761FDF5B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2537-01FF-462D-93EB-489868E3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882-4767-44D4-B3DF-BE25DDC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F2E-5F95-4547-9B50-694950F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3D7-A638-4367-AD59-D840228A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F49-5B45-4DCF-8777-90871B8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0638-2FE1-4E78-9B83-66F0232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449-303B-461D-8CF7-A3EEF600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406-7419-45D1-8404-CA700939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E644-10EC-4976-AF62-A9FA69D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677-BA03-4D35-8817-73C688BC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5183-4164-458B-A066-8B598AA2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789B-E2C6-4B68-8D87-B2BCBA69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5E4-6FE5-4CA9-93DE-2578D44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7D7-14B2-4855-966B-F790987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E5D-659A-491D-A9FB-1D67C212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401-D778-433C-B7E2-F129ADBC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3DE-8AAA-44A2-80E0-F5318F2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0CE-6840-4F71-965A-FF3A96C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75E-1801-4F06-A1EC-BF3A278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F5D-C264-4597-AA7C-20285B5CDD7B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2559-35EC-4E90-9392-901433E6D66F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 AÑO CER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as para calcular fechas antes y después de Cri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ar 483 añ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457 a.C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aniel, 9: 25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ice que pasarán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emanas y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62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semanas desde la orden de Artajerjes hasta el ungimiento de Jesú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7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b200"/>
                </a:solidFill>
                <a:latin typeface="Comic Sans MS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62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b200"/>
                </a:solidFill>
                <a:latin typeface="Comic Sans MS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703dff"/>
                </a:solidFill>
                <a:latin typeface="Comic Sans MS"/>
              </a:rPr>
              <a:t>69 seman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703dff"/>
                </a:solidFill>
                <a:latin typeface="Comic Sans MS"/>
              </a:rPr>
              <a:t>7 día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83 días/añ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 457 es una fecha a.C. se considera negativa (-457) y se la tenemos que restar a 483 para saber el año d.C. al que llegam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83</a:t>
            </a:r>
            <a:r>
              <a:rPr b="1" lang="es-E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b200"/>
                </a:solidFill>
                <a:latin typeface="Comic Sans MS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af672b"/>
                </a:solidFill>
                <a:latin typeface="Comic Sans MS"/>
              </a:rPr>
              <a:t>457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b200"/>
                </a:solidFill>
                <a:latin typeface="Comic Sans MS"/>
              </a:rPr>
              <a:t>=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26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 d.C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ero Jesús fue bautizado el 27 d.C. ¿Qué ha pasa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¿Dónde está el año cer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4869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 día siguiente al 31 de diciembre d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 a.C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ue el 1 de enero de </a:t>
            </a:r>
            <a:r>
              <a:rPr b="1" lang="en-US" sz="3600" spc="-1" strike="noStrike">
                <a:solidFill>
                  <a:srgbClr val="008e00"/>
                </a:solidFill>
                <a:latin typeface="Comic Sans MS"/>
              </a:rPr>
              <a:t>1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1355760" cy="180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828036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0872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0108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509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32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56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0836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6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4364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740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mos a añadir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6 año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l año </a:t>
            </a: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3 a.C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573360"/>
            <a:ext cx="8280360" cy="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213000"/>
            <a:ext cx="0" cy="72072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3213000"/>
            <a:ext cx="0" cy="72072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509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32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5600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a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0836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44364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740720" y="4005360"/>
            <a:ext cx="72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d.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450864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Arial Black"/>
              </a:rPr>
              <a:t>6 - 3 = ¿3 d.C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Arial Black"/>
              <a:ea typeface="Arial Black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30920" y="1989000"/>
            <a:ext cx="1226160" cy="1559880"/>
            <a:chOff x="430920" y="1989000"/>
            <a:chExt cx="1226160" cy="1559880"/>
          </a:xfrm>
        </p:grpSpPr>
        <p:sp>
          <p:nvSpPr>
            <p:cNvPr id="191" name=""/>
            <p:cNvSpPr/>
            <p:nvPr/>
          </p:nvSpPr>
          <p:spPr>
            <a:xfrm rot="291600">
              <a:off x="468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971640" y="1989000"/>
              <a:ext cx="16200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54920" y="1989000"/>
            <a:ext cx="1226160" cy="1559880"/>
            <a:chOff x="1654920" y="1989000"/>
            <a:chExt cx="1226160" cy="1559880"/>
          </a:xfrm>
        </p:grpSpPr>
        <p:sp>
          <p:nvSpPr>
            <p:cNvPr id="194" name=""/>
            <p:cNvSpPr/>
            <p:nvPr/>
          </p:nvSpPr>
          <p:spPr>
            <a:xfrm rot="291600">
              <a:off x="1692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050920" y="1989000"/>
              <a:ext cx="306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950200" y="1989000"/>
            <a:ext cx="1226160" cy="1559880"/>
            <a:chOff x="2950200" y="1989000"/>
            <a:chExt cx="1226160" cy="1559880"/>
          </a:xfrm>
        </p:grpSpPr>
        <p:sp>
          <p:nvSpPr>
            <p:cNvPr id="197" name=""/>
            <p:cNvSpPr/>
            <p:nvPr/>
          </p:nvSpPr>
          <p:spPr>
            <a:xfrm rot="291600">
              <a:off x="298764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419640" y="1989000"/>
              <a:ext cx="3585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247280" y="1989000"/>
            <a:ext cx="1226160" cy="1559880"/>
            <a:chOff x="4247280" y="1989000"/>
            <a:chExt cx="1226160" cy="1559880"/>
          </a:xfrm>
        </p:grpSpPr>
        <p:sp>
          <p:nvSpPr>
            <p:cNvPr id="200" name=""/>
            <p:cNvSpPr/>
            <p:nvPr/>
          </p:nvSpPr>
          <p:spPr>
            <a:xfrm rot="291600">
              <a:off x="428472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4643280" y="1989000"/>
              <a:ext cx="360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42560" y="1989000"/>
            <a:ext cx="1226160" cy="1559880"/>
            <a:chOff x="5542560" y="1989000"/>
            <a:chExt cx="1226160" cy="1559880"/>
          </a:xfrm>
        </p:grpSpPr>
        <p:sp>
          <p:nvSpPr>
            <p:cNvPr id="203" name=""/>
            <p:cNvSpPr/>
            <p:nvPr/>
          </p:nvSpPr>
          <p:spPr>
            <a:xfrm rot="291600">
              <a:off x="558000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5940360" y="1989000"/>
              <a:ext cx="30636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596360" y="2924280"/>
            <a:ext cx="936360" cy="1584360"/>
          </a:xfrm>
          <a:prstGeom prst="rect">
            <a:avLst/>
          </a:prstGeom>
          <a:solidFill>
            <a:srgbClr val="ffef66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522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 calcular la distancia de fechas históricas desde a.C. hasta d.C. </a:t>
            </a:r>
            <a:r>
              <a:rPr b="1" lang="en-US" sz="1800" spc="-1" strike="noStrike">
                <a:solidFill>
                  <a:srgbClr val="cc00cc"/>
                </a:solidFill>
                <a:latin typeface="Comic Sans MS"/>
              </a:rPr>
              <a:t>debemos sumar 1 a la rest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ra hallar el año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9920" y="5997600"/>
            <a:ext cx="58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f672b"/>
                </a:solidFill>
                <a:latin typeface="Comic Sans MS"/>
              </a:rPr>
              <a:t>483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-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f672b"/>
                </a:solidFill>
                <a:latin typeface="Comic Sans MS"/>
              </a:rPr>
              <a:t>45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= 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26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007bd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007bd"/>
                </a:solidFill>
                <a:latin typeface="Comic Sans MS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7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d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10920" y="1989000"/>
            <a:ext cx="1226160" cy="1559880"/>
            <a:chOff x="6910920" y="1989000"/>
            <a:chExt cx="1226160" cy="1559880"/>
          </a:xfrm>
        </p:grpSpPr>
        <p:sp>
          <p:nvSpPr>
            <p:cNvPr id="209" name=""/>
            <p:cNvSpPr/>
            <p:nvPr/>
          </p:nvSpPr>
          <p:spPr>
            <a:xfrm rot="291600">
              <a:off x="6948360" y="2565000"/>
              <a:ext cx="1150920" cy="9367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84" y="12081"/>
                  </a:moveTo>
                  <a:arcTo wR="-8315" hR="-8315" stAng="10268284" swAng="-11011522"/>
                  <a:lnTo>
                    <a:pt x="251" y="13117"/>
                  </a:lnTo>
                  <a:arcTo wR="10800" hR="10800" stAng="10056762" swAng="11011522"/>
                  <a:lnTo>
                    <a:pt x="24139" y="8720"/>
                  </a:lnTo>
                  <a:lnTo>
                    <a:pt x="20851" y="13223"/>
                  </a:lnTo>
                  <a:lnTo>
                    <a:pt x="16348" y="9935"/>
                  </a:lnTo>
                  <a:close/>
                </a:path>
              </a:pathLst>
            </a:custGeom>
            <a:gradFill rotWithShape="0">
              <a:gsLst>
                <a:gs pos="0">
                  <a:srgbClr val="1007bd"/>
                </a:gs>
                <a:gs pos="50000">
                  <a:srgbClr val="99ccff"/>
                </a:gs>
                <a:gs pos="100000">
                  <a:srgbClr val="1007bd"/>
                </a:gs>
              </a:gsLst>
              <a:lin ang="510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7453440" y="1989000"/>
              <a:ext cx="28728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Batavia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ccff">
                      <a:alpha val="80000"/>
                    </a:srgbClr>
                  </a:outerShdw>
                </a:effectLst>
                <a:latin typeface="Batavia"/>
                <a:ea typeface="Batav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7:51:59Z</dcterms:created>
  <dc:creator>Sergio Fustero Carreras</dc:creator>
  <dc:description/>
  <dc:language>en-US</dc:language>
  <cp:lastModifiedBy>Sergio</cp:lastModifiedBy>
  <dcterms:modified xsi:type="dcterms:W3CDTF">2007-12-08T22:17:27Z</dcterms:modified>
  <cp:revision>17</cp:revision>
  <dc:subject/>
  <dc:title>EL AÑO CERO</dc:title>
</cp:coreProperties>
</file>