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734C-2ECA-495B-B1AE-21D965F35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06AC-8BEB-4214-8754-7A0E0523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3358-10D0-49A2-895C-F4D6C57F9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4EB3-6C5A-4F6B-B916-908C82127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9F51F-70AD-4E2E-A846-2084F0D06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56EF-6156-42EA-842A-B5FD111F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5C53-51F7-4F4E-8043-C50BF457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BCE1-4D85-4B0D-9A09-252031BE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4493D-8093-4511-B5C4-A129CE17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AF34-2B2F-45A1-8343-43EEA8F0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8EC4-08E3-437C-B431-0453CB53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CF75-913A-4776-A108-69853346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9A4A-AA5E-4183-8906-EF477587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5F05-7774-4F14-8585-DBC26785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DC4C-668A-4111-B264-E740DAB0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55E5B-CCFD-4E8B-A4FF-D2588906A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36FE-2818-4935-A2A7-E5945DBDB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0432-5EBF-4AD7-8461-69EB4891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3B4F-2376-4C46-81F6-B840D570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FF16-6F39-43CA-9BEB-8CE8ABD9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CBD3-000C-4BD2-8CE7-8FD87268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18C2-7BCB-42EA-B99E-3BE30B22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4C2C-CF1D-4A2F-8C20-F4299E77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638E-021E-4113-A7FC-111C725F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A77E-9D0D-45A7-A559-82D3B5E1353B}" type="slidenum"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1FBB-2D47-47F0-8427-56B235883FD6}" type="slidenum"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L AÑO CERO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as para calcular fechas antes y después de Cris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mar 483 añ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457 a.C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Daniel, 9: 25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dice que pasarán 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7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semanas y 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62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semanas desde la orden de Artajerjes hasta el ungimiento de Jesú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7 semanas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00b200"/>
                </a:solidFill>
                <a:latin typeface="Comic Sans MS"/>
              </a:rPr>
              <a:t>+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62 semanas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00b200"/>
                </a:solidFill>
                <a:latin typeface="Comic Sans MS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703dff"/>
                </a:solidFill>
                <a:latin typeface="Comic Sans MS"/>
              </a:rPr>
              <a:t>69 semanas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703dff"/>
                </a:solidFill>
                <a:latin typeface="Comic Sans MS"/>
              </a:rPr>
              <a:t>7 días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=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400" spc="-1" strike="noStrike">
                <a:solidFill>
                  <a:srgbClr val="af672b"/>
                </a:solidFill>
                <a:latin typeface="Comic Sans MS"/>
              </a:rPr>
              <a:t>483 días/años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Como 457 es una fecha a.C. se considera negativa (-457) y se la tenemos que restar a 483 para saber el año d.C. al que llegamo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672b"/>
                </a:solidFill>
                <a:latin typeface="Comic Sans MS"/>
              </a:rPr>
              <a:t>483</a:t>
            </a:r>
            <a:r>
              <a:rPr b="1" lang="es-ES" sz="24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s-ES" sz="3200" spc="-1" strike="noStrike">
                <a:solidFill>
                  <a:srgbClr val="00b200"/>
                </a:solidFill>
                <a:latin typeface="Comic Sans MS"/>
              </a:rPr>
              <a:t>-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400" spc="-1" strike="noStrike">
                <a:solidFill>
                  <a:srgbClr val="af672b"/>
                </a:solidFill>
                <a:latin typeface="Comic Sans MS"/>
              </a:rPr>
              <a:t>457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3200" spc="-1" strike="noStrike">
                <a:solidFill>
                  <a:srgbClr val="00b200"/>
                </a:solidFill>
                <a:latin typeface="Comic Sans MS"/>
              </a:rPr>
              <a:t>=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26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 d.C.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Pero Jesús fue bautizado el 27 d.C. ¿Qué ha pasado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¿Dónde está el año cero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2411280" y="4869000"/>
            <a:ext cx="57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l día siguiente al 31 de diciembre de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1 a.C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fue el 1 de enero de </a:t>
            </a:r>
            <a:r>
              <a:rPr b="1" lang="en-US" sz="3600" spc="-1" strike="noStrike">
                <a:solidFill>
                  <a:srgbClr val="008e00"/>
                </a:solidFill>
                <a:latin typeface="Comic Sans MS"/>
              </a:rPr>
              <a:t>1 d.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700360" y="1773360"/>
            <a:ext cx="1355760" cy="18032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24000" y="3573360"/>
            <a:ext cx="8280360" cy="0"/>
          </a:xfrm>
          <a:prstGeom prst="line">
            <a:avLst/>
          </a:prstGeom>
          <a:ln w="12708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9640" y="3213000"/>
            <a:ext cx="0" cy="720720"/>
          </a:xfrm>
          <a:prstGeom prst="line">
            <a:avLst/>
          </a:prstGeom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92360" y="3213000"/>
            <a:ext cx="0" cy="720720"/>
          </a:xfrm>
          <a:prstGeom prst="line">
            <a:avLst/>
          </a:prstGeom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16360" y="3213000"/>
            <a:ext cx="0" cy="720720"/>
          </a:xfrm>
          <a:prstGeom prst="line">
            <a:avLst/>
          </a:prstGeom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40360" y="3213000"/>
            <a:ext cx="0" cy="720720"/>
          </a:xfrm>
          <a:prstGeom prst="line">
            <a:avLst/>
          </a:prstGeom>
          <a:ln w="63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08720" y="3213000"/>
            <a:ext cx="0" cy="720720"/>
          </a:xfrm>
          <a:prstGeom prst="line">
            <a:avLst/>
          </a:prstGeom>
          <a:ln w="63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04000" y="3213000"/>
            <a:ext cx="0" cy="720720"/>
          </a:xfrm>
          <a:prstGeom prst="line">
            <a:avLst/>
          </a:prstGeom>
          <a:ln w="63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101080" y="3213000"/>
            <a:ext cx="0" cy="720720"/>
          </a:xfrm>
          <a:prstGeom prst="line">
            <a:avLst/>
          </a:prstGeom>
          <a:ln w="63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50920" y="4005360"/>
            <a:ext cx="72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3 a.C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332000" y="4005360"/>
            <a:ext cx="72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 a.C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556000" y="4005360"/>
            <a:ext cx="72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 a.C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708360" y="4005360"/>
            <a:ext cx="72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2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 d.C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2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076720" y="4005360"/>
            <a:ext cx="72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2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 d.C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2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43640" y="4005360"/>
            <a:ext cx="72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2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3 d.C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2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740720" y="4005360"/>
            <a:ext cx="72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2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4 d.C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2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77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770" fill="hold"/>
                                        <p:tgtEl>
                                          <p:spTgt spid="1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" dur="77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" dur="77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amos a añadir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6 año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al año </a:t>
            </a:r>
            <a:r>
              <a:rPr b="1" lang="en-US" sz="4400" spc="-1" strike="noStrike">
                <a:solidFill>
                  <a:srgbClr val="00b200"/>
                </a:solidFill>
                <a:latin typeface="Comic Sans MS"/>
              </a:rPr>
              <a:t>3 a.C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3573360"/>
            <a:ext cx="8280360" cy="0"/>
          </a:xfrm>
          <a:prstGeom prst="line">
            <a:avLst/>
          </a:prstGeom>
          <a:ln w="12708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3213000"/>
            <a:ext cx="0" cy="720720"/>
          </a:xfrm>
          <a:prstGeom prst="line">
            <a:avLst/>
          </a:prstGeom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92360" y="3213000"/>
            <a:ext cx="0" cy="720720"/>
          </a:xfrm>
          <a:prstGeom prst="line">
            <a:avLst/>
          </a:prstGeom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16360" y="3213000"/>
            <a:ext cx="0" cy="720720"/>
          </a:xfrm>
          <a:prstGeom prst="line">
            <a:avLst/>
          </a:prstGeom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40360" y="3213000"/>
            <a:ext cx="0" cy="720720"/>
          </a:xfrm>
          <a:prstGeom prst="line">
            <a:avLst/>
          </a:prstGeom>
          <a:ln w="63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08720" y="3213000"/>
            <a:ext cx="0" cy="720720"/>
          </a:xfrm>
          <a:prstGeom prst="line">
            <a:avLst/>
          </a:prstGeom>
          <a:ln w="63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04000" y="3213000"/>
            <a:ext cx="0" cy="720720"/>
          </a:xfrm>
          <a:prstGeom prst="line">
            <a:avLst/>
          </a:prstGeom>
          <a:ln w="63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101080" y="3213000"/>
            <a:ext cx="0" cy="720720"/>
          </a:xfrm>
          <a:prstGeom prst="line">
            <a:avLst/>
          </a:prstGeom>
          <a:ln w="63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250920" y="4005360"/>
            <a:ext cx="72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3 a.C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332000" y="4005360"/>
            <a:ext cx="72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 a.C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556000" y="4005360"/>
            <a:ext cx="72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 a.C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708360" y="4005360"/>
            <a:ext cx="72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2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 d.C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2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76720" y="4005360"/>
            <a:ext cx="72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2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 d.C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2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443640" y="4005360"/>
            <a:ext cx="72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2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3 d.C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2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7740720" y="4005360"/>
            <a:ext cx="72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2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4 d.C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2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0920" y="4508640"/>
            <a:ext cx="431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f66"/>
                </a:solidFill>
                <a:latin typeface="Arial Black"/>
              </a:rPr>
              <a:t>6 - 3 = ¿3 d.C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ef66"/>
              </a:solidFill>
              <a:latin typeface="Arial Black"/>
              <a:ea typeface="Arial Black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30920" y="1989000"/>
            <a:ext cx="1226160" cy="1559880"/>
            <a:chOff x="430920" y="1989000"/>
            <a:chExt cx="1226160" cy="1559880"/>
          </a:xfrm>
        </p:grpSpPr>
        <p:sp>
          <p:nvSpPr>
            <p:cNvPr id="191" name=""/>
            <p:cNvSpPr/>
            <p:nvPr/>
          </p:nvSpPr>
          <p:spPr>
            <a:xfrm rot="291600">
              <a:off x="468360" y="2565000"/>
              <a:ext cx="1150920" cy="93672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584" y="12081"/>
                  </a:moveTo>
                  <a:arcTo wR="-8315" hR="-8315" stAng="10268284" swAng="-11011522"/>
                  <a:lnTo>
                    <a:pt x="251" y="13117"/>
                  </a:lnTo>
                  <a:arcTo wR="10800" hR="10800" stAng="10056762" swAng="11011522"/>
                  <a:lnTo>
                    <a:pt x="24139" y="8720"/>
                  </a:lnTo>
                  <a:lnTo>
                    <a:pt x="20851" y="13223"/>
                  </a:lnTo>
                  <a:lnTo>
                    <a:pt x="16348" y="9935"/>
                  </a:lnTo>
                  <a:close/>
                </a:path>
              </a:pathLst>
            </a:custGeom>
            <a:gradFill rotWithShape="0">
              <a:gsLst>
                <a:gs pos="0">
                  <a:srgbClr val="1007bd"/>
                </a:gs>
                <a:gs pos="50000">
                  <a:srgbClr val="99ccff"/>
                </a:gs>
                <a:gs pos="100000">
                  <a:srgbClr val="1007bd"/>
                </a:gs>
              </a:gsLst>
              <a:lin ang="510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971640" y="1989000"/>
              <a:ext cx="162000" cy="48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ccff">
                        <a:alpha val="80000"/>
                      </a:srgbClr>
                    </a:outerShdw>
                  </a:effectLst>
                  <a:latin typeface="Batavia"/>
                </a:rPr>
                <a:t>1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ccff">
                      <a:alpha val="80000"/>
                    </a:srgbClr>
                  </a:outerShdw>
                </a:effectLst>
                <a:latin typeface="Batavia"/>
                <a:ea typeface="Batavia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1654920" y="1989000"/>
            <a:ext cx="1226160" cy="1559880"/>
            <a:chOff x="1654920" y="1989000"/>
            <a:chExt cx="1226160" cy="1559880"/>
          </a:xfrm>
        </p:grpSpPr>
        <p:sp>
          <p:nvSpPr>
            <p:cNvPr id="194" name=""/>
            <p:cNvSpPr/>
            <p:nvPr/>
          </p:nvSpPr>
          <p:spPr>
            <a:xfrm rot="291600">
              <a:off x="1692360" y="2565000"/>
              <a:ext cx="1150920" cy="93672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584" y="12081"/>
                  </a:moveTo>
                  <a:arcTo wR="-8315" hR="-8315" stAng="10268284" swAng="-11011522"/>
                  <a:lnTo>
                    <a:pt x="251" y="13117"/>
                  </a:lnTo>
                  <a:arcTo wR="10800" hR="10800" stAng="10056762" swAng="11011522"/>
                  <a:lnTo>
                    <a:pt x="24139" y="8720"/>
                  </a:lnTo>
                  <a:lnTo>
                    <a:pt x="20851" y="13223"/>
                  </a:lnTo>
                  <a:lnTo>
                    <a:pt x="16348" y="9935"/>
                  </a:lnTo>
                  <a:close/>
                </a:path>
              </a:pathLst>
            </a:custGeom>
            <a:gradFill rotWithShape="0">
              <a:gsLst>
                <a:gs pos="0">
                  <a:srgbClr val="1007bd"/>
                </a:gs>
                <a:gs pos="50000">
                  <a:srgbClr val="99ccff"/>
                </a:gs>
                <a:gs pos="100000">
                  <a:srgbClr val="1007bd"/>
                </a:gs>
              </a:gsLst>
              <a:lin ang="510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2050920" y="1989000"/>
              <a:ext cx="306360" cy="48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ccff">
                        <a:alpha val="80000"/>
                      </a:srgbClr>
                    </a:outerShdw>
                  </a:effectLst>
                  <a:latin typeface="Batavia"/>
                </a:rPr>
                <a:t>2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ccff">
                      <a:alpha val="80000"/>
                    </a:srgbClr>
                  </a:outerShdw>
                </a:effectLst>
                <a:latin typeface="Batavia"/>
                <a:ea typeface="Batavia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2950200" y="1989000"/>
            <a:ext cx="1226160" cy="1559880"/>
            <a:chOff x="2950200" y="1989000"/>
            <a:chExt cx="1226160" cy="1559880"/>
          </a:xfrm>
        </p:grpSpPr>
        <p:sp>
          <p:nvSpPr>
            <p:cNvPr id="197" name=""/>
            <p:cNvSpPr/>
            <p:nvPr/>
          </p:nvSpPr>
          <p:spPr>
            <a:xfrm rot="291600">
              <a:off x="2987640" y="2565000"/>
              <a:ext cx="1150920" cy="93672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584" y="12081"/>
                  </a:moveTo>
                  <a:arcTo wR="-8315" hR="-8315" stAng="10268284" swAng="-11011522"/>
                  <a:lnTo>
                    <a:pt x="251" y="13117"/>
                  </a:lnTo>
                  <a:arcTo wR="10800" hR="10800" stAng="10056762" swAng="11011522"/>
                  <a:lnTo>
                    <a:pt x="24139" y="8720"/>
                  </a:lnTo>
                  <a:lnTo>
                    <a:pt x="20851" y="13223"/>
                  </a:lnTo>
                  <a:lnTo>
                    <a:pt x="16348" y="9935"/>
                  </a:lnTo>
                  <a:close/>
                </a:path>
              </a:pathLst>
            </a:custGeom>
            <a:gradFill rotWithShape="0">
              <a:gsLst>
                <a:gs pos="0">
                  <a:srgbClr val="1007bd"/>
                </a:gs>
                <a:gs pos="50000">
                  <a:srgbClr val="99ccff"/>
                </a:gs>
                <a:gs pos="100000">
                  <a:srgbClr val="1007bd"/>
                </a:gs>
              </a:gsLst>
              <a:lin ang="510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>
              <a:off x="3419640" y="1989000"/>
              <a:ext cx="358560" cy="48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ccff">
                        <a:alpha val="80000"/>
                      </a:srgbClr>
                    </a:outerShdw>
                  </a:effectLst>
                  <a:latin typeface="Batavia"/>
                </a:rPr>
                <a:t>3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ccff">
                      <a:alpha val="80000"/>
                    </a:srgbClr>
                  </a:outerShdw>
                </a:effectLst>
                <a:latin typeface="Batavia"/>
                <a:ea typeface="Batavia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4247280" y="1989000"/>
            <a:ext cx="1226160" cy="1559880"/>
            <a:chOff x="4247280" y="1989000"/>
            <a:chExt cx="1226160" cy="1559880"/>
          </a:xfrm>
        </p:grpSpPr>
        <p:sp>
          <p:nvSpPr>
            <p:cNvPr id="200" name=""/>
            <p:cNvSpPr/>
            <p:nvPr/>
          </p:nvSpPr>
          <p:spPr>
            <a:xfrm rot="291600">
              <a:off x="4284720" y="2565000"/>
              <a:ext cx="1150920" cy="93672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584" y="12081"/>
                  </a:moveTo>
                  <a:arcTo wR="-8315" hR="-8315" stAng="10268284" swAng="-11011522"/>
                  <a:lnTo>
                    <a:pt x="251" y="13117"/>
                  </a:lnTo>
                  <a:arcTo wR="10800" hR="10800" stAng="10056762" swAng="11011522"/>
                  <a:lnTo>
                    <a:pt x="24139" y="8720"/>
                  </a:lnTo>
                  <a:lnTo>
                    <a:pt x="20851" y="13223"/>
                  </a:lnTo>
                  <a:lnTo>
                    <a:pt x="16348" y="9935"/>
                  </a:lnTo>
                  <a:close/>
                </a:path>
              </a:pathLst>
            </a:custGeom>
            <a:gradFill rotWithShape="0">
              <a:gsLst>
                <a:gs pos="0">
                  <a:srgbClr val="1007bd"/>
                </a:gs>
                <a:gs pos="50000">
                  <a:srgbClr val="99ccff"/>
                </a:gs>
                <a:gs pos="100000">
                  <a:srgbClr val="1007bd"/>
                </a:gs>
              </a:gsLst>
              <a:lin ang="510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 txBox="1"/>
            <p:nvPr/>
          </p:nvSpPr>
          <p:spPr>
            <a:xfrm>
              <a:off x="4643280" y="1989000"/>
              <a:ext cx="360360" cy="48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ccff">
                        <a:alpha val="80000"/>
                      </a:srgbClr>
                    </a:outerShdw>
                  </a:effectLst>
                  <a:latin typeface="Batavia"/>
                </a:rPr>
                <a:t>4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ccff">
                      <a:alpha val="80000"/>
                    </a:srgbClr>
                  </a:outerShdw>
                </a:effectLst>
                <a:latin typeface="Batavia"/>
                <a:ea typeface="Batavia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5542560" y="1989000"/>
            <a:ext cx="1226160" cy="1559880"/>
            <a:chOff x="5542560" y="1989000"/>
            <a:chExt cx="1226160" cy="1559880"/>
          </a:xfrm>
        </p:grpSpPr>
        <p:sp>
          <p:nvSpPr>
            <p:cNvPr id="203" name=""/>
            <p:cNvSpPr/>
            <p:nvPr/>
          </p:nvSpPr>
          <p:spPr>
            <a:xfrm rot="291600">
              <a:off x="5580000" y="2565000"/>
              <a:ext cx="1150920" cy="93672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584" y="12081"/>
                  </a:moveTo>
                  <a:arcTo wR="-8315" hR="-8315" stAng="10268284" swAng="-11011522"/>
                  <a:lnTo>
                    <a:pt x="251" y="13117"/>
                  </a:lnTo>
                  <a:arcTo wR="10800" hR="10800" stAng="10056762" swAng="11011522"/>
                  <a:lnTo>
                    <a:pt x="24139" y="8720"/>
                  </a:lnTo>
                  <a:lnTo>
                    <a:pt x="20851" y="13223"/>
                  </a:lnTo>
                  <a:lnTo>
                    <a:pt x="16348" y="9935"/>
                  </a:lnTo>
                  <a:close/>
                </a:path>
              </a:pathLst>
            </a:custGeom>
            <a:gradFill rotWithShape="0">
              <a:gsLst>
                <a:gs pos="0">
                  <a:srgbClr val="1007bd"/>
                </a:gs>
                <a:gs pos="50000">
                  <a:srgbClr val="99ccff"/>
                </a:gs>
                <a:gs pos="100000">
                  <a:srgbClr val="1007bd"/>
                </a:gs>
              </a:gsLst>
              <a:lin ang="510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 txBox="1"/>
            <p:nvPr/>
          </p:nvSpPr>
          <p:spPr>
            <a:xfrm>
              <a:off x="5940360" y="1989000"/>
              <a:ext cx="306360" cy="48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ccff">
                        <a:alpha val="80000"/>
                      </a:srgbClr>
                    </a:outerShdw>
                  </a:effectLst>
                  <a:latin typeface="Batavia"/>
                </a:rPr>
                <a:t>5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ccff">
                      <a:alpha val="80000"/>
                    </a:srgbClr>
                  </a:outerShdw>
                </a:effectLst>
                <a:latin typeface="Batavia"/>
                <a:ea typeface="Batavia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7596360" y="2924280"/>
            <a:ext cx="936360" cy="1584360"/>
          </a:xfrm>
          <a:prstGeom prst="rect">
            <a:avLst/>
          </a:prstGeom>
          <a:solidFill>
            <a:srgbClr val="ffef66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08000" y="5229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a calcular la distancia de fechas históricas desde a.C. hasta d.C. </a:t>
            </a:r>
            <a:r>
              <a:rPr b="1" lang="en-US" sz="1800" spc="-1" strike="noStrike">
                <a:solidFill>
                  <a:srgbClr val="cc00cc"/>
                </a:solidFill>
                <a:latin typeface="Comic Sans MS"/>
              </a:rPr>
              <a:t>debemos sumar 1 a la rest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ara hallar el año corr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329920" y="5997600"/>
            <a:ext cx="588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f672b"/>
                </a:solidFill>
                <a:latin typeface="Comic Sans MS"/>
              </a:rPr>
              <a:t>483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 -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af672b"/>
                </a:solidFill>
                <a:latin typeface="Comic Sans MS"/>
              </a:rPr>
              <a:t>457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= </a:t>
            </a:r>
            <a:r>
              <a:rPr b="1" lang="en-US" sz="3600" spc="-1" strike="noStrike">
                <a:solidFill>
                  <a:srgbClr val="cc00cc"/>
                </a:solidFill>
                <a:latin typeface="Comic Sans MS"/>
              </a:rPr>
              <a:t>26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1007bd"/>
                </a:solidFill>
                <a:latin typeface="Comic Sans MS"/>
              </a:rPr>
              <a:t>+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cc00cc"/>
                </a:solidFill>
                <a:latin typeface="Comic Sans MS"/>
              </a:rPr>
              <a:t>1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1007bd"/>
                </a:solidFill>
                <a:latin typeface="Comic Sans MS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27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d.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910920" y="1989000"/>
            <a:ext cx="1226160" cy="1559880"/>
            <a:chOff x="6910920" y="1989000"/>
            <a:chExt cx="1226160" cy="1559880"/>
          </a:xfrm>
        </p:grpSpPr>
        <p:sp>
          <p:nvSpPr>
            <p:cNvPr id="209" name=""/>
            <p:cNvSpPr/>
            <p:nvPr/>
          </p:nvSpPr>
          <p:spPr>
            <a:xfrm rot="291600">
              <a:off x="6948360" y="2565000"/>
              <a:ext cx="1150920" cy="93672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584" y="12081"/>
                  </a:moveTo>
                  <a:arcTo wR="-8315" hR="-8315" stAng="10268284" swAng="-11011522"/>
                  <a:lnTo>
                    <a:pt x="251" y="13117"/>
                  </a:lnTo>
                  <a:arcTo wR="10800" hR="10800" stAng="10056762" swAng="11011522"/>
                  <a:lnTo>
                    <a:pt x="24139" y="8720"/>
                  </a:lnTo>
                  <a:lnTo>
                    <a:pt x="20851" y="13223"/>
                  </a:lnTo>
                  <a:lnTo>
                    <a:pt x="16348" y="9935"/>
                  </a:lnTo>
                  <a:close/>
                </a:path>
              </a:pathLst>
            </a:custGeom>
            <a:gradFill rotWithShape="0">
              <a:gsLst>
                <a:gs pos="0">
                  <a:srgbClr val="1007bd"/>
                </a:gs>
                <a:gs pos="50000">
                  <a:srgbClr val="99ccff"/>
                </a:gs>
                <a:gs pos="100000">
                  <a:srgbClr val="1007bd"/>
                </a:gs>
              </a:gsLst>
              <a:lin ang="510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>
              <a:off x="7453440" y="1989000"/>
              <a:ext cx="287280" cy="48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ccff">
                        <a:alpha val="80000"/>
                      </a:srgbClr>
                    </a:outerShdw>
                  </a:effectLst>
                  <a:latin typeface="Batavia"/>
                </a:rPr>
                <a:t>6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ccff">
                      <a:alpha val="80000"/>
                    </a:srgbClr>
                  </a:outerShdw>
                </a:effectLst>
                <a:latin typeface="Batavia"/>
                <a:ea typeface="Batav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4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3T17:51:59Z</dcterms:created>
  <dc:creator>Sergio Fustero Carreras</dc:creator>
  <dc:description/>
  <dc:language>en-US</dc:language>
  <cp:lastModifiedBy>Sergio</cp:lastModifiedBy>
  <dcterms:modified xsi:type="dcterms:W3CDTF">2007-12-08T22:17:27Z</dcterms:modified>
  <cp:revision>17</cp:revision>
  <dc:subject/>
  <dc:title>EL AÑO CERO</dc:title>
</cp:coreProperties>
</file>